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18E-665D-4C89-B458-2184CC72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D66-FEF8-49D7-A613-117A6C26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512-1136-4EBD-8168-5BF9FB28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FB4-BCFC-447B-819C-D013C3C0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63DF-F497-4DB4-B0B3-AA83A7F4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75F0-EDD3-44C1-BD5E-698DCBD8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51AA-E957-4DCB-B528-9A9386DB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880E-0399-41EF-8E7B-07EF1C63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9599-0552-480A-83AD-D7094FB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FD8F-EF06-42CA-861A-48C6375C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5329-C8D7-4D3B-B320-D07F8801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441-7215-4E22-BF57-3C459ED4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1C48-3586-4C6B-99B1-A633EAB2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BCF8-C79A-4964-AE92-F41E648F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9CA5-9E96-44F5-910F-AD09F260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700B-35FC-41CC-A032-5CE1F7D1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5075-6E7E-416F-8D88-DC61543C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90E-9B81-4649-9B7A-537FF574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5B2-15EC-409E-AB3D-160A1B7D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5BA-7695-4762-8B88-C83097E6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981-C785-47D5-91AB-6F58265D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F21-3A31-495F-A945-7E1DE8DB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892-3EA4-41C9-A06B-602F178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864-EAC3-452B-9A79-96619951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800B-F0F7-4E69-B472-8940BAC821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3694-64F6-47D6-ADAD-E33243691F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Warm-up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y each 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76520" y="2362320"/>
                <a:ext cx="838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869400" y="3137040"/>
            <a:ext cx="71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00200" y="3429000"/>
                <a:ext cx="838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916200" y="42670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697040" y="4648320"/>
                <a:ext cx="950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660840" y="3500280"/>
            <a:ext cx="63360" cy="1455840"/>
          </a:xfrm>
          <a:custGeom>
            <a:avLst/>
            <a:gdLst/>
            <a:ahLst/>
            <a:rect l="l" t="t" r="r" b="b"/>
            <a:pathLst>
              <a:path w="175" h="4045">
                <a:moveTo>
                  <a:pt x="10170" y="9723"/>
                </a:moveTo>
                <a:cubicBezTo>
                  <a:pt x="10189" y="9856"/>
                  <a:pt x="10237" y="9997"/>
                  <a:pt x="10220" y="10145"/>
                </a:cubicBezTo>
                <a:cubicBezTo>
                  <a:pt x="10212" y="10162"/>
                  <a:pt x="10203" y="10178"/>
                  <a:pt x="10195" y="10195"/>
                </a:cubicBezTo>
              </a:path>
              <a:path w="175" h="4045">
                <a:moveTo>
                  <a:pt x="10319" y="13419"/>
                </a:moveTo>
                <a:cubicBezTo>
                  <a:pt x="10335" y="13558"/>
                  <a:pt x="10354" y="13638"/>
                  <a:pt x="10319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8080" y="2455920"/>
            <a:ext cx="270000" cy="615960"/>
          </a:xfrm>
          <a:custGeom>
            <a:avLst/>
            <a:gdLst/>
            <a:ahLst/>
            <a:rect l="l" t="t" r="r" b="b"/>
            <a:pathLst>
              <a:path w="746" h="1713">
                <a:moveTo>
                  <a:pt x="8855" y="6970"/>
                </a:moveTo>
                <a:cubicBezTo>
                  <a:pt x="8951" y="6946"/>
                  <a:pt x="9016" y="6844"/>
                  <a:pt x="9128" y="6821"/>
                </a:cubicBezTo>
                <a:cubicBezTo>
                  <a:pt x="9229" y="6821"/>
                  <a:pt x="9260" y="6801"/>
                  <a:pt x="9277" y="6871"/>
                </a:cubicBezTo>
                <a:cubicBezTo>
                  <a:pt x="9224" y="6992"/>
                  <a:pt x="9187" y="7035"/>
                  <a:pt x="9079" y="7119"/>
                </a:cubicBezTo>
                <a:cubicBezTo>
                  <a:pt x="9210" y="7136"/>
                  <a:pt x="9428" y="7209"/>
                  <a:pt x="9227" y="7367"/>
                </a:cubicBezTo>
                <a:cubicBezTo>
                  <a:pt x="9124" y="7448"/>
                  <a:pt x="8933" y="7436"/>
                  <a:pt x="8830" y="7392"/>
                </a:cubicBezTo>
              </a:path>
              <a:path w="746" h="1713">
                <a:moveTo>
                  <a:pt x="8905" y="7640"/>
                </a:moveTo>
                <a:cubicBezTo>
                  <a:pt x="9073" y="7627"/>
                  <a:pt x="9410" y="7546"/>
                  <a:pt x="9575" y="7615"/>
                </a:cubicBezTo>
                <a:cubicBezTo>
                  <a:pt x="9575" y="7623"/>
                  <a:pt x="9575" y="7632"/>
                  <a:pt x="9575" y="7640"/>
                </a:cubicBezTo>
              </a:path>
              <a:path w="746" h="1713">
                <a:moveTo>
                  <a:pt x="8930" y="7962"/>
                </a:moveTo>
                <a:cubicBezTo>
                  <a:pt x="8928" y="7978"/>
                  <a:pt x="8874" y="8193"/>
                  <a:pt x="8905" y="8210"/>
                </a:cubicBezTo>
                <a:cubicBezTo>
                  <a:pt x="9054" y="8292"/>
                  <a:pt x="9248" y="8179"/>
                  <a:pt x="9376" y="8111"/>
                </a:cubicBezTo>
              </a:path>
              <a:path w="746" h="1713">
                <a:moveTo>
                  <a:pt x="9327" y="7838"/>
                </a:moveTo>
                <a:cubicBezTo>
                  <a:pt x="9299" y="8006"/>
                  <a:pt x="9286" y="8186"/>
                  <a:pt x="9277" y="8359"/>
                </a:cubicBezTo>
                <a:cubicBezTo>
                  <a:pt x="9272" y="8452"/>
                  <a:pt x="9253" y="8484"/>
                  <a:pt x="9277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705120"/>
            <a:ext cx="258840" cy="331920"/>
          </a:xfrm>
          <a:custGeom>
            <a:avLst/>
            <a:gdLst/>
            <a:ahLst/>
            <a:rect l="l" t="t" r="r" b="b"/>
            <a:pathLst>
              <a:path w="720" h="919">
                <a:moveTo>
                  <a:pt x="9947" y="10393"/>
                </a:moveTo>
                <a:cubicBezTo>
                  <a:pt x="10159" y="10343"/>
                  <a:pt x="10419" y="10241"/>
                  <a:pt x="10641" y="10294"/>
                </a:cubicBezTo>
                <a:cubicBezTo>
                  <a:pt x="10649" y="10302"/>
                  <a:pt x="10658" y="10311"/>
                  <a:pt x="10666" y="10319"/>
                </a:cubicBezTo>
              </a:path>
              <a:path w="720" h="919">
                <a:moveTo>
                  <a:pt x="10071" y="10666"/>
                </a:moveTo>
                <a:cubicBezTo>
                  <a:pt x="10147" y="10620"/>
                  <a:pt x="10251" y="10623"/>
                  <a:pt x="10344" y="10616"/>
                </a:cubicBezTo>
                <a:cubicBezTo>
                  <a:pt x="10328" y="10779"/>
                  <a:pt x="10251" y="10796"/>
                  <a:pt x="10170" y="10914"/>
                </a:cubicBezTo>
                <a:cubicBezTo>
                  <a:pt x="10178" y="10914"/>
                  <a:pt x="10187" y="10914"/>
                  <a:pt x="10195" y="10914"/>
                </a:cubicBezTo>
                <a:cubicBezTo>
                  <a:pt x="10314" y="10901"/>
                  <a:pt x="10548" y="10926"/>
                  <a:pt x="10368" y="11112"/>
                </a:cubicBezTo>
                <a:cubicBezTo>
                  <a:pt x="10304" y="11178"/>
                  <a:pt x="10070" y="11263"/>
                  <a:pt x="10071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90840" y="2374920"/>
            <a:ext cx="876240" cy="2921040"/>
          </a:xfrm>
          <a:custGeom>
            <a:avLst/>
            <a:gdLst/>
            <a:ahLst/>
            <a:rect l="l" t="t" r="r" b="b"/>
            <a:pathLst>
              <a:path w="2431" h="8112">
                <a:moveTo>
                  <a:pt x="6921" y="7590"/>
                </a:moveTo>
                <a:cubicBezTo>
                  <a:pt x="7013" y="7566"/>
                  <a:pt x="7112" y="7565"/>
                  <a:pt x="7218" y="7565"/>
                </a:cubicBezTo>
                <a:cubicBezTo>
                  <a:pt x="7299" y="7565"/>
                  <a:pt x="7317" y="7584"/>
                  <a:pt x="7317" y="7565"/>
                </a:cubicBezTo>
              </a:path>
              <a:path w="2431" h="8112">
                <a:moveTo>
                  <a:pt x="7094" y="7243"/>
                </a:moveTo>
                <a:lnTo>
                  <a:pt x="7094" y="7243"/>
                </a:lnTo>
              </a:path>
              <a:path w="2431" h="8112">
                <a:moveTo>
                  <a:pt x="7069" y="7789"/>
                </a:moveTo>
                <a:lnTo>
                  <a:pt x="7069" y="7789"/>
                </a:lnTo>
              </a:path>
              <a:path w="2431" h="8112">
                <a:moveTo>
                  <a:pt x="7714" y="7020"/>
                </a:moveTo>
                <a:cubicBezTo>
                  <a:pt x="7656" y="6991"/>
                  <a:pt x="7814" y="6960"/>
                  <a:pt x="7863" y="6995"/>
                </a:cubicBezTo>
                <a:cubicBezTo>
                  <a:pt x="7947" y="7054"/>
                  <a:pt x="7824" y="7149"/>
                  <a:pt x="7789" y="7193"/>
                </a:cubicBezTo>
                <a:cubicBezTo>
                  <a:pt x="7875" y="7215"/>
                  <a:pt x="7960" y="7312"/>
                  <a:pt x="7838" y="7392"/>
                </a:cubicBezTo>
                <a:cubicBezTo>
                  <a:pt x="7771" y="7436"/>
                  <a:pt x="7717" y="7424"/>
                  <a:pt x="7665" y="7392"/>
                </a:cubicBezTo>
              </a:path>
              <a:path w="2431" h="8112">
                <a:moveTo>
                  <a:pt x="7516" y="7615"/>
                </a:moveTo>
                <a:cubicBezTo>
                  <a:pt x="7691" y="7606"/>
                  <a:pt x="7861" y="7590"/>
                  <a:pt x="8037" y="7590"/>
                </a:cubicBezTo>
              </a:path>
              <a:path w="2431" h="8112">
                <a:moveTo>
                  <a:pt x="7565" y="7938"/>
                </a:moveTo>
                <a:cubicBezTo>
                  <a:pt x="7621" y="7923"/>
                  <a:pt x="7878" y="7832"/>
                  <a:pt x="7813" y="8012"/>
                </a:cubicBezTo>
                <a:cubicBezTo>
                  <a:pt x="7791" y="8073"/>
                  <a:pt x="7752" y="8083"/>
                  <a:pt x="7739" y="8136"/>
                </a:cubicBezTo>
                <a:cubicBezTo>
                  <a:pt x="7853" y="8176"/>
                  <a:pt x="8034" y="8289"/>
                  <a:pt x="7813" y="8384"/>
                </a:cubicBezTo>
                <a:cubicBezTo>
                  <a:pt x="7692" y="8436"/>
                  <a:pt x="7656" y="8412"/>
                  <a:pt x="7590" y="8334"/>
                </a:cubicBezTo>
              </a:path>
              <a:path w="2431" h="8112">
                <a:moveTo>
                  <a:pt x="8310" y="7665"/>
                </a:moveTo>
                <a:cubicBezTo>
                  <a:pt x="8240" y="7665"/>
                  <a:pt x="8436" y="7620"/>
                  <a:pt x="8458" y="7640"/>
                </a:cubicBezTo>
                <a:cubicBezTo>
                  <a:pt x="8458" y="7656"/>
                  <a:pt x="8458" y="7673"/>
                  <a:pt x="8458" y="7689"/>
                </a:cubicBezTo>
              </a:path>
              <a:path w="2431" h="8112">
                <a:moveTo>
                  <a:pt x="8136" y="7938"/>
                </a:moveTo>
                <a:cubicBezTo>
                  <a:pt x="8226" y="7938"/>
                  <a:pt x="8297" y="7933"/>
                  <a:pt x="8384" y="7913"/>
                </a:cubicBezTo>
              </a:path>
              <a:path w="2431" h="8112">
                <a:moveTo>
                  <a:pt x="7193" y="10592"/>
                </a:moveTo>
                <a:cubicBezTo>
                  <a:pt x="7185" y="10600"/>
                  <a:pt x="7177" y="10608"/>
                  <a:pt x="7169" y="10616"/>
                </a:cubicBezTo>
                <a:cubicBezTo>
                  <a:pt x="7260" y="10616"/>
                  <a:pt x="7350" y="10616"/>
                  <a:pt x="7441" y="10616"/>
                </a:cubicBezTo>
              </a:path>
              <a:path w="2431" h="8112">
                <a:moveTo>
                  <a:pt x="7367" y="10344"/>
                </a:moveTo>
                <a:lnTo>
                  <a:pt x="7367" y="10344"/>
                </a:lnTo>
              </a:path>
              <a:path w="2431" h="8112">
                <a:moveTo>
                  <a:pt x="7293" y="10939"/>
                </a:moveTo>
                <a:cubicBezTo>
                  <a:pt x="7293" y="10931"/>
                  <a:pt x="7293" y="10922"/>
                  <a:pt x="7293" y="10914"/>
                </a:cubicBezTo>
              </a:path>
              <a:path w="2431" h="8112">
                <a:moveTo>
                  <a:pt x="8830" y="10542"/>
                </a:moveTo>
                <a:cubicBezTo>
                  <a:pt x="8915" y="10542"/>
                  <a:pt x="8995" y="10525"/>
                  <a:pt x="9079" y="10517"/>
                </a:cubicBezTo>
              </a:path>
              <a:path w="2431" h="8112">
                <a:moveTo>
                  <a:pt x="8905" y="10691"/>
                </a:moveTo>
                <a:cubicBezTo>
                  <a:pt x="8963" y="10683"/>
                  <a:pt x="9020" y="10672"/>
                  <a:pt x="9079" y="10666"/>
                </a:cubicBezTo>
              </a:path>
              <a:path w="2431" h="8112">
                <a:moveTo>
                  <a:pt x="7913" y="10220"/>
                </a:moveTo>
                <a:cubicBezTo>
                  <a:pt x="7997" y="10209"/>
                  <a:pt x="8079" y="10186"/>
                  <a:pt x="8161" y="10170"/>
                </a:cubicBezTo>
                <a:cubicBezTo>
                  <a:pt x="8169" y="10170"/>
                  <a:pt x="8178" y="10170"/>
                  <a:pt x="8186" y="10170"/>
                </a:cubicBezTo>
                <a:cubicBezTo>
                  <a:pt x="8186" y="10269"/>
                  <a:pt x="8127" y="10405"/>
                  <a:pt x="8086" y="10492"/>
                </a:cubicBezTo>
                <a:cubicBezTo>
                  <a:pt x="8070" y="10517"/>
                  <a:pt x="8053" y="10542"/>
                  <a:pt x="8037" y="10567"/>
                </a:cubicBezTo>
              </a:path>
              <a:path w="2431" h="8112">
                <a:moveTo>
                  <a:pt x="7813" y="10790"/>
                </a:moveTo>
                <a:cubicBezTo>
                  <a:pt x="7954" y="10772"/>
                  <a:pt x="8094" y="10754"/>
                  <a:pt x="8235" y="10740"/>
                </a:cubicBezTo>
                <a:cubicBezTo>
                  <a:pt x="8284" y="10735"/>
                  <a:pt x="8314" y="10756"/>
                  <a:pt x="8359" y="10765"/>
                </a:cubicBezTo>
              </a:path>
              <a:path w="2431" h="8112">
                <a:moveTo>
                  <a:pt x="7962" y="11013"/>
                </a:moveTo>
                <a:cubicBezTo>
                  <a:pt x="8067" y="11013"/>
                  <a:pt x="8157" y="11001"/>
                  <a:pt x="8260" y="10988"/>
                </a:cubicBezTo>
                <a:cubicBezTo>
                  <a:pt x="8250" y="11015"/>
                  <a:pt x="8077" y="11379"/>
                  <a:pt x="8086" y="11385"/>
                </a:cubicBezTo>
                <a:cubicBezTo>
                  <a:pt x="8119" y="11369"/>
                  <a:pt x="8153" y="11352"/>
                  <a:pt x="8186" y="11336"/>
                </a:cubicBezTo>
              </a:path>
              <a:path w="2431" h="8112">
                <a:moveTo>
                  <a:pt x="7714" y="13643"/>
                </a:moveTo>
                <a:cubicBezTo>
                  <a:pt x="7706" y="13668"/>
                  <a:pt x="7697" y="13692"/>
                  <a:pt x="7689" y="13717"/>
                </a:cubicBezTo>
              </a:path>
              <a:path w="2431" h="8112">
                <a:moveTo>
                  <a:pt x="7565" y="14188"/>
                </a:moveTo>
                <a:lnTo>
                  <a:pt x="7565" y="14188"/>
                </a:lnTo>
              </a:path>
              <a:path w="2431" h="8112">
                <a:moveTo>
                  <a:pt x="7565" y="14188"/>
                </a:moveTo>
                <a:lnTo>
                  <a:pt x="7565" y="14188"/>
                </a:lnTo>
              </a:path>
              <a:path w="2431" h="8112">
                <a:moveTo>
                  <a:pt x="8285" y="13965"/>
                </a:moveTo>
                <a:cubicBezTo>
                  <a:pt x="8438" y="13950"/>
                  <a:pt x="8539" y="13929"/>
                  <a:pt x="8682" y="13965"/>
                </a:cubicBezTo>
              </a:path>
              <a:path w="2431" h="8112">
                <a:moveTo>
                  <a:pt x="8210" y="14238"/>
                </a:moveTo>
                <a:cubicBezTo>
                  <a:pt x="8183" y="14395"/>
                  <a:pt x="8160" y="14552"/>
                  <a:pt x="8136" y="14709"/>
                </a:cubicBezTo>
              </a:path>
              <a:path w="2431" h="8112">
                <a:moveTo>
                  <a:pt x="9128" y="14064"/>
                </a:moveTo>
                <a:cubicBezTo>
                  <a:pt x="9206" y="14042"/>
                  <a:pt x="9275" y="14018"/>
                  <a:pt x="9351" y="13990"/>
                </a:cubicBezTo>
              </a:path>
              <a:path w="2431" h="8112">
                <a:moveTo>
                  <a:pt x="7516" y="10120"/>
                </a:moveTo>
                <a:cubicBezTo>
                  <a:pt x="7567" y="10314"/>
                  <a:pt x="7630" y="10516"/>
                  <a:pt x="7665" y="10716"/>
                </a:cubicBezTo>
                <a:cubicBezTo>
                  <a:pt x="7709" y="10965"/>
                  <a:pt x="7758" y="11207"/>
                  <a:pt x="7764" y="11460"/>
                </a:cubicBezTo>
                <a:cubicBezTo>
                  <a:pt x="7764" y="11518"/>
                  <a:pt x="7764" y="11526"/>
                  <a:pt x="7764" y="11559"/>
                </a:cubicBezTo>
                <a:cubicBezTo>
                  <a:pt x="7906" y="11551"/>
                  <a:pt x="8043" y="11525"/>
                  <a:pt x="8186" y="11534"/>
                </a:cubicBezTo>
                <a:cubicBezTo>
                  <a:pt x="8378" y="11546"/>
                  <a:pt x="8544" y="11539"/>
                  <a:pt x="8731" y="11509"/>
                </a:cubicBezTo>
                <a:cubicBezTo>
                  <a:pt x="8739" y="11509"/>
                  <a:pt x="8748" y="11509"/>
                  <a:pt x="8756" y="11509"/>
                </a:cubicBezTo>
                <a:cubicBezTo>
                  <a:pt x="8650" y="11307"/>
                  <a:pt x="8607" y="11104"/>
                  <a:pt x="8533" y="10889"/>
                </a:cubicBezTo>
                <a:cubicBezTo>
                  <a:pt x="8465" y="10691"/>
                  <a:pt x="8377" y="10473"/>
                  <a:pt x="8334" y="10269"/>
                </a:cubicBezTo>
                <a:cubicBezTo>
                  <a:pt x="8319" y="10196"/>
                  <a:pt x="8326" y="10088"/>
                  <a:pt x="8285" y="10021"/>
                </a:cubicBezTo>
                <a:cubicBezTo>
                  <a:pt x="8250" y="9964"/>
                  <a:pt x="8194" y="9899"/>
                  <a:pt x="8161" y="9847"/>
                </a:cubicBezTo>
                <a:cubicBezTo>
                  <a:pt x="8077" y="9875"/>
                  <a:pt x="7993" y="9936"/>
                  <a:pt x="7913" y="9996"/>
                </a:cubicBezTo>
                <a:cubicBezTo>
                  <a:pt x="7816" y="10069"/>
                  <a:pt x="7682" y="10146"/>
                  <a:pt x="7615" y="10244"/>
                </a:cubicBezTo>
                <a:cubicBezTo>
                  <a:pt x="7567" y="10313"/>
                  <a:pt x="7504" y="10406"/>
                  <a:pt x="7491" y="10492"/>
                </a:cubicBezTo>
                <a:cubicBezTo>
                  <a:pt x="7476" y="10586"/>
                  <a:pt x="7488" y="10552"/>
                  <a:pt x="7466" y="10616"/>
                </a:cubicBezTo>
                <a:cubicBezTo>
                  <a:pt x="7545" y="10563"/>
                  <a:pt x="7622" y="10456"/>
                  <a:pt x="7714" y="10418"/>
                </a:cubicBezTo>
                <a:cubicBezTo>
                  <a:pt x="7714" y="10426"/>
                  <a:pt x="7714" y="10435"/>
                  <a:pt x="7714" y="10443"/>
                </a:cubicBezTo>
              </a:path>
              <a:path w="2431" h="8112">
                <a:moveTo>
                  <a:pt x="7293" y="6970"/>
                </a:moveTo>
                <a:cubicBezTo>
                  <a:pt x="7300" y="7154"/>
                  <a:pt x="7334" y="7332"/>
                  <a:pt x="7342" y="7516"/>
                </a:cubicBezTo>
                <a:cubicBezTo>
                  <a:pt x="7354" y="7781"/>
                  <a:pt x="7367" y="8045"/>
                  <a:pt x="7367" y="8310"/>
                </a:cubicBezTo>
                <a:cubicBezTo>
                  <a:pt x="7367" y="8368"/>
                  <a:pt x="7367" y="8425"/>
                  <a:pt x="7367" y="8483"/>
                </a:cubicBezTo>
                <a:cubicBezTo>
                  <a:pt x="7485" y="8496"/>
                  <a:pt x="7592" y="8508"/>
                  <a:pt x="7714" y="8508"/>
                </a:cubicBezTo>
                <a:cubicBezTo>
                  <a:pt x="7844" y="8508"/>
                  <a:pt x="7961" y="8500"/>
                  <a:pt x="8086" y="8483"/>
                </a:cubicBezTo>
                <a:cubicBezTo>
                  <a:pt x="8149" y="8474"/>
                  <a:pt x="8221" y="8483"/>
                  <a:pt x="8285" y="8483"/>
                </a:cubicBezTo>
                <a:cubicBezTo>
                  <a:pt x="8297" y="8366"/>
                  <a:pt x="8288" y="8280"/>
                  <a:pt x="8285" y="8161"/>
                </a:cubicBezTo>
                <a:cubicBezTo>
                  <a:pt x="8280" y="7918"/>
                  <a:pt x="8317" y="7653"/>
                  <a:pt x="8260" y="7417"/>
                </a:cubicBezTo>
                <a:cubicBezTo>
                  <a:pt x="8223" y="7266"/>
                  <a:pt x="8145" y="7117"/>
                  <a:pt x="8111" y="6970"/>
                </a:cubicBezTo>
                <a:cubicBezTo>
                  <a:pt x="8097" y="6907"/>
                  <a:pt x="8103" y="6835"/>
                  <a:pt x="8086" y="6772"/>
                </a:cubicBezTo>
                <a:cubicBezTo>
                  <a:pt x="8070" y="6715"/>
                  <a:pt x="8030" y="6681"/>
                  <a:pt x="8012" y="6623"/>
                </a:cubicBezTo>
                <a:cubicBezTo>
                  <a:pt x="8012" y="6615"/>
                  <a:pt x="8012" y="6606"/>
                  <a:pt x="8012" y="6598"/>
                </a:cubicBezTo>
                <a:cubicBezTo>
                  <a:pt x="7868" y="6691"/>
                  <a:pt x="7711" y="6787"/>
                  <a:pt x="7541" y="6821"/>
                </a:cubicBezTo>
                <a:cubicBezTo>
                  <a:pt x="7491" y="6831"/>
                  <a:pt x="7478" y="6825"/>
                  <a:pt x="7441" y="6871"/>
                </a:cubicBezTo>
                <a:cubicBezTo>
                  <a:pt x="7415" y="6903"/>
                  <a:pt x="7391" y="6934"/>
                  <a:pt x="7367" y="6970"/>
                </a:cubicBezTo>
                <a:cubicBezTo>
                  <a:pt x="7332" y="7023"/>
                  <a:pt x="7275" y="7114"/>
                  <a:pt x="7268" y="7144"/>
                </a:cubicBezTo>
                <a:cubicBezTo>
                  <a:pt x="7257" y="7191"/>
                  <a:pt x="7261" y="7184"/>
                  <a:pt x="7243" y="7218"/>
                </a:cubicBezTo>
                <a:cubicBezTo>
                  <a:pt x="7223" y="7256"/>
                  <a:pt x="7199" y="7304"/>
                  <a:pt x="7193" y="7342"/>
                </a:cubicBezTo>
                <a:cubicBezTo>
                  <a:pt x="7179" y="7425"/>
                  <a:pt x="7193" y="7404"/>
                  <a:pt x="7218" y="7392"/>
                </a:cubicBezTo>
                <a:cubicBezTo>
                  <a:pt x="7252" y="7376"/>
                  <a:pt x="7288" y="7357"/>
                  <a:pt x="7317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87760" y="4687920"/>
            <a:ext cx="662040" cy="777960"/>
          </a:xfrm>
          <a:custGeom>
            <a:avLst/>
            <a:gdLst/>
            <a:ahLst/>
            <a:rect l="l" t="t" r="r" b="b"/>
            <a:pathLst>
              <a:path w="1837" h="2159">
                <a:moveTo>
                  <a:pt x="7491" y="13891"/>
                </a:moveTo>
                <a:cubicBezTo>
                  <a:pt x="7421" y="13856"/>
                  <a:pt x="7620" y="13890"/>
                  <a:pt x="7640" y="13891"/>
                </a:cubicBezTo>
                <a:cubicBezTo>
                  <a:pt x="7681" y="13891"/>
                  <a:pt x="7689" y="13891"/>
                  <a:pt x="7714" y="13891"/>
                </a:cubicBezTo>
              </a:path>
              <a:path w="1837" h="2159">
                <a:moveTo>
                  <a:pt x="8210" y="13419"/>
                </a:moveTo>
                <a:cubicBezTo>
                  <a:pt x="8241" y="13544"/>
                  <a:pt x="8226" y="13639"/>
                  <a:pt x="8210" y="13767"/>
                </a:cubicBezTo>
              </a:path>
              <a:path w="1837" h="2159">
                <a:moveTo>
                  <a:pt x="8384" y="13395"/>
                </a:moveTo>
                <a:cubicBezTo>
                  <a:pt x="8482" y="13370"/>
                  <a:pt x="8514" y="13362"/>
                  <a:pt x="8582" y="13370"/>
                </a:cubicBezTo>
                <a:cubicBezTo>
                  <a:pt x="8641" y="13508"/>
                  <a:pt x="8549" y="13605"/>
                  <a:pt x="8458" y="13717"/>
                </a:cubicBezTo>
                <a:cubicBezTo>
                  <a:pt x="8442" y="13734"/>
                  <a:pt x="8425" y="13750"/>
                  <a:pt x="8409" y="13767"/>
                </a:cubicBezTo>
                <a:cubicBezTo>
                  <a:pt x="8490" y="13806"/>
                  <a:pt x="8569" y="13793"/>
                  <a:pt x="8657" y="13767"/>
                </a:cubicBezTo>
              </a:path>
              <a:path w="1837" h="2159">
                <a:moveTo>
                  <a:pt x="8483" y="14139"/>
                </a:moveTo>
                <a:cubicBezTo>
                  <a:pt x="8559" y="14139"/>
                  <a:pt x="8614" y="14145"/>
                  <a:pt x="8682" y="14163"/>
                </a:cubicBezTo>
                <a:cubicBezTo>
                  <a:pt x="8647" y="14290"/>
                  <a:pt x="8588" y="14380"/>
                  <a:pt x="8483" y="14461"/>
                </a:cubicBezTo>
                <a:cubicBezTo>
                  <a:pt x="8578" y="14509"/>
                  <a:pt x="8630" y="14450"/>
                  <a:pt x="8731" y="14436"/>
                </a:cubicBezTo>
                <a:cubicBezTo>
                  <a:pt x="8771" y="14436"/>
                  <a:pt x="8790" y="14425"/>
                  <a:pt x="8806" y="14387"/>
                </a:cubicBezTo>
              </a:path>
              <a:path w="1837" h="2159">
                <a:moveTo>
                  <a:pt x="9103" y="13891"/>
                </a:moveTo>
                <a:cubicBezTo>
                  <a:pt x="9169" y="13891"/>
                  <a:pt x="9236" y="13891"/>
                  <a:pt x="9302" y="13891"/>
                </a:cubicBezTo>
              </a:path>
              <a:path w="1837" h="2159">
                <a:moveTo>
                  <a:pt x="7838" y="13196"/>
                </a:moveTo>
                <a:cubicBezTo>
                  <a:pt x="7884" y="13269"/>
                  <a:pt x="7934" y="13435"/>
                  <a:pt x="7962" y="13543"/>
                </a:cubicBezTo>
                <a:cubicBezTo>
                  <a:pt x="8058" y="13910"/>
                  <a:pt x="8127" y="14286"/>
                  <a:pt x="8186" y="14660"/>
                </a:cubicBezTo>
                <a:cubicBezTo>
                  <a:pt x="8206" y="14788"/>
                  <a:pt x="8210" y="14904"/>
                  <a:pt x="8210" y="15032"/>
                </a:cubicBezTo>
                <a:cubicBezTo>
                  <a:pt x="8210" y="15101"/>
                  <a:pt x="8199" y="15127"/>
                  <a:pt x="8186" y="15180"/>
                </a:cubicBezTo>
                <a:cubicBezTo>
                  <a:pt x="8289" y="15135"/>
                  <a:pt x="8364" y="15109"/>
                  <a:pt x="8483" y="15106"/>
                </a:cubicBezTo>
                <a:cubicBezTo>
                  <a:pt x="8588" y="15103"/>
                  <a:pt x="8682" y="15087"/>
                  <a:pt x="8781" y="15081"/>
                </a:cubicBezTo>
                <a:cubicBezTo>
                  <a:pt x="8823" y="15079"/>
                  <a:pt x="8844" y="15070"/>
                  <a:pt x="8880" y="15056"/>
                </a:cubicBezTo>
                <a:cubicBezTo>
                  <a:pt x="8871" y="14954"/>
                  <a:pt x="8851" y="14861"/>
                  <a:pt x="8830" y="14759"/>
                </a:cubicBezTo>
                <a:cubicBezTo>
                  <a:pt x="8798" y="14599"/>
                  <a:pt x="8824" y="14448"/>
                  <a:pt x="8806" y="14288"/>
                </a:cubicBezTo>
                <a:cubicBezTo>
                  <a:pt x="8792" y="14167"/>
                  <a:pt x="8775" y="14035"/>
                  <a:pt x="8756" y="13915"/>
                </a:cubicBezTo>
                <a:cubicBezTo>
                  <a:pt x="8734" y="13777"/>
                  <a:pt x="8706" y="13660"/>
                  <a:pt x="8706" y="13519"/>
                </a:cubicBezTo>
                <a:cubicBezTo>
                  <a:pt x="8706" y="13397"/>
                  <a:pt x="8691" y="13263"/>
                  <a:pt x="8657" y="13146"/>
                </a:cubicBezTo>
                <a:cubicBezTo>
                  <a:pt x="8635" y="13071"/>
                  <a:pt x="8630" y="13062"/>
                  <a:pt x="8607" y="13022"/>
                </a:cubicBezTo>
                <a:cubicBezTo>
                  <a:pt x="8510" y="13022"/>
                  <a:pt x="8431" y="13047"/>
                  <a:pt x="8359" y="13122"/>
                </a:cubicBezTo>
                <a:cubicBezTo>
                  <a:pt x="8207" y="13279"/>
                  <a:pt x="8086" y="13466"/>
                  <a:pt x="7962" y="13643"/>
                </a:cubicBezTo>
                <a:cubicBezTo>
                  <a:pt x="7921" y="13701"/>
                  <a:pt x="7783" y="13857"/>
                  <a:pt x="7789" y="13940"/>
                </a:cubicBezTo>
                <a:cubicBezTo>
                  <a:pt x="7795" y="14024"/>
                  <a:pt x="7952" y="13914"/>
                  <a:pt x="7987" y="13891"/>
                </a:cubicBezTo>
                <a:cubicBezTo>
                  <a:pt x="7995" y="13883"/>
                  <a:pt x="8004" y="13874"/>
                  <a:pt x="8012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983120"/>
            <a:ext cx="268560" cy="276120"/>
          </a:xfrm>
          <a:custGeom>
            <a:avLst/>
            <a:gdLst/>
            <a:ahLst/>
            <a:rect l="l" t="t" r="r" b="b"/>
            <a:pathLst>
              <a:path w="745" h="770">
                <a:moveTo>
                  <a:pt x="9947" y="14015"/>
                </a:moveTo>
                <a:cubicBezTo>
                  <a:pt x="10184" y="13951"/>
                  <a:pt x="10424" y="13884"/>
                  <a:pt x="10666" y="13841"/>
                </a:cubicBezTo>
                <a:cubicBezTo>
                  <a:pt x="10674" y="13841"/>
                  <a:pt x="10683" y="13841"/>
                  <a:pt x="10691" y="13841"/>
                </a:cubicBezTo>
              </a:path>
              <a:path w="745" h="770">
                <a:moveTo>
                  <a:pt x="10046" y="14114"/>
                </a:moveTo>
                <a:cubicBezTo>
                  <a:pt x="10054" y="14155"/>
                  <a:pt x="10056" y="14294"/>
                  <a:pt x="10071" y="14312"/>
                </a:cubicBezTo>
                <a:cubicBezTo>
                  <a:pt x="10162" y="14423"/>
                  <a:pt x="10377" y="14240"/>
                  <a:pt x="10443" y="14188"/>
                </a:cubicBezTo>
              </a:path>
              <a:path w="745" h="770">
                <a:moveTo>
                  <a:pt x="10418" y="14039"/>
                </a:moveTo>
                <a:cubicBezTo>
                  <a:pt x="10369" y="14226"/>
                  <a:pt x="10368" y="14388"/>
                  <a:pt x="10368" y="14585"/>
                </a:cubicBezTo>
                <a:cubicBezTo>
                  <a:pt x="10368" y="14593"/>
                  <a:pt x="10368" y="14602"/>
                  <a:pt x="10368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 Practice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s – Students will write and compare rati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52760" y="4464000"/>
            <a:ext cx="1143000" cy="127080"/>
          </a:xfrm>
          <a:custGeom>
            <a:avLst/>
            <a:gdLst/>
            <a:ahLst/>
            <a:rect l="l" t="t" r="r" b="b"/>
            <a:pathLst>
              <a:path w="3176" h="349">
                <a:moveTo>
                  <a:pt x="4589" y="12477"/>
                </a:moveTo>
                <a:cubicBezTo>
                  <a:pt x="4618" y="12523"/>
                  <a:pt x="4653" y="12594"/>
                  <a:pt x="4713" y="12650"/>
                </a:cubicBezTo>
                <a:cubicBezTo>
                  <a:pt x="4853" y="12780"/>
                  <a:pt x="5117" y="12796"/>
                  <a:pt x="5283" y="12700"/>
                </a:cubicBezTo>
                <a:cubicBezTo>
                  <a:pt x="5363" y="12621"/>
                  <a:pt x="5384" y="12614"/>
                  <a:pt x="5407" y="12551"/>
                </a:cubicBezTo>
                <a:cubicBezTo>
                  <a:pt x="5453" y="12634"/>
                  <a:pt x="5479" y="12713"/>
                  <a:pt x="5606" y="12725"/>
                </a:cubicBezTo>
                <a:cubicBezTo>
                  <a:pt x="5796" y="12743"/>
                  <a:pt x="5998" y="12518"/>
                  <a:pt x="6152" y="12526"/>
                </a:cubicBezTo>
                <a:cubicBezTo>
                  <a:pt x="6363" y="12537"/>
                  <a:pt x="6486" y="12724"/>
                  <a:pt x="6796" y="12626"/>
                </a:cubicBezTo>
                <a:cubicBezTo>
                  <a:pt x="6978" y="12568"/>
                  <a:pt x="6992" y="12507"/>
                  <a:pt x="7119" y="12402"/>
                </a:cubicBezTo>
                <a:cubicBezTo>
                  <a:pt x="7119" y="12410"/>
                  <a:pt x="7100" y="12580"/>
                  <a:pt x="7293" y="12576"/>
                </a:cubicBezTo>
                <a:cubicBezTo>
                  <a:pt x="7441" y="12573"/>
                  <a:pt x="7612" y="12451"/>
                  <a:pt x="7714" y="12427"/>
                </a:cubicBezTo>
                <a:cubicBezTo>
                  <a:pt x="7742" y="12427"/>
                  <a:pt x="7753" y="12425"/>
                  <a:pt x="7764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Students will write and compare ratios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arison of two numb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ratios that have the same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6759720" y="2303640"/>
            <a:ext cx="1652400" cy="331560"/>
          </a:xfrm>
          <a:custGeom>
            <a:avLst/>
            <a:gdLst/>
            <a:ahLst/>
            <a:rect l="l" t="t" r="r" b="b"/>
            <a:pathLst>
              <a:path w="4590" h="918">
                <a:moveTo>
                  <a:pt x="18802" y="6995"/>
                </a:moveTo>
                <a:lnTo>
                  <a:pt x="18802" y="6995"/>
                </a:lnTo>
              </a:path>
              <a:path w="4590" h="918">
                <a:moveTo>
                  <a:pt x="18777" y="7317"/>
                </a:moveTo>
                <a:cubicBezTo>
                  <a:pt x="18810" y="7309"/>
                  <a:pt x="18843" y="7301"/>
                  <a:pt x="18876" y="7293"/>
                </a:cubicBezTo>
              </a:path>
              <a:path w="4590" h="918">
                <a:moveTo>
                  <a:pt x="18876" y="7293"/>
                </a:moveTo>
                <a:lnTo>
                  <a:pt x="18876" y="7293"/>
                </a:lnTo>
              </a:path>
              <a:path w="4590" h="918">
                <a:moveTo>
                  <a:pt x="20489" y="7268"/>
                </a:moveTo>
                <a:lnTo>
                  <a:pt x="20489" y="7268"/>
                </a:lnTo>
              </a:path>
              <a:path w="4590" h="918">
                <a:moveTo>
                  <a:pt x="20489" y="7268"/>
                </a:moveTo>
                <a:lnTo>
                  <a:pt x="20489" y="7268"/>
                </a:lnTo>
              </a:path>
              <a:path w="4590" h="918">
                <a:moveTo>
                  <a:pt x="23366" y="6400"/>
                </a:moveTo>
                <a:lnTo>
                  <a:pt x="23366" y="6400"/>
                </a:lnTo>
                <a:lnTo>
                  <a:pt x="23366" y="6400"/>
                </a:lnTo>
              </a:path>
              <a:path w="4590" h="918">
                <a:moveTo>
                  <a:pt x="23366" y="6400"/>
                </a:moveTo>
                <a:lnTo>
                  <a:pt x="23366" y="640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3040" y="2446200"/>
            <a:ext cx="285840" cy="295560"/>
          </a:xfrm>
          <a:custGeom>
            <a:avLst/>
            <a:gdLst/>
            <a:ahLst/>
            <a:rect l="l" t="t" r="r" b="b"/>
            <a:pathLst>
              <a:path w="794" h="820">
                <a:moveTo>
                  <a:pt x="17884" y="6796"/>
                </a:moveTo>
                <a:cubicBezTo>
                  <a:pt x="17923" y="6854"/>
                  <a:pt x="17747" y="6841"/>
                  <a:pt x="17686" y="6896"/>
                </a:cubicBezTo>
                <a:cubicBezTo>
                  <a:pt x="17564" y="7005"/>
                  <a:pt x="17478" y="7217"/>
                  <a:pt x="17711" y="7169"/>
                </a:cubicBezTo>
                <a:cubicBezTo>
                  <a:pt x="17736" y="7161"/>
                  <a:pt x="17760" y="7152"/>
                  <a:pt x="17785" y="7144"/>
                </a:cubicBezTo>
                <a:cubicBezTo>
                  <a:pt x="17686" y="7288"/>
                  <a:pt x="17638" y="7370"/>
                  <a:pt x="17611" y="7541"/>
                </a:cubicBezTo>
                <a:cubicBezTo>
                  <a:pt x="17792" y="7655"/>
                  <a:pt x="17858" y="7571"/>
                  <a:pt x="18033" y="7466"/>
                </a:cubicBezTo>
              </a:path>
              <a:path w="794" h="820">
                <a:moveTo>
                  <a:pt x="18107" y="7069"/>
                </a:moveTo>
                <a:cubicBezTo>
                  <a:pt x="18163" y="7159"/>
                  <a:pt x="18254" y="7341"/>
                  <a:pt x="18355" y="7392"/>
                </a:cubicBezTo>
                <a:cubicBezTo>
                  <a:pt x="18355" y="7384"/>
                  <a:pt x="18355" y="7375"/>
                  <a:pt x="18355" y="7367"/>
                </a:cubicBezTo>
              </a:path>
              <a:path w="794" h="820">
                <a:moveTo>
                  <a:pt x="18355" y="6970"/>
                </a:moveTo>
                <a:cubicBezTo>
                  <a:pt x="18240" y="7086"/>
                  <a:pt x="18145" y="7322"/>
                  <a:pt x="18083" y="7491"/>
                </a:cubicBezTo>
                <a:cubicBezTo>
                  <a:pt x="18071" y="7523"/>
                  <a:pt x="18015" y="7679"/>
                  <a:pt x="18083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66000" y="2374920"/>
            <a:ext cx="642960" cy="339840"/>
          </a:xfrm>
          <a:custGeom>
            <a:avLst/>
            <a:gdLst/>
            <a:ahLst/>
            <a:rect l="l" t="t" r="r" b="b"/>
            <a:pathLst>
              <a:path w="1787" h="944">
                <a:moveTo>
                  <a:pt x="19348" y="6598"/>
                </a:moveTo>
                <a:cubicBezTo>
                  <a:pt x="19465" y="6801"/>
                  <a:pt x="19582" y="6985"/>
                  <a:pt x="19621" y="7218"/>
                </a:cubicBezTo>
                <a:cubicBezTo>
                  <a:pt x="19621" y="7111"/>
                  <a:pt x="19588" y="6984"/>
                  <a:pt x="19670" y="6896"/>
                </a:cubicBezTo>
                <a:cubicBezTo>
                  <a:pt x="19790" y="6767"/>
                  <a:pt x="20066" y="6836"/>
                  <a:pt x="20017" y="7045"/>
                </a:cubicBezTo>
                <a:cubicBezTo>
                  <a:pt x="19975" y="7221"/>
                  <a:pt x="19739" y="7264"/>
                  <a:pt x="19596" y="7218"/>
                </a:cubicBezTo>
                <a:cubicBezTo>
                  <a:pt x="19579" y="7202"/>
                  <a:pt x="19563" y="7185"/>
                  <a:pt x="19546" y="7169"/>
                </a:cubicBezTo>
              </a:path>
              <a:path w="1787" h="944">
                <a:moveTo>
                  <a:pt x="20216" y="6821"/>
                </a:moveTo>
                <a:cubicBezTo>
                  <a:pt x="20085" y="6887"/>
                  <a:pt x="20060" y="6985"/>
                  <a:pt x="20017" y="7119"/>
                </a:cubicBezTo>
                <a:cubicBezTo>
                  <a:pt x="20114" y="7174"/>
                  <a:pt x="20267" y="7172"/>
                  <a:pt x="20290" y="7020"/>
                </a:cubicBezTo>
                <a:cubicBezTo>
                  <a:pt x="20307" y="6906"/>
                  <a:pt x="20225" y="6886"/>
                  <a:pt x="20166" y="6896"/>
                </a:cubicBezTo>
              </a:path>
              <a:path w="1787" h="944">
                <a:moveTo>
                  <a:pt x="20340" y="6821"/>
                </a:moveTo>
                <a:cubicBezTo>
                  <a:pt x="20394" y="6903"/>
                  <a:pt x="20405" y="7001"/>
                  <a:pt x="20439" y="7094"/>
                </a:cubicBezTo>
                <a:cubicBezTo>
                  <a:pt x="20637" y="7064"/>
                  <a:pt x="20632" y="7006"/>
                  <a:pt x="20662" y="6821"/>
                </a:cubicBezTo>
                <a:cubicBezTo>
                  <a:pt x="20662" y="6829"/>
                  <a:pt x="20662" y="6838"/>
                  <a:pt x="20662" y="6846"/>
                </a:cubicBezTo>
                <a:cubicBezTo>
                  <a:pt x="20700" y="7019"/>
                  <a:pt x="20830" y="7330"/>
                  <a:pt x="20687" y="7491"/>
                </a:cubicBezTo>
                <a:cubicBezTo>
                  <a:pt x="20560" y="7635"/>
                  <a:pt x="20475" y="7496"/>
                  <a:pt x="20414" y="7417"/>
                </a:cubicBezTo>
              </a:path>
              <a:path w="1787" h="944">
                <a:moveTo>
                  <a:pt x="21084" y="6747"/>
                </a:moveTo>
                <a:cubicBezTo>
                  <a:pt x="21010" y="6784"/>
                  <a:pt x="20971" y="6811"/>
                  <a:pt x="20910" y="6871"/>
                </a:cubicBezTo>
                <a:cubicBezTo>
                  <a:pt x="20991" y="6898"/>
                  <a:pt x="21124" y="6942"/>
                  <a:pt x="21134" y="7045"/>
                </a:cubicBezTo>
                <a:cubicBezTo>
                  <a:pt x="21146" y="7171"/>
                  <a:pt x="20889" y="7097"/>
                  <a:pt x="20861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69160" y="2295360"/>
            <a:ext cx="295200" cy="231840"/>
          </a:xfrm>
          <a:custGeom>
            <a:avLst/>
            <a:gdLst/>
            <a:ahLst/>
            <a:rect l="l" t="t" r="r" b="b"/>
            <a:pathLst>
              <a:path w="820" h="646">
                <a:moveTo>
                  <a:pt x="21828" y="6375"/>
                </a:moveTo>
                <a:cubicBezTo>
                  <a:pt x="21851" y="6558"/>
                  <a:pt x="21907" y="6736"/>
                  <a:pt x="21927" y="6921"/>
                </a:cubicBezTo>
                <a:cubicBezTo>
                  <a:pt x="21927" y="6979"/>
                  <a:pt x="21927" y="6987"/>
                  <a:pt x="21927" y="7020"/>
                </a:cubicBezTo>
              </a:path>
              <a:path w="820" h="646">
                <a:moveTo>
                  <a:pt x="21580" y="6772"/>
                </a:moveTo>
                <a:cubicBezTo>
                  <a:pt x="21772" y="6705"/>
                  <a:pt x="21973" y="6633"/>
                  <a:pt x="22175" y="6598"/>
                </a:cubicBezTo>
                <a:cubicBezTo>
                  <a:pt x="22192" y="6598"/>
                  <a:pt x="22208" y="6598"/>
                  <a:pt x="22225" y="6598"/>
                </a:cubicBezTo>
                <a:cubicBezTo>
                  <a:pt x="22204" y="6726"/>
                  <a:pt x="22163" y="6839"/>
                  <a:pt x="22151" y="6970"/>
                </a:cubicBezTo>
                <a:cubicBezTo>
                  <a:pt x="22307" y="6950"/>
                  <a:pt x="22428" y="6909"/>
                  <a:pt x="22399" y="6722"/>
                </a:cubicBezTo>
                <a:cubicBezTo>
                  <a:pt x="22377" y="6583"/>
                  <a:pt x="22278" y="6606"/>
                  <a:pt x="22175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15200" y="2205000"/>
            <a:ext cx="669960" cy="474840"/>
          </a:xfrm>
          <a:custGeom>
            <a:avLst/>
            <a:gdLst/>
            <a:ahLst/>
            <a:rect l="l" t="t" r="r" b="b"/>
            <a:pathLst>
              <a:path w="1862" h="1315">
                <a:moveTo>
                  <a:pt x="23192" y="6598"/>
                </a:moveTo>
                <a:cubicBezTo>
                  <a:pt x="23052" y="6527"/>
                  <a:pt x="22918" y="6676"/>
                  <a:pt x="22845" y="6796"/>
                </a:cubicBezTo>
                <a:cubicBezTo>
                  <a:pt x="22708" y="7021"/>
                  <a:pt x="23020" y="6905"/>
                  <a:pt x="23093" y="6846"/>
                </a:cubicBezTo>
                <a:cubicBezTo>
                  <a:pt x="23126" y="6813"/>
                  <a:pt x="23159" y="6780"/>
                  <a:pt x="23192" y="6747"/>
                </a:cubicBezTo>
                <a:cubicBezTo>
                  <a:pt x="23276" y="6893"/>
                  <a:pt x="23300" y="7048"/>
                  <a:pt x="23267" y="7218"/>
                </a:cubicBezTo>
                <a:cubicBezTo>
                  <a:pt x="23231" y="7406"/>
                  <a:pt x="23062" y="7523"/>
                  <a:pt x="22895" y="7392"/>
                </a:cubicBezTo>
                <a:cubicBezTo>
                  <a:pt x="22895" y="7349"/>
                  <a:pt x="22901" y="7324"/>
                  <a:pt x="22920" y="7293"/>
                </a:cubicBezTo>
              </a:path>
              <a:path w="1862" h="1315">
                <a:moveTo>
                  <a:pt x="23440" y="6648"/>
                </a:moveTo>
                <a:cubicBezTo>
                  <a:pt x="23462" y="6701"/>
                  <a:pt x="23490" y="6934"/>
                  <a:pt x="23490" y="6821"/>
                </a:cubicBezTo>
              </a:path>
              <a:path w="1862" h="1315">
                <a:moveTo>
                  <a:pt x="23713" y="6697"/>
                </a:moveTo>
                <a:cubicBezTo>
                  <a:pt x="23752" y="6774"/>
                  <a:pt x="23751" y="6789"/>
                  <a:pt x="23788" y="6821"/>
                </a:cubicBezTo>
                <a:cubicBezTo>
                  <a:pt x="23856" y="6728"/>
                  <a:pt x="23765" y="6596"/>
                  <a:pt x="23862" y="6499"/>
                </a:cubicBezTo>
                <a:cubicBezTo>
                  <a:pt x="23887" y="6499"/>
                  <a:pt x="23912" y="6499"/>
                  <a:pt x="23937" y="6499"/>
                </a:cubicBezTo>
              </a:path>
              <a:path w="1862" h="1315">
                <a:moveTo>
                  <a:pt x="24135" y="6127"/>
                </a:moveTo>
                <a:cubicBezTo>
                  <a:pt x="24171" y="6289"/>
                  <a:pt x="24152" y="6427"/>
                  <a:pt x="24160" y="6598"/>
                </a:cubicBezTo>
                <a:cubicBezTo>
                  <a:pt x="24168" y="6774"/>
                  <a:pt x="24181" y="6761"/>
                  <a:pt x="24309" y="6672"/>
                </a:cubicBezTo>
              </a:path>
              <a:path w="1862" h="1315">
                <a:moveTo>
                  <a:pt x="24532" y="6276"/>
                </a:moveTo>
                <a:cubicBezTo>
                  <a:pt x="24477" y="6306"/>
                  <a:pt x="24421" y="6362"/>
                  <a:pt x="24383" y="6375"/>
                </a:cubicBezTo>
                <a:cubicBezTo>
                  <a:pt x="24484" y="6452"/>
                  <a:pt x="24575" y="6463"/>
                  <a:pt x="24681" y="6524"/>
                </a:cubicBezTo>
                <a:cubicBezTo>
                  <a:pt x="24636" y="6643"/>
                  <a:pt x="24598" y="6614"/>
                  <a:pt x="24457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776680"/>
            <a:ext cx="266760" cy="24120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19968" y="7714"/>
                </a:moveTo>
                <a:cubicBezTo>
                  <a:pt x="19968" y="7923"/>
                  <a:pt x="19959" y="8126"/>
                  <a:pt x="19943" y="8334"/>
                </a:cubicBezTo>
                <a:cubicBezTo>
                  <a:pt x="19943" y="8351"/>
                  <a:pt x="19943" y="8367"/>
                  <a:pt x="19943" y="8384"/>
                </a:cubicBezTo>
              </a:path>
              <a:path w="745" h="671">
                <a:moveTo>
                  <a:pt x="20191" y="7764"/>
                </a:moveTo>
                <a:cubicBezTo>
                  <a:pt x="20218" y="7723"/>
                  <a:pt x="20358" y="7724"/>
                  <a:pt x="20414" y="7764"/>
                </a:cubicBezTo>
                <a:cubicBezTo>
                  <a:pt x="20531" y="7848"/>
                  <a:pt x="20438" y="7956"/>
                  <a:pt x="20365" y="8012"/>
                </a:cubicBezTo>
                <a:cubicBezTo>
                  <a:pt x="20340" y="8029"/>
                  <a:pt x="20315" y="8045"/>
                  <a:pt x="20290" y="8062"/>
                </a:cubicBezTo>
                <a:cubicBezTo>
                  <a:pt x="20380" y="8032"/>
                  <a:pt x="20698" y="7993"/>
                  <a:pt x="20687" y="8186"/>
                </a:cubicBezTo>
                <a:cubicBezTo>
                  <a:pt x="20675" y="8388"/>
                  <a:pt x="20377" y="8328"/>
                  <a:pt x="20290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32800" y="2751120"/>
            <a:ext cx="339480" cy="204840"/>
          </a:xfrm>
          <a:custGeom>
            <a:avLst/>
            <a:gdLst/>
            <a:ahLst/>
            <a:rect l="l" t="t" r="r" b="b"/>
            <a:pathLst>
              <a:path w="943" h="571">
                <a:moveTo>
                  <a:pt x="21605" y="7640"/>
                </a:moveTo>
                <a:cubicBezTo>
                  <a:pt x="21605" y="7765"/>
                  <a:pt x="21529" y="8093"/>
                  <a:pt x="21605" y="8186"/>
                </a:cubicBezTo>
                <a:cubicBezTo>
                  <a:pt x="21676" y="8274"/>
                  <a:pt x="21906" y="8196"/>
                  <a:pt x="21977" y="8161"/>
                </a:cubicBezTo>
              </a:path>
              <a:path w="943" h="571">
                <a:moveTo>
                  <a:pt x="21481" y="8012"/>
                </a:moveTo>
                <a:cubicBezTo>
                  <a:pt x="21720" y="7965"/>
                  <a:pt x="21964" y="7944"/>
                  <a:pt x="22200" y="7888"/>
                </a:cubicBezTo>
                <a:cubicBezTo>
                  <a:pt x="22136" y="7920"/>
                  <a:pt x="22051" y="8083"/>
                  <a:pt x="22126" y="8161"/>
                </a:cubicBezTo>
                <a:cubicBezTo>
                  <a:pt x="22274" y="8314"/>
                  <a:pt x="22474" y="8135"/>
                  <a:pt x="22374" y="7962"/>
                </a:cubicBezTo>
                <a:cubicBezTo>
                  <a:pt x="22315" y="7860"/>
                  <a:pt x="22256" y="7878"/>
                  <a:pt x="22175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75760" y="2705040"/>
            <a:ext cx="268200" cy="223920"/>
          </a:xfrm>
          <a:custGeom>
            <a:avLst/>
            <a:gdLst/>
            <a:ahLst/>
            <a:rect l="l" t="t" r="r" b="b"/>
            <a:pathLst>
              <a:path w="745" h="621">
                <a:moveTo>
                  <a:pt x="23267" y="7516"/>
                </a:moveTo>
                <a:cubicBezTo>
                  <a:pt x="23267" y="7709"/>
                  <a:pt x="23275" y="7895"/>
                  <a:pt x="23292" y="8086"/>
                </a:cubicBezTo>
                <a:cubicBezTo>
                  <a:pt x="23292" y="8103"/>
                  <a:pt x="23292" y="8119"/>
                  <a:pt x="23292" y="8136"/>
                </a:cubicBezTo>
              </a:path>
              <a:path w="745" h="621">
                <a:moveTo>
                  <a:pt x="23713" y="7590"/>
                </a:moveTo>
                <a:cubicBezTo>
                  <a:pt x="23680" y="7691"/>
                  <a:pt x="23589" y="7796"/>
                  <a:pt x="23589" y="7913"/>
                </a:cubicBezTo>
                <a:cubicBezTo>
                  <a:pt x="23589" y="8071"/>
                  <a:pt x="23765" y="8076"/>
                  <a:pt x="23862" y="8012"/>
                </a:cubicBezTo>
                <a:cubicBezTo>
                  <a:pt x="23926" y="7970"/>
                  <a:pt x="24097" y="7775"/>
                  <a:pt x="23986" y="7689"/>
                </a:cubicBezTo>
                <a:cubicBezTo>
                  <a:pt x="23916" y="7635"/>
                  <a:pt x="23769" y="7665"/>
                  <a:pt x="23688" y="76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9000" y="5384880"/>
            <a:ext cx="581040" cy="615960"/>
          </a:xfrm>
          <a:custGeom>
            <a:avLst/>
            <a:gdLst/>
            <a:ahLst/>
            <a:rect l="l" t="t" r="r" b="b"/>
            <a:pathLst>
              <a:path w="1613" h="1713">
                <a:moveTo>
                  <a:pt x="3373" y="15032"/>
                </a:moveTo>
                <a:cubicBezTo>
                  <a:pt x="3426" y="15013"/>
                  <a:pt x="3422" y="15369"/>
                  <a:pt x="3423" y="15404"/>
                </a:cubicBezTo>
                <a:cubicBezTo>
                  <a:pt x="3423" y="15577"/>
                  <a:pt x="3423" y="15602"/>
                  <a:pt x="3423" y="15701"/>
                </a:cubicBezTo>
              </a:path>
              <a:path w="1613" h="1713">
                <a:moveTo>
                  <a:pt x="3696" y="15106"/>
                </a:moveTo>
                <a:cubicBezTo>
                  <a:pt x="3751" y="14969"/>
                  <a:pt x="3890" y="14975"/>
                  <a:pt x="4018" y="14957"/>
                </a:cubicBezTo>
                <a:cubicBezTo>
                  <a:pt x="4073" y="15111"/>
                  <a:pt x="4055" y="15209"/>
                  <a:pt x="3894" y="15304"/>
                </a:cubicBezTo>
                <a:cubicBezTo>
                  <a:pt x="3886" y="15304"/>
                  <a:pt x="3878" y="15304"/>
                  <a:pt x="3870" y="15304"/>
                </a:cubicBezTo>
                <a:cubicBezTo>
                  <a:pt x="3993" y="15234"/>
                  <a:pt x="4123" y="15251"/>
                  <a:pt x="4142" y="15429"/>
                </a:cubicBezTo>
                <a:cubicBezTo>
                  <a:pt x="4169" y="15683"/>
                  <a:pt x="3920" y="15709"/>
                  <a:pt x="3746" y="15701"/>
                </a:cubicBezTo>
                <a:cubicBezTo>
                  <a:pt x="3738" y="15701"/>
                  <a:pt x="3729" y="15701"/>
                  <a:pt x="3721" y="15701"/>
                </a:cubicBezTo>
              </a:path>
              <a:path w="1613" h="1713">
                <a:moveTo>
                  <a:pt x="3026" y="15925"/>
                </a:moveTo>
                <a:cubicBezTo>
                  <a:pt x="3506" y="15890"/>
                  <a:pt x="3984" y="15856"/>
                  <a:pt x="4465" y="15850"/>
                </a:cubicBezTo>
                <a:cubicBezTo>
                  <a:pt x="4572" y="15850"/>
                  <a:pt x="4580" y="15850"/>
                  <a:pt x="4638" y="15850"/>
                </a:cubicBezTo>
              </a:path>
              <a:path w="1613" h="1713">
                <a:moveTo>
                  <a:pt x="3225" y="15999"/>
                </a:moveTo>
                <a:cubicBezTo>
                  <a:pt x="3225" y="16221"/>
                  <a:pt x="3206" y="16425"/>
                  <a:pt x="3175" y="16644"/>
                </a:cubicBezTo>
                <a:cubicBezTo>
                  <a:pt x="3175" y="16652"/>
                  <a:pt x="3175" y="16661"/>
                  <a:pt x="3175" y="16669"/>
                </a:cubicBezTo>
              </a:path>
              <a:path w="1613" h="1713">
                <a:moveTo>
                  <a:pt x="3894" y="16098"/>
                </a:moveTo>
                <a:cubicBezTo>
                  <a:pt x="3780" y="16098"/>
                  <a:pt x="3743" y="16139"/>
                  <a:pt x="3696" y="16247"/>
                </a:cubicBezTo>
                <a:cubicBezTo>
                  <a:pt x="3633" y="16393"/>
                  <a:pt x="3645" y="16472"/>
                  <a:pt x="3671" y="16619"/>
                </a:cubicBezTo>
                <a:cubicBezTo>
                  <a:pt x="3878" y="16654"/>
                  <a:pt x="4077" y="16556"/>
                  <a:pt x="4118" y="16297"/>
                </a:cubicBezTo>
                <a:cubicBezTo>
                  <a:pt x="4141" y="16152"/>
                  <a:pt x="3963" y="16157"/>
                  <a:pt x="3870" y="161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9000" y="5348160"/>
            <a:ext cx="500040" cy="669960"/>
          </a:xfrm>
          <a:custGeom>
            <a:avLst/>
            <a:gdLst/>
            <a:ahLst/>
            <a:rect l="l" t="t" r="r" b="b"/>
            <a:pathLst>
              <a:path w="1390" h="1861">
                <a:moveTo>
                  <a:pt x="6325" y="15801"/>
                </a:moveTo>
                <a:cubicBezTo>
                  <a:pt x="6542" y="15801"/>
                  <a:pt x="6754" y="15783"/>
                  <a:pt x="6970" y="15776"/>
                </a:cubicBezTo>
                <a:cubicBezTo>
                  <a:pt x="7186" y="15769"/>
                  <a:pt x="7399" y="15751"/>
                  <a:pt x="7615" y="15751"/>
                </a:cubicBezTo>
                <a:cubicBezTo>
                  <a:pt x="7640" y="15751"/>
                  <a:pt x="7648" y="15751"/>
                  <a:pt x="7665" y="15751"/>
                </a:cubicBezTo>
              </a:path>
              <a:path w="1390" h="1861">
                <a:moveTo>
                  <a:pt x="6573" y="16123"/>
                </a:moveTo>
                <a:cubicBezTo>
                  <a:pt x="6486" y="16181"/>
                  <a:pt x="6616" y="16054"/>
                  <a:pt x="6623" y="16049"/>
                </a:cubicBezTo>
                <a:cubicBezTo>
                  <a:pt x="6656" y="16032"/>
                  <a:pt x="6689" y="16016"/>
                  <a:pt x="6722" y="15999"/>
                </a:cubicBezTo>
                <a:cubicBezTo>
                  <a:pt x="6908" y="16186"/>
                  <a:pt x="6868" y="16421"/>
                  <a:pt x="6648" y="16619"/>
                </a:cubicBezTo>
                <a:cubicBezTo>
                  <a:pt x="6503" y="16750"/>
                  <a:pt x="6404" y="16712"/>
                  <a:pt x="6276" y="16644"/>
                </a:cubicBezTo>
                <a:cubicBezTo>
                  <a:pt x="6322" y="16459"/>
                  <a:pt x="6483" y="16430"/>
                  <a:pt x="6672" y="16495"/>
                </a:cubicBezTo>
                <a:cubicBezTo>
                  <a:pt x="6761" y="16526"/>
                  <a:pt x="6814" y="16625"/>
                  <a:pt x="6871" y="16644"/>
                </a:cubicBezTo>
              </a:path>
              <a:path w="1390" h="1861">
                <a:moveTo>
                  <a:pt x="7169" y="16073"/>
                </a:moveTo>
                <a:cubicBezTo>
                  <a:pt x="7056" y="16196"/>
                  <a:pt x="6939" y="16431"/>
                  <a:pt x="6995" y="16619"/>
                </a:cubicBezTo>
                <a:cubicBezTo>
                  <a:pt x="7020" y="16644"/>
                  <a:pt x="7044" y="16669"/>
                  <a:pt x="7069" y="16694"/>
                </a:cubicBezTo>
                <a:cubicBezTo>
                  <a:pt x="7282" y="16651"/>
                  <a:pt x="7480" y="16520"/>
                  <a:pt x="7417" y="16247"/>
                </a:cubicBezTo>
                <a:cubicBezTo>
                  <a:pt x="7346" y="16154"/>
                  <a:pt x="7329" y="16123"/>
                  <a:pt x="7243" y="16123"/>
                </a:cubicBezTo>
              </a:path>
              <a:path w="1390" h="1861">
                <a:moveTo>
                  <a:pt x="6573" y="15081"/>
                </a:moveTo>
                <a:cubicBezTo>
                  <a:pt x="6493" y="15121"/>
                  <a:pt x="6543" y="15027"/>
                  <a:pt x="6598" y="14982"/>
                </a:cubicBezTo>
                <a:cubicBezTo>
                  <a:pt x="6631" y="14965"/>
                  <a:pt x="6664" y="14949"/>
                  <a:pt x="6697" y="14932"/>
                </a:cubicBezTo>
                <a:cubicBezTo>
                  <a:pt x="6911" y="15132"/>
                  <a:pt x="6852" y="15339"/>
                  <a:pt x="6598" y="15528"/>
                </a:cubicBezTo>
                <a:cubicBezTo>
                  <a:pt x="6451" y="15591"/>
                  <a:pt x="6421" y="15622"/>
                  <a:pt x="6325" y="15577"/>
                </a:cubicBezTo>
                <a:cubicBezTo>
                  <a:pt x="6378" y="15403"/>
                  <a:pt x="6464" y="15361"/>
                  <a:pt x="6648" y="15404"/>
                </a:cubicBezTo>
                <a:cubicBezTo>
                  <a:pt x="6778" y="15434"/>
                  <a:pt x="6763" y="15478"/>
                  <a:pt x="6846" y="15528"/>
                </a:cubicBezTo>
              </a:path>
              <a:path w="1390" h="1861">
                <a:moveTo>
                  <a:pt x="7169" y="14858"/>
                </a:moveTo>
                <a:cubicBezTo>
                  <a:pt x="7090" y="14898"/>
                  <a:pt x="7087" y="15044"/>
                  <a:pt x="7069" y="15131"/>
                </a:cubicBezTo>
                <a:cubicBezTo>
                  <a:pt x="7041" y="15269"/>
                  <a:pt x="7003" y="15399"/>
                  <a:pt x="7144" y="15478"/>
                </a:cubicBezTo>
                <a:cubicBezTo>
                  <a:pt x="7288" y="15559"/>
                  <a:pt x="7432" y="15403"/>
                  <a:pt x="7541" y="15329"/>
                </a:cubicBezTo>
                <a:cubicBezTo>
                  <a:pt x="7647" y="15256"/>
                  <a:pt x="7640" y="15203"/>
                  <a:pt x="7640" y="15081"/>
                </a:cubicBezTo>
                <a:cubicBezTo>
                  <a:pt x="7556" y="15081"/>
                  <a:pt x="7440" y="15064"/>
                  <a:pt x="7392" y="15156"/>
                </a:cubicBezTo>
                <a:cubicBezTo>
                  <a:pt x="7348" y="15241"/>
                  <a:pt x="7364" y="15351"/>
                  <a:pt x="7392" y="15429"/>
                </a:cubicBezTo>
                <a:cubicBezTo>
                  <a:pt x="7400" y="15445"/>
                  <a:pt x="7409" y="15462"/>
                  <a:pt x="7417" y="154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4240" y="5653080"/>
            <a:ext cx="125640" cy="98280"/>
          </a:xfrm>
          <a:custGeom>
            <a:avLst/>
            <a:gdLst/>
            <a:ahLst/>
            <a:rect l="l" t="t" r="r" b="b"/>
            <a:pathLst>
              <a:path w="348" h="274">
                <a:moveTo>
                  <a:pt x="5234" y="15801"/>
                </a:moveTo>
                <a:cubicBezTo>
                  <a:pt x="5321" y="15738"/>
                  <a:pt x="5440" y="15672"/>
                  <a:pt x="5556" y="15701"/>
                </a:cubicBezTo>
                <a:cubicBezTo>
                  <a:pt x="5556" y="15709"/>
                  <a:pt x="5556" y="15718"/>
                  <a:pt x="5556" y="15726"/>
                </a:cubicBezTo>
              </a:path>
              <a:path w="348" h="274">
                <a:moveTo>
                  <a:pt x="5283" y="15974"/>
                </a:moveTo>
                <a:cubicBezTo>
                  <a:pt x="5393" y="15934"/>
                  <a:pt x="5467" y="15909"/>
                  <a:pt x="558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49800" y="4170240"/>
            <a:ext cx="1920960" cy="322560"/>
          </a:xfrm>
          <a:custGeom>
            <a:avLst/>
            <a:gdLst/>
            <a:ahLst/>
            <a:rect l="l" t="t" r="r" b="b"/>
            <a:pathLst>
              <a:path w="5334" h="894">
                <a:moveTo>
                  <a:pt x="11906" y="12229"/>
                </a:moveTo>
                <a:cubicBezTo>
                  <a:pt x="11919" y="12331"/>
                  <a:pt x="11934" y="12383"/>
                  <a:pt x="11981" y="12477"/>
                </a:cubicBezTo>
              </a:path>
              <a:path w="5334" h="894">
                <a:moveTo>
                  <a:pt x="11807" y="12055"/>
                </a:moveTo>
                <a:lnTo>
                  <a:pt x="11807" y="12055"/>
                </a:lnTo>
                <a:lnTo>
                  <a:pt x="11807" y="12055"/>
                </a:lnTo>
              </a:path>
              <a:path w="5334" h="894">
                <a:moveTo>
                  <a:pt x="11807" y="12055"/>
                </a:moveTo>
                <a:lnTo>
                  <a:pt x="11807" y="12055"/>
                </a:lnTo>
              </a:path>
              <a:path w="5334" h="894">
                <a:moveTo>
                  <a:pt x="12923" y="11782"/>
                </a:moveTo>
                <a:cubicBezTo>
                  <a:pt x="12947" y="11962"/>
                  <a:pt x="12967" y="12211"/>
                  <a:pt x="13047" y="12378"/>
                </a:cubicBezTo>
                <a:cubicBezTo>
                  <a:pt x="13055" y="12378"/>
                  <a:pt x="13064" y="12378"/>
                  <a:pt x="13072" y="12378"/>
                </a:cubicBezTo>
              </a:path>
              <a:path w="5334" h="894">
                <a:moveTo>
                  <a:pt x="13915" y="12179"/>
                </a:moveTo>
                <a:cubicBezTo>
                  <a:pt x="14170" y="12128"/>
                  <a:pt x="14260" y="12110"/>
                  <a:pt x="14436" y="12105"/>
                </a:cubicBezTo>
              </a:path>
              <a:path w="5334" h="894">
                <a:moveTo>
                  <a:pt x="16867" y="11584"/>
                </a:moveTo>
                <a:cubicBezTo>
                  <a:pt x="16930" y="11827"/>
                  <a:pt x="16973" y="12071"/>
                  <a:pt x="17066" y="12303"/>
                </a:cubicBezTo>
              </a:path>
              <a:path w="5334" h="894">
                <a:moveTo>
                  <a:pt x="17140" y="11708"/>
                </a:moveTo>
                <a:cubicBezTo>
                  <a:pt x="17140" y="11716"/>
                  <a:pt x="17140" y="11725"/>
                  <a:pt x="17140" y="11733"/>
                </a:cubicBezTo>
              </a:path>
              <a:path w="5334" h="894">
                <a:moveTo>
                  <a:pt x="17140" y="11733"/>
                </a:moveTo>
                <a:lnTo>
                  <a:pt x="17140" y="1173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2120" y="4160880"/>
            <a:ext cx="1447920" cy="536400"/>
          </a:xfrm>
          <a:custGeom>
            <a:avLst/>
            <a:gdLst/>
            <a:ahLst/>
            <a:rect l="l" t="t" r="r" b="b"/>
            <a:pathLst>
              <a:path w="4020" h="1489">
                <a:moveTo>
                  <a:pt x="10641" y="11559"/>
                </a:moveTo>
                <a:cubicBezTo>
                  <a:pt x="10589" y="11766"/>
                  <a:pt x="10472" y="12012"/>
                  <a:pt x="10418" y="12229"/>
                </a:cubicBezTo>
                <a:cubicBezTo>
                  <a:pt x="10359" y="12465"/>
                  <a:pt x="10319" y="12601"/>
                  <a:pt x="10567" y="12601"/>
                </a:cubicBezTo>
              </a:path>
              <a:path w="4020" h="1489">
                <a:moveTo>
                  <a:pt x="10815" y="12229"/>
                </a:moveTo>
                <a:cubicBezTo>
                  <a:pt x="10866" y="12232"/>
                  <a:pt x="11000" y="12268"/>
                  <a:pt x="11013" y="12229"/>
                </a:cubicBezTo>
                <a:cubicBezTo>
                  <a:pt x="10933" y="12149"/>
                  <a:pt x="10868" y="12056"/>
                  <a:pt x="10740" y="12080"/>
                </a:cubicBezTo>
                <a:cubicBezTo>
                  <a:pt x="10518" y="12122"/>
                  <a:pt x="10625" y="12405"/>
                  <a:pt x="10765" y="12477"/>
                </a:cubicBezTo>
                <a:cubicBezTo>
                  <a:pt x="10899" y="12504"/>
                  <a:pt x="10950" y="12509"/>
                  <a:pt x="11038" y="12452"/>
                </a:cubicBezTo>
              </a:path>
              <a:path w="4020" h="1489">
                <a:moveTo>
                  <a:pt x="11187" y="12080"/>
                </a:moveTo>
                <a:cubicBezTo>
                  <a:pt x="11175" y="12104"/>
                  <a:pt x="10983" y="12555"/>
                  <a:pt x="11162" y="12452"/>
                </a:cubicBezTo>
                <a:cubicBezTo>
                  <a:pt x="11230" y="12413"/>
                  <a:pt x="11260" y="12272"/>
                  <a:pt x="11286" y="12204"/>
                </a:cubicBezTo>
                <a:cubicBezTo>
                  <a:pt x="11286" y="12196"/>
                  <a:pt x="11286" y="12187"/>
                  <a:pt x="11286" y="12179"/>
                </a:cubicBezTo>
                <a:cubicBezTo>
                  <a:pt x="11206" y="12285"/>
                  <a:pt x="11225" y="12560"/>
                  <a:pt x="11212" y="12675"/>
                </a:cubicBezTo>
                <a:cubicBezTo>
                  <a:pt x="11196" y="12814"/>
                  <a:pt x="11171" y="12924"/>
                  <a:pt x="11212" y="13047"/>
                </a:cubicBezTo>
                <a:cubicBezTo>
                  <a:pt x="11317" y="12954"/>
                  <a:pt x="11386" y="12823"/>
                  <a:pt x="11336" y="12675"/>
                </a:cubicBezTo>
                <a:cubicBezTo>
                  <a:pt x="11283" y="12597"/>
                  <a:pt x="11263" y="12568"/>
                  <a:pt x="11212" y="12526"/>
                </a:cubicBezTo>
              </a:path>
              <a:path w="4020" h="1489">
                <a:moveTo>
                  <a:pt x="11410" y="12229"/>
                </a:moveTo>
                <a:cubicBezTo>
                  <a:pt x="11422" y="12325"/>
                  <a:pt x="11429" y="12446"/>
                  <a:pt x="11460" y="12526"/>
                </a:cubicBezTo>
                <a:cubicBezTo>
                  <a:pt x="11595" y="12481"/>
                  <a:pt x="11644" y="12397"/>
                  <a:pt x="11658" y="12254"/>
                </a:cubicBezTo>
                <a:cubicBezTo>
                  <a:pt x="11658" y="12196"/>
                  <a:pt x="11658" y="12154"/>
                  <a:pt x="11658" y="12204"/>
                </a:cubicBezTo>
                <a:cubicBezTo>
                  <a:pt x="11661" y="12264"/>
                  <a:pt x="11651" y="12582"/>
                  <a:pt x="11733" y="12576"/>
                </a:cubicBezTo>
                <a:cubicBezTo>
                  <a:pt x="11749" y="12568"/>
                  <a:pt x="11766" y="12559"/>
                  <a:pt x="11782" y="12551"/>
                </a:cubicBezTo>
              </a:path>
              <a:path w="4020" h="1489">
                <a:moveTo>
                  <a:pt x="12129" y="12154"/>
                </a:moveTo>
                <a:cubicBezTo>
                  <a:pt x="12211" y="12224"/>
                  <a:pt x="12281" y="12356"/>
                  <a:pt x="12353" y="12452"/>
                </a:cubicBezTo>
                <a:cubicBezTo>
                  <a:pt x="12384" y="12342"/>
                  <a:pt x="12432" y="12203"/>
                  <a:pt x="12477" y="12105"/>
                </a:cubicBezTo>
              </a:path>
              <a:path w="4020" h="1489">
                <a:moveTo>
                  <a:pt x="12774" y="12229"/>
                </a:moveTo>
                <a:cubicBezTo>
                  <a:pt x="12661" y="12178"/>
                  <a:pt x="12527" y="12285"/>
                  <a:pt x="12576" y="12452"/>
                </a:cubicBezTo>
                <a:cubicBezTo>
                  <a:pt x="12593" y="12460"/>
                  <a:pt x="12609" y="12469"/>
                  <a:pt x="12626" y="12477"/>
                </a:cubicBezTo>
                <a:cubicBezTo>
                  <a:pt x="12736" y="12390"/>
                  <a:pt x="12774" y="12219"/>
                  <a:pt x="12774" y="12254"/>
                </a:cubicBezTo>
                <a:cubicBezTo>
                  <a:pt x="12825" y="12445"/>
                  <a:pt x="12777" y="12452"/>
                  <a:pt x="12948" y="12427"/>
                </a:cubicBezTo>
              </a:path>
              <a:path w="4020" h="1489">
                <a:moveTo>
                  <a:pt x="13271" y="12278"/>
                </a:moveTo>
                <a:cubicBezTo>
                  <a:pt x="13396" y="12257"/>
                  <a:pt x="13440" y="12234"/>
                  <a:pt x="13469" y="12105"/>
                </a:cubicBezTo>
                <a:cubicBezTo>
                  <a:pt x="13315" y="12093"/>
                  <a:pt x="13123" y="12219"/>
                  <a:pt x="13221" y="12427"/>
                </a:cubicBezTo>
                <a:cubicBezTo>
                  <a:pt x="13339" y="12677"/>
                  <a:pt x="13584" y="12246"/>
                  <a:pt x="13618" y="12179"/>
                </a:cubicBezTo>
                <a:cubicBezTo>
                  <a:pt x="13618" y="12277"/>
                  <a:pt x="13628" y="12355"/>
                  <a:pt x="13643" y="12452"/>
                </a:cubicBezTo>
                <a:cubicBezTo>
                  <a:pt x="13643" y="12587"/>
                  <a:pt x="13635" y="12222"/>
                  <a:pt x="13643" y="12179"/>
                </a:cubicBezTo>
                <a:cubicBezTo>
                  <a:pt x="13661" y="12081"/>
                  <a:pt x="13852" y="12470"/>
                  <a:pt x="13866" y="12502"/>
                </a:cubicBezTo>
                <a:cubicBezTo>
                  <a:pt x="13894" y="12558"/>
                  <a:pt x="13905" y="12567"/>
                  <a:pt x="13915" y="12477"/>
                </a:cubicBezTo>
              </a:path>
              <a:path w="4020" h="1489">
                <a:moveTo>
                  <a:pt x="14064" y="11832"/>
                </a:moveTo>
                <a:cubicBezTo>
                  <a:pt x="14080" y="12034"/>
                  <a:pt x="14082" y="12312"/>
                  <a:pt x="14163" y="12502"/>
                </a:cubicBezTo>
                <a:cubicBezTo>
                  <a:pt x="14223" y="12644"/>
                  <a:pt x="14341" y="12489"/>
                  <a:pt x="14387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91080" y="4000680"/>
            <a:ext cx="1359000" cy="492120"/>
          </a:xfrm>
          <a:custGeom>
            <a:avLst/>
            <a:gdLst/>
            <a:ahLst/>
            <a:rect l="l" t="t" r="r" b="b"/>
            <a:pathLst>
              <a:path w="3771" h="1366">
                <a:moveTo>
                  <a:pt x="15602" y="11782"/>
                </a:moveTo>
                <a:cubicBezTo>
                  <a:pt x="15517" y="11733"/>
                  <a:pt x="15338" y="11622"/>
                  <a:pt x="15280" y="11782"/>
                </a:cubicBezTo>
                <a:cubicBezTo>
                  <a:pt x="15191" y="12025"/>
                  <a:pt x="15362" y="12169"/>
                  <a:pt x="15429" y="12378"/>
                </a:cubicBezTo>
                <a:cubicBezTo>
                  <a:pt x="15429" y="12429"/>
                  <a:pt x="15410" y="12418"/>
                  <a:pt x="15354" y="12328"/>
                </a:cubicBezTo>
              </a:path>
              <a:path w="3771" h="1366">
                <a:moveTo>
                  <a:pt x="15280" y="12105"/>
                </a:moveTo>
                <a:cubicBezTo>
                  <a:pt x="15541" y="12112"/>
                  <a:pt x="15692" y="12074"/>
                  <a:pt x="15825" y="12328"/>
                </a:cubicBezTo>
                <a:cubicBezTo>
                  <a:pt x="15825" y="12336"/>
                  <a:pt x="15825" y="12345"/>
                  <a:pt x="15825" y="12353"/>
                </a:cubicBezTo>
                <a:cubicBezTo>
                  <a:pt x="15833" y="12261"/>
                  <a:pt x="15844" y="12008"/>
                  <a:pt x="15974" y="11981"/>
                </a:cubicBezTo>
                <a:cubicBezTo>
                  <a:pt x="16007" y="11989"/>
                  <a:pt x="16040" y="11997"/>
                  <a:pt x="16073" y="12005"/>
                </a:cubicBezTo>
              </a:path>
              <a:path w="3771" h="1366">
                <a:moveTo>
                  <a:pt x="16297" y="12154"/>
                </a:moveTo>
                <a:cubicBezTo>
                  <a:pt x="16242" y="12018"/>
                  <a:pt x="16125" y="12076"/>
                  <a:pt x="16049" y="12179"/>
                </a:cubicBezTo>
                <a:cubicBezTo>
                  <a:pt x="15988" y="12299"/>
                  <a:pt x="15941" y="12326"/>
                  <a:pt x="16024" y="12378"/>
                </a:cubicBezTo>
                <a:cubicBezTo>
                  <a:pt x="16149" y="12329"/>
                  <a:pt x="16160" y="12102"/>
                  <a:pt x="16247" y="12204"/>
                </a:cubicBezTo>
                <a:cubicBezTo>
                  <a:pt x="16316" y="12284"/>
                  <a:pt x="16379" y="12294"/>
                  <a:pt x="16470" y="12328"/>
                </a:cubicBezTo>
              </a:path>
              <a:path w="3771" h="1366">
                <a:moveTo>
                  <a:pt x="16669" y="12080"/>
                </a:moveTo>
                <a:cubicBezTo>
                  <a:pt x="16655" y="12008"/>
                  <a:pt x="16657" y="12023"/>
                  <a:pt x="16594" y="12005"/>
                </a:cubicBezTo>
                <a:cubicBezTo>
                  <a:pt x="16463" y="12113"/>
                  <a:pt x="16413" y="12360"/>
                  <a:pt x="16694" y="12328"/>
                </a:cubicBezTo>
                <a:cubicBezTo>
                  <a:pt x="16904" y="12250"/>
                  <a:pt x="16977" y="12215"/>
                  <a:pt x="17041" y="12055"/>
                </a:cubicBezTo>
              </a:path>
              <a:path w="3771" h="1366">
                <a:moveTo>
                  <a:pt x="16644" y="11956"/>
                </a:moveTo>
                <a:cubicBezTo>
                  <a:pt x="16796" y="11956"/>
                  <a:pt x="17149" y="11882"/>
                  <a:pt x="17264" y="12005"/>
                </a:cubicBezTo>
                <a:cubicBezTo>
                  <a:pt x="17310" y="12119"/>
                  <a:pt x="17324" y="12151"/>
                  <a:pt x="17338" y="12229"/>
                </a:cubicBezTo>
              </a:path>
              <a:path w="3771" h="1366">
                <a:moveTo>
                  <a:pt x="17537" y="11956"/>
                </a:moveTo>
                <a:cubicBezTo>
                  <a:pt x="17437" y="11956"/>
                  <a:pt x="17356" y="11965"/>
                  <a:pt x="17314" y="12080"/>
                </a:cubicBezTo>
                <a:cubicBezTo>
                  <a:pt x="17314" y="12113"/>
                  <a:pt x="17314" y="12146"/>
                  <a:pt x="17314" y="12179"/>
                </a:cubicBezTo>
                <a:cubicBezTo>
                  <a:pt x="17436" y="12213"/>
                  <a:pt x="17757" y="12236"/>
                  <a:pt x="17686" y="11981"/>
                </a:cubicBezTo>
                <a:cubicBezTo>
                  <a:pt x="17666" y="11911"/>
                  <a:pt x="17559" y="11931"/>
                  <a:pt x="17512" y="11931"/>
                </a:cubicBezTo>
              </a:path>
              <a:path w="3771" h="1366">
                <a:moveTo>
                  <a:pt x="17835" y="12105"/>
                </a:moveTo>
                <a:cubicBezTo>
                  <a:pt x="17860" y="12130"/>
                  <a:pt x="17884" y="12154"/>
                  <a:pt x="17909" y="12179"/>
                </a:cubicBezTo>
                <a:cubicBezTo>
                  <a:pt x="17887" y="12123"/>
                  <a:pt x="17811" y="11930"/>
                  <a:pt x="17959" y="11981"/>
                </a:cubicBezTo>
                <a:cubicBezTo>
                  <a:pt x="18065" y="12017"/>
                  <a:pt x="18105" y="12152"/>
                  <a:pt x="18182" y="12229"/>
                </a:cubicBezTo>
              </a:path>
              <a:path w="3771" h="1366">
                <a:moveTo>
                  <a:pt x="18405" y="11881"/>
                </a:moveTo>
                <a:cubicBezTo>
                  <a:pt x="18327" y="11881"/>
                  <a:pt x="18309" y="11866"/>
                  <a:pt x="18281" y="11906"/>
                </a:cubicBezTo>
                <a:cubicBezTo>
                  <a:pt x="18313" y="12047"/>
                  <a:pt x="18407" y="12059"/>
                  <a:pt x="18529" y="12129"/>
                </a:cubicBezTo>
                <a:cubicBezTo>
                  <a:pt x="18465" y="12237"/>
                  <a:pt x="18371" y="12220"/>
                  <a:pt x="18256" y="12204"/>
                </a:cubicBezTo>
              </a:path>
              <a:path w="3771" h="1366">
                <a:moveTo>
                  <a:pt x="18281" y="11112"/>
                </a:moveTo>
                <a:cubicBezTo>
                  <a:pt x="18541" y="11396"/>
                  <a:pt x="18989" y="11713"/>
                  <a:pt x="19025" y="12129"/>
                </a:cubicBezTo>
                <a:cubicBezTo>
                  <a:pt x="19049" y="12401"/>
                  <a:pt x="18839" y="12413"/>
                  <a:pt x="18653" y="124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040" y="2616120"/>
            <a:ext cx="1000080" cy="142920"/>
          </a:xfrm>
          <a:custGeom>
            <a:avLst/>
            <a:gdLst/>
            <a:ahLst/>
            <a:rect l="l" t="t" r="r" b="b"/>
            <a:pathLst>
              <a:path w="2779" h="398">
                <a:moveTo>
                  <a:pt x="1687" y="7665"/>
                </a:moveTo>
                <a:cubicBezTo>
                  <a:pt x="1877" y="7645"/>
                  <a:pt x="2067" y="7602"/>
                  <a:pt x="2257" y="7565"/>
                </a:cubicBezTo>
                <a:cubicBezTo>
                  <a:pt x="2760" y="7467"/>
                  <a:pt x="3261" y="7375"/>
                  <a:pt x="3770" y="7317"/>
                </a:cubicBezTo>
                <a:cubicBezTo>
                  <a:pt x="3993" y="7292"/>
                  <a:pt x="4216" y="7275"/>
                  <a:pt x="4440" y="7268"/>
                </a:cubicBezTo>
                <a:cubicBezTo>
                  <a:pt x="4448" y="7268"/>
                  <a:pt x="4457" y="7268"/>
                  <a:pt x="4465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7880" y="4456080"/>
            <a:ext cx="2617920" cy="71640"/>
          </a:xfrm>
          <a:custGeom>
            <a:avLst/>
            <a:gdLst/>
            <a:ahLst/>
            <a:rect l="l" t="t" r="r" b="b"/>
            <a:pathLst>
              <a:path w="7269" h="199">
                <a:moveTo>
                  <a:pt x="1885" y="12502"/>
                </a:moveTo>
                <a:cubicBezTo>
                  <a:pt x="2018" y="12513"/>
                  <a:pt x="2147" y="12524"/>
                  <a:pt x="2282" y="12526"/>
                </a:cubicBezTo>
                <a:cubicBezTo>
                  <a:pt x="2507" y="12529"/>
                  <a:pt x="2726" y="12551"/>
                  <a:pt x="2952" y="12551"/>
                </a:cubicBezTo>
                <a:cubicBezTo>
                  <a:pt x="3143" y="12551"/>
                  <a:pt x="3333" y="12545"/>
                  <a:pt x="3522" y="12526"/>
                </a:cubicBezTo>
                <a:cubicBezTo>
                  <a:pt x="3771" y="12501"/>
                  <a:pt x="4018" y="12480"/>
                  <a:pt x="4266" y="12452"/>
                </a:cubicBezTo>
                <a:cubicBezTo>
                  <a:pt x="4555" y="12420"/>
                  <a:pt x="4845" y="12423"/>
                  <a:pt x="5135" y="12402"/>
                </a:cubicBezTo>
                <a:cubicBezTo>
                  <a:pt x="5460" y="12378"/>
                  <a:pt x="5801" y="12351"/>
                  <a:pt x="6127" y="12378"/>
                </a:cubicBezTo>
                <a:cubicBezTo>
                  <a:pt x="6333" y="12395"/>
                  <a:pt x="6543" y="12425"/>
                  <a:pt x="6747" y="12452"/>
                </a:cubicBezTo>
                <a:cubicBezTo>
                  <a:pt x="6969" y="12482"/>
                  <a:pt x="7193" y="12499"/>
                  <a:pt x="7417" y="12502"/>
                </a:cubicBezTo>
                <a:cubicBezTo>
                  <a:pt x="7707" y="12506"/>
                  <a:pt x="7995" y="12541"/>
                  <a:pt x="8285" y="12551"/>
                </a:cubicBezTo>
                <a:cubicBezTo>
                  <a:pt x="8542" y="12560"/>
                  <a:pt x="8797" y="12576"/>
                  <a:pt x="9054" y="12576"/>
                </a:cubicBezTo>
                <a:cubicBezTo>
                  <a:pt x="9112" y="12576"/>
                  <a:pt x="9120" y="12576"/>
                  <a:pt x="9153" y="125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There are 3 ways to write ratios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t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: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73200" y="4083120"/>
          <a:ext cx="2793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083120"/>
                    <a:ext cx="279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187280" y="1820880"/>
            <a:ext cx="1384560" cy="509400"/>
          </a:xfrm>
          <a:custGeom>
            <a:avLst/>
            <a:gdLst/>
            <a:ahLst/>
            <a:rect l="l" t="t" r="r" b="b"/>
            <a:pathLst>
              <a:path w="3846" h="1415">
                <a:moveTo>
                  <a:pt x="3299" y="5978"/>
                </a:moveTo>
                <a:cubicBezTo>
                  <a:pt x="3386" y="6083"/>
                  <a:pt x="3474" y="6258"/>
                  <a:pt x="3597" y="6350"/>
                </a:cubicBezTo>
                <a:cubicBezTo>
                  <a:pt x="3820" y="6517"/>
                  <a:pt x="4143" y="6486"/>
                  <a:pt x="4390" y="6400"/>
                </a:cubicBezTo>
                <a:cubicBezTo>
                  <a:pt x="4534" y="6350"/>
                  <a:pt x="4657" y="6252"/>
                  <a:pt x="4787" y="6176"/>
                </a:cubicBezTo>
              </a:path>
              <a:path w="3846" h="1415">
                <a:moveTo>
                  <a:pt x="5085" y="5829"/>
                </a:moveTo>
                <a:cubicBezTo>
                  <a:pt x="5085" y="5899"/>
                  <a:pt x="5047" y="6082"/>
                  <a:pt x="5110" y="6127"/>
                </a:cubicBezTo>
                <a:cubicBezTo>
                  <a:pt x="5212" y="6201"/>
                  <a:pt x="5304" y="5889"/>
                  <a:pt x="5308" y="5879"/>
                </a:cubicBezTo>
                <a:cubicBezTo>
                  <a:pt x="5344" y="5985"/>
                  <a:pt x="5461" y="6082"/>
                  <a:pt x="5581" y="6003"/>
                </a:cubicBezTo>
                <a:cubicBezTo>
                  <a:pt x="5740" y="5898"/>
                  <a:pt x="5650" y="5659"/>
                  <a:pt x="5482" y="5631"/>
                </a:cubicBezTo>
                <a:cubicBezTo>
                  <a:pt x="5424" y="5650"/>
                  <a:pt x="5381" y="5658"/>
                  <a:pt x="5432" y="5655"/>
                </a:cubicBezTo>
              </a:path>
              <a:path w="3846" h="1415">
                <a:moveTo>
                  <a:pt x="5804" y="5631"/>
                </a:moveTo>
                <a:cubicBezTo>
                  <a:pt x="5743" y="5808"/>
                  <a:pt x="5707" y="5799"/>
                  <a:pt x="5804" y="5953"/>
                </a:cubicBezTo>
                <a:cubicBezTo>
                  <a:pt x="5908" y="5890"/>
                  <a:pt x="6137" y="5746"/>
                  <a:pt x="5953" y="5606"/>
                </a:cubicBezTo>
                <a:cubicBezTo>
                  <a:pt x="5883" y="5553"/>
                  <a:pt x="5819" y="5593"/>
                  <a:pt x="6052" y="5556"/>
                </a:cubicBezTo>
              </a:path>
              <a:path w="3846" h="1415">
                <a:moveTo>
                  <a:pt x="6300" y="5730"/>
                </a:moveTo>
                <a:cubicBezTo>
                  <a:pt x="6317" y="5755"/>
                  <a:pt x="6333" y="5779"/>
                  <a:pt x="6350" y="5804"/>
                </a:cubicBezTo>
                <a:cubicBezTo>
                  <a:pt x="6360" y="5726"/>
                  <a:pt x="6382" y="5496"/>
                  <a:pt x="6474" y="5457"/>
                </a:cubicBezTo>
                <a:cubicBezTo>
                  <a:pt x="6515" y="5457"/>
                  <a:pt x="6557" y="5457"/>
                  <a:pt x="6598" y="5457"/>
                </a:cubicBezTo>
              </a:path>
              <a:path w="3846" h="1415">
                <a:moveTo>
                  <a:pt x="7045" y="5531"/>
                </a:moveTo>
                <a:cubicBezTo>
                  <a:pt x="6981" y="5383"/>
                  <a:pt x="6848" y="5286"/>
                  <a:pt x="6722" y="5482"/>
                </a:cubicBezTo>
                <a:cubicBezTo>
                  <a:pt x="6603" y="5667"/>
                  <a:pt x="6715" y="5710"/>
                  <a:pt x="6846" y="5779"/>
                </a:cubicBezTo>
                <a:cubicBezTo>
                  <a:pt x="7051" y="5552"/>
                  <a:pt x="7085" y="5400"/>
                  <a:pt x="6970" y="5110"/>
                </a:cubicBezTo>
                <a:cubicBezTo>
                  <a:pt x="6835" y="5018"/>
                  <a:pt x="7016" y="5324"/>
                  <a:pt x="7045" y="5407"/>
                </a:cubicBezTo>
                <a:cubicBezTo>
                  <a:pt x="7108" y="5596"/>
                  <a:pt x="7125" y="5635"/>
                  <a:pt x="7144" y="57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55960" y="1704960"/>
            <a:ext cx="795240" cy="295200"/>
          </a:xfrm>
          <a:custGeom>
            <a:avLst/>
            <a:gdLst/>
            <a:ahLst/>
            <a:rect l="l" t="t" r="r" b="b"/>
            <a:pathLst>
              <a:path w="2209" h="819">
                <a:moveTo>
                  <a:pt x="8756" y="4812"/>
                </a:moveTo>
                <a:cubicBezTo>
                  <a:pt x="8613" y="4735"/>
                  <a:pt x="8441" y="4678"/>
                  <a:pt x="8359" y="4887"/>
                </a:cubicBezTo>
                <a:cubicBezTo>
                  <a:pt x="8262" y="5134"/>
                  <a:pt x="8416" y="5348"/>
                  <a:pt x="8558" y="5531"/>
                </a:cubicBezTo>
                <a:cubicBezTo>
                  <a:pt x="8592" y="5566"/>
                  <a:pt x="8596" y="5561"/>
                  <a:pt x="8558" y="5482"/>
                </a:cubicBezTo>
              </a:path>
              <a:path w="2209" h="819">
                <a:moveTo>
                  <a:pt x="8210" y="5259"/>
                </a:moveTo>
                <a:cubicBezTo>
                  <a:pt x="8425" y="5212"/>
                  <a:pt x="8642" y="5157"/>
                  <a:pt x="8855" y="5110"/>
                </a:cubicBezTo>
                <a:cubicBezTo>
                  <a:pt x="8847" y="5189"/>
                  <a:pt x="8799" y="5407"/>
                  <a:pt x="8954" y="5407"/>
                </a:cubicBezTo>
                <a:cubicBezTo>
                  <a:pt x="9109" y="5407"/>
                  <a:pt x="9204" y="5168"/>
                  <a:pt x="9029" y="5110"/>
                </a:cubicBezTo>
                <a:cubicBezTo>
                  <a:pt x="8955" y="5110"/>
                  <a:pt x="8946" y="5110"/>
                  <a:pt x="8905" y="5110"/>
                </a:cubicBezTo>
              </a:path>
              <a:path w="2209" h="819">
                <a:moveTo>
                  <a:pt x="9277" y="5234"/>
                </a:moveTo>
                <a:cubicBezTo>
                  <a:pt x="9317" y="5293"/>
                  <a:pt x="9321" y="5304"/>
                  <a:pt x="9351" y="5333"/>
                </a:cubicBezTo>
                <a:cubicBezTo>
                  <a:pt x="9320" y="5213"/>
                  <a:pt x="9315" y="5043"/>
                  <a:pt x="9401" y="4936"/>
                </a:cubicBezTo>
                <a:cubicBezTo>
                  <a:pt x="9426" y="4920"/>
                  <a:pt x="9450" y="4903"/>
                  <a:pt x="9475" y="4887"/>
                </a:cubicBezTo>
              </a:path>
              <a:path w="2209" h="819">
                <a:moveTo>
                  <a:pt x="9624" y="5110"/>
                </a:moveTo>
                <a:cubicBezTo>
                  <a:pt x="9643" y="5184"/>
                  <a:pt x="9651" y="5191"/>
                  <a:pt x="9649" y="5234"/>
                </a:cubicBezTo>
                <a:cubicBezTo>
                  <a:pt x="9649" y="5175"/>
                  <a:pt x="9611" y="4962"/>
                  <a:pt x="9723" y="4986"/>
                </a:cubicBezTo>
                <a:cubicBezTo>
                  <a:pt x="9837" y="5042"/>
                  <a:pt x="9883" y="5068"/>
                  <a:pt x="9947" y="5135"/>
                </a:cubicBezTo>
                <a:cubicBezTo>
                  <a:pt x="9955" y="5151"/>
                  <a:pt x="9963" y="5168"/>
                  <a:pt x="9971" y="5184"/>
                </a:cubicBezTo>
                <a:cubicBezTo>
                  <a:pt x="9864" y="5054"/>
                  <a:pt x="9902" y="4991"/>
                  <a:pt x="9996" y="4862"/>
                </a:cubicBezTo>
                <a:cubicBezTo>
                  <a:pt x="10134" y="4948"/>
                  <a:pt x="10216" y="5064"/>
                  <a:pt x="10344" y="5159"/>
                </a:cubicBezTo>
                <a:cubicBezTo>
                  <a:pt x="10369" y="5176"/>
                  <a:pt x="10393" y="5192"/>
                  <a:pt x="10418" y="52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2080" y="3251160"/>
            <a:ext cx="519120" cy="106560"/>
          </a:xfrm>
          <a:custGeom>
            <a:avLst/>
            <a:gdLst/>
            <a:ahLst/>
            <a:rect l="l" t="t" r="r" b="b"/>
            <a:pathLst>
              <a:path w="1440" h="299">
                <a:moveTo>
                  <a:pt x="2480" y="9153"/>
                </a:moveTo>
                <a:cubicBezTo>
                  <a:pt x="2552" y="9212"/>
                  <a:pt x="2615" y="9273"/>
                  <a:pt x="2704" y="9302"/>
                </a:cubicBezTo>
                <a:cubicBezTo>
                  <a:pt x="2833" y="9344"/>
                  <a:pt x="3015" y="9343"/>
                  <a:pt x="3150" y="9327"/>
                </a:cubicBezTo>
                <a:cubicBezTo>
                  <a:pt x="3303" y="9309"/>
                  <a:pt x="3479" y="9240"/>
                  <a:pt x="3621" y="9178"/>
                </a:cubicBezTo>
                <a:cubicBezTo>
                  <a:pt x="3698" y="9145"/>
                  <a:pt x="3803" y="9113"/>
                  <a:pt x="3870" y="9079"/>
                </a:cubicBezTo>
                <a:cubicBezTo>
                  <a:pt x="3894" y="9054"/>
                  <a:pt x="3902" y="9045"/>
                  <a:pt x="3919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43040" y="3009960"/>
            <a:ext cx="849240" cy="303120"/>
          </a:xfrm>
          <a:custGeom>
            <a:avLst/>
            <a:gdLst/>
            <a:ahLst/>
            <a:rect l="l" t="t" r="r" b="b"/>
            <a:pathLst>
              <a:path w="2358" h="845">
                <a:moveTo>
                  <a:pt x="4787" y="8756"/>
                </a:moveTo>
                <a:cubicBezTo>
                  <a:pt x="4892" y="8756"/>
                  <a:pt x="4795" y="8689"/>
                  <a:pt x="4738" y="8682"/>
                </a:cubicBezTo>
                <a:cubicBezTo>
                  <a:pt x="4540" y="8656"/>
                  <a:pt x="4536" y="8978"/>
                  <a:pt x="4589" y="9103"/>
                </a:cubicBezTo>
                <a:cubicBezTo>
                  <a:pt x="4668" y="9290"/>
                  <a:pt x="4874" y="9161"/>
                  <a:pt x="4986" y="9128"/>
                </a:cubicBezTo>
              </a:path>
              <a:path w="2358" h="845">
                <a:moveTo>
                  <a:pt x="5184" y="8706"/>
                </a:moveTo>
                <a:cubicBezTo>
                  <a:pt x="5048" y="8831"/>
                  <a:pt x="5027" y="8907"/>
                  <a:pt x="5085" y="9079"/>
                </a:cubicBezTo>
                <a:cubicBezTo>
                  <a:pt x="5195" y="9105"/>
                  <a:pt x="5486" y="9104"/>
                  <a:pt x="5407" y="8880"/>
                </a:cubicBezTo>
                <a:cubicBezTo>
                  <a:pt x="5357" y="8738"/>
                  <a:pt x="5183" y="8814"/>
                  <a:pt x="5085" y="8830"/>
                </a:cubicBezTo>
              </a:path>
              <a:path w="2358" h="845">
                <a:moveTo>
                  <a:pt x="5358" y="8384"/>
                </a:moveTo>
                <a:cubicBezTo>
                  <a:pt x="5387" y="8529"/>
                  <a:pt x="5464" y="8695"/>
                  <a:pt x="5531" y="8830"/>
                </a:cubicBezTo>
                <a:cubicBezTo>
                  <a:pt x="5548" y="8855"/>
                  <a:pt x="5564" y="8880"/>
                  <a:pt x="5581" y="8905"/>
                </a:cubicBezTo>
              </a:path>
              <a:path w="2358" h="845">
                <a:moveTo>
                  <a:pt x="5928" y="8508"/>
                </a:moveTo>
                <a:cubicBezTo>
                  <a:pt x="5828" y="8508"/>
                  <a:pt x="5793" y="8575"/>
                  <a:pt x="5755" y="8682"/>
                </a:cubicBezTo>
                <a:cubicBezTo>
                  <a:pt x="5733" y="8790"/>
                  <a:pt x="5720" y="8816"/>
                  <a:pt x="5755" y="8880"/>
                </a:cubicBezTo>
                <a:cubicBezTo>
                  <a:pt x="5900" y="8903"/>
                  <a:pt x="6041" y="8869"/>
                  <a:pt x="6052" y="8682"/>
                </a:cubicBezTo>
                <a:cubicBezTo>
                  <a:pt x="6059" y="8561"/>
                  <a:pt x="5970" y="8545"/>
                  <a:pt x="5879" y="8533"/>
                </a:cubicBezTo>
              </a:path>
              <a:path w="2358" h="845">
                <a:moveTo>
                  <a:pt x="6325" y="8483"/>
                </a:moveTo>
                <a:cubicBezTo>
                  <a:pt x="6354" y="8558"/>
                  <a:pt x="6398" y="8730"/>
                  <a:pt x="6449" y="8781"/>
                </a:cubicBezTo>
                <a:cubicBezTo>
                  <a:pt x="6449" y="8773"/>
                  <a:pt x="6449" y="8764"/>
                  <a:pt x="6449" y="8756"/>
                </a:cubicBezTo>
                <a:cubicBezTo>
                  <a:pt x="6385" y="8666"/>
                  <a:pt x="6326" y="8544"/>
                  <a:pt x="6400" y="8434"/>
                </a:cubicBezTo>
                <a:cubicBezTo>
                  <a:pt x="6497" y="8291"/>
                  <a:pt x="6659" y="8398"/>
                  <a:pt x="6747" y="8483"/>
                </a:cubicBezTo>
                <a:cubicBezTo>
                  <a:pt x="6822" y="8556"/>
                  <a:pt x="6791" y="8757"/>
                  <a:pt x="6896" y="8756"/>
                </a:cubicBezTo>
                <a:cubicBezTo>
                  <a:pt x="6904" y="8748"/>
                  <a:pt x="6913" y="8739"/>
                  <a:pt x="6921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3040" y="2687760"/>
            <a:ext cx="874800" cy="349200"/>
          </a:xfrm>
          <a:custGeom>
            <a:avLst/>
            <a:gdLst/>
            <a:ahLst/>
            <a:rect l="l" t="t" r="r" b="b"/>
            <a:pathLst>
              <a:path w="2432" h="969">
                <a:moveTo>
                  <a:pt x="8384" y="7789"/>
                </a:moveTo>
                <a:cubicBezTo>
                  <a:pt x="8311" y="7643"/>
                  <a:pt x="8168" y="7471"/>
                  <a:pt x="7962" y="7541"/>
                </a:cubicBezTo>
                <a:cubicBezTo>
                  <a:pt x="7937" y="7566"/>
                  <a:pt x="7913" y="7590"/>
                  <a:pt x="7888" y="7615"/>
                </a:cubicBezTo>
                <a:cubicBezTo>
                  <a:pt x="7957" y="7927"/>
                  <a:pt x="8080" y="8112"/>
                  <a:pt x="8285" y="8359"/>
                </a:cubicBezTo>
                <a:cubicBezTo>
                  <a:pt x="8310" y="8384"/>
                  <a:pt x="8334" y="8409"/>
                  <a:pt x="8359" y="8434"/>
                </a:cubicBezTo>
              </a:path>
              <a:path w="2432" h="969">
                <a:moveTo>
                  <a:pt x="7813" y="8260"/>
                </a:moveTo>
                <a:cubicBezTo>
                  <a:pt x="8066" y="8186"/>
                  <a:pt x="8316" y="8116"/>
                  <a:pt x="8558" y="8012"/>
                </a:cubicBezTo>
                <a:cubicBezTo>
                  <a:pt x="8541" y="8096"/>
                  <a:pt x="8471" y="8169"/>
                  <a:pt x="8533" y="8260"/>
                </a:cubicBezTo>
                <a:cubicBezTo>
                  <a:pt x="8656" y="8443"/>
                  <a:pt x="8865" y="8199"/>
                  <a:pt x="8930" y="8111"/>
                </a:cubicBezTo>
                <a:cubicBezTo>
                  <a:pt x="8809" y="7947"/>
                  <a:pt x="8739" y="7934"/>
                  <a:pt x="8533" y="7913"/>
                </a:cubicBezTo>
                <a:cubicBezTo>
                  <a:pt x="8541" y="7913"/>
                  <a:pt x="8550" y="7913"/>
                  <a:pt x="8558" y="7913"/>
                </a:cubicBezTo>
              </a:path>
              <a:path w="2432" h="969">
                <a:moveTo>
                  <a:pt x="8954" y="7913"/>
                </a:moveTo>
                <a:cubicBezTo>
                  <a:pt x="8993" y="7990"/>
                  <a:pt x="8992" y="8005"/>
                  <a:pt x="9029" y="8037"/>
                </a:cubicBezTo>
                <a:cubicBezTo>
                  <a:pt x="9009" y="7939"/>
                  <a:pt x="8937" y="7895"/>
                  <a:pt x="8979" y="7789"/>
                </a:cubicBezTo>
                <a:cubicBezTo>
                  <a:pt x="9026" y="7671"/>
                  <a:pt x="9073" y="7680"/>
                  <a:pt x="9178" y="7665"/>
                </a:cubicBezTo>
              </a:path>
              <a:path w="2432" h="969">
                <a:moveTo>
                  <a:pt x="9376" y="7739"/>
                </a:moveTo>
                <a:cubicBezTo>
                  <a:pt x="9399" y="7831"/>
                  <a:pt x="9405" y="7856"/>
                  <a:pt x="9426" y="7913"/>
                </a:cubicBezTo>
                <a:cubicBezTo>
                  <a:pt x="9408" y="7822"/>
                  <a:pt x="9375" y="7734"/>
                  <a:pt x="9426" y="7640"/>
                </a:cubicBezTo>
                <a:cubicBezTo>
                  <a:pt x="9525" y="7456"/>
                  <a:pt x="9725" y="7693"/>
                  <a:pt x="9773" y="7789"/>
                </a:cubicBezTo>
                <a:cubicBezTo>
                  <a:pt x="9773" y="7805"/>
                  <a:pt x="9773" y="7822"/>
                  <a:pt x="9773" y="7838"/>
                </a:cubicBezTo>
                <a:cubicBezTo>
                  <a:pt x="9757" y="7725"/>
                  <a:pt x="9727" y="7587"/>
                  <a:pt x="9823" y="7491"/>
                </a:cubicBezTo>
                <a:cubicBezTo>
                  <a:pt x="9956" y="7358"/>
                  <a:pt x="10147" y="7589"/>
                  <a:pt x="10195" y="7689"/>
                </a:cubicBezTo>
                <a:cubicBezTo>
                  <a:pt x="10215" y="7790"/>
                  <a:pt x="10213" y="7810"/>
                  <a:pt x="10244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2960" y="4133880"/>
            <a:ext cx="1741320" cy="814320"/>
          </a:xfrm>
          <a:custGeom>
            <a:avLst/>
            <a:gdLst/>
            <a:ahLst/>
            <a:rect l="l" t="t" r="r" b="b"/>
            <a:pathLst>
              <a:path w="4838" h="2258">
                <a:moveTo>
                  <a:pt x="2158" y="11485"/>
                </a:moveTo>
                <a:cubicBezTo>
                  <a:pt x="2179" y="11691"/>
                  <a:pt x="2234" y="11899"/>
                  <a:pt x="2257" y="12105"/>
                </a:cubicBezTo>
                <a:cubicBezTo>
                  <a:pt x="2257" y="12196"/>
                  <a:pt x="2257" y="12204"/>
                  <a:pt x="2257" y="12254"/>
                </a:cubicBezTo>
              </a:path>
              <a:path w="4838" h="2258">
                <a:moveTo>
                  <a:pt x="1786" y="12700"/>
                </a:moveTo>
                <a:cubicBezTo>
                  <a:pt x="2114" y="12636"/>
                  <a:pt x="2448" y="12608"/>
                  <a:pt x="2778" y="12551"/>
                </a:cubicBezTo>
                <a:cubicBezTo>
                  <a:pt x="2852" y="12532"/>
                  <a:pt x="2859" y="12524"/>
                  <a:pt x="2902" y="12526"/>
                </a:cubicBezTo>
              </a:path>
              <a:path w="4838" h="2258">
                <a:moveTo>
                  <a:pt x="1935" y="13047"/>
                </a:moveTo>
                <a:cubicBezTo>
                  <a:pt x="2053" y="12962"/>
                  <a:pt x="2207" y="12890"/>
                  <a:pt x="2356" y="12973"/>
                </a:cubicBezTo>
                <a:cubicBezTo>
                  <a:pt x="2364" y="12989"/>
                  <a:pt x="2373" y="13006"/>
                  <a:pt x="2381" y="13022"/>
                </a:cubicBezTo>
                <a:cubicBezTo>
                  <a:pt x="2313" y="13179"/>
                  <a:pt x="2247" y="13216"/>
                  <a:pt x="2108" y="13320"/>
                </a:cubicBezTo>
                <a:cubicBezTo>
                  <a:pt x="2143" y="13234"/>
                  <a:pt x="2279" y="13154"/>
                  <a:pt x="2381" y="13196"/>
                </a:cubicBezTo>
                <a:cubicBezTo>
                  <a:pt x="2406" y="13221"/>
                  <a:pt x="2431" y="13246"/>
                  <a:pt x="2456" y="13271"/>
                </a:cubicBezTo>
                <a:cubicBezTo>
                  <a:pt x="2410" y="13542"/>
                  <a:pt x="2284" y="13580"/>
                  <a:pt x="2059" y="13717"/>
                </a:cubicBezTo>
                <a:cubicBezTo>
                  <a:pt x="2051" y="13725"/>
                  <a:pt x="2042" y="13734"/>
                  <a:pt x="2034" y="13742"/>
                </a:cubicBezTo>
              </a:path>
              <a:path w="4838" h="2258">
                <a:moveTo>
                  <a:pt x="5904" y="12278"/>
                </a:moveTo>
                <a:cubicBezTo>
                  <a:pt x="6136" y="12208"/>
                  <a:pt x="6330" y="12160"/>
                  <a:pt x="6548" y="12303"/>
                </a:cubicBezTo>
                <a:cubicBezTo>
                  <a:pt x="6573" y="12328"/>
                  <a:pt x="6598" y="12353"/>
                  <a:pt x="6623" y="12378"/>
                </a:cubicBezTo>
              </a:path>
              <a:path w="4838" h="2258">
                <a:moveTo>
                  <a:pt x="6449" y="11906"/>
                </a:moveTo>
                <a:cubicBezTo>
                  <a:pt x="6409" y="11906"/>
                  <a:pt x="6411" y="11917"/>
                  <a:pt x="6474" y="11956"/>
                </a:cubicBezTo>
              </a:path>
              <a:path w="4838" h="2258">
                <a:moveTo>
                  <a:pt x="6474" y="11956"/>
                </a:moveTo>
                <a:lnTo>
                  <a:pt x="6474" y="11956"/>
                </a:lnTo>
              </a:path>
              <a:path w="4838" h="2258">
                <a:moveTo>
                  <a:pt x="4316" y="13295"/>
                </a:moveTo>
                <a:cubicBezTo>
                  <a:pt x="4331" y="13369"/>
                  <a:pt x="4356" y="13440"/>
                  <a:pt x="4366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70000" y="4027320"/>
            <a:ext cx="2384280" cy="866880"/>
          </a:xfrm>
          <a:custGeom>
            <a:avLst/>
            <a:gdLst/>
            <a:ahLst/>
            <a:rect l="l" t="t" r="r" b="b"/>
            <a:pathLst>
              <a:path w="6624" h="2407">
                <a:moveTo>
                  <a:pt x="3373" y="12576"/>
                </a:moveTo>
                <a:cubicBezTo>
                  <a:pt x="3555" y="12576"/>
                  <a:pt x="3737" y="12576"/>
                  <a:pt x="3919" y="12576"/>
                </a:cubicBezTo>
              </a:path>
              <a:path w="6624" h="2407">
                <a:moveTo>
                  <a:pt x="3547" y="12452"/>
                </a:moveTo>
                <a:cubicBezTo>
                  <a:pt x="3443" y="12482"/>
                  <a:pt x="3339" y="12541"/>
                  <a:pt x="3249" y="12601"/>
                </a:cubicBezTo>
                <a:cubicBezTo>
                  <a:pt x="3295" y="12692"/>
                  <a:pt x="3421" y="12755"/>
                  <a:pt x="3522" y="12799"/>
                </a:cubicBezTo>
                <a:cubicBezTo>
                  <a:pt x="3604" y="12835"/>
                  <a:pt x="3620" y="12843"/>
                  <a:pt x="3696" y="12824"/>
                </a:cubicBezTo>
              </a:path>
              <a:path w="6624" h="2407">
                <a:moveTo>
                  <a:pt x="4663" y="12278"/>
                </a:moveTo>
                <a:cubicBezTo>
                  <a:pt x="4641" y="12194"/>
                  <a:pt x="4524" y="12157"/>
                  <a:pt x="4440" y="12179"/>
                </a:cubicBezTo>
                <a:cubicBezTo>
                  <a:pt x="4189" y="12245"/>
                  <a:pt x="4437" y="12642"/>
                  <a:pt x="4490" y="12750"/>
                </a:cubicBezTo>
                <a:cubicBezTo>
                  <a:pt x="4526" y="12823"/>
                  <a:pt x="4543" y="12828"/>
                  <a:pt x="4539" y="12874"/>
                </a:cubicBezTo>
              </a:path>
              <a:path w="6624" h="2407">
                <a:moveTo>
                  <a:pt x="4217" y="12750"/>
                </a:moveTo>
                <a:cubicBezTo>
                  <a:pt x="4437" y="12686"/>
                  <a:pt x="4689" y="12546"/>
                  <a:pt x="4911" y="12675"/>
                </a:cubicBezTo>
                <a:cubicBezTo>
                  <a:pt x="4969" y="12733"/>
                  <a:pt x="4977" y="12742"/>
                  <a:pt x="5011" y="12774"/>
                </a:cubicBezTo>
                <a:cubicBezTo>
                  <a:pt x="5011" y="12674"/>
                  <a:pt x="4992" y="12477"/>
                  <a:pt x="5085" y="12402"/>
                </a:cubicBezTo>
                <a:cubicBezTo>
                  <a:pt x="5102" y="12402"/>
                  <a:pt x="5118" y="12402"/>
                  <a:pt x="5135" y="12402"/>
                </a:cubicBezTo>
              </a:path>
              <a:path w="6624" h="2407">
                <a:moveTo>
                  <a:pt x="5358" y="12526"/>
                </a:moveTo>
                <a:cubicBezTo>
                  <a:pt x="5226" y="12483"/>
                  <a:pt x="5088" y="12423"/>
                  <a:pt x="5060" y="12626"/>
                </a:cubicBezTo>
                <a:cubicBezTo>
                  <a:pt x="5027" y="12861"/>
                  <a:pt x="5277" y="12694"/>
                  <a:pt x="5333" y="12626"/>
                </a:cubicBezTo>
                <a:cubicBezTo>
                  <a:pt x="5341" y="12609"/>
                  <a:pt x="5350" y="12593"/>
                  <a:pt x="5358" y="12576"/>
                </a:cubicBezTo>
                <a:cubicBezTo>
                  <a:pt x="5429" y="12600"/>
                  <a:pt x="5573" y="12711"/>
                  <a:pt x="5655" y="12626"/>
                </a:cubicBezTo>
                <a:cubicBezTo>
                  <a:pt x="5680" y="12576"/>
                  <a:pt x="5705" y="12527"/>
                  <a:pt x="5730" y="12477"/>
                </a:cubicBezTo>
              </a:path>
              <a:path w="6624" h="2407">
                <a:moveTo>
                  <a:pt x="5779" y="12328"/>
                </a:moveTo>
                <a:cubicBezTo>
                  <a:pt x="5680" y="12287"/>
                  <a:pt x="5634" y="12469"/>
                  <a:pt x="5680" y="12551"/>
                </a:cubicBezTo>
                <a:cubicBezTo>
                  <a:pt x="5801" y="12770"/>
                  <a:pt x="6052" y="12513"/>
                  <a:pt x="6152" y="12452"/>
                </a:cubicBezTo>
              </a:path>
              <a:path w="6624" h="2407">
                <a:moveTo>
                  <a:pt x="5978" y="11931"/>
                </a:moveTo>
                <a:cubicBezTo>
                  <a:pt x="6066" y="12106"/>
                  <a:pt x="6165" y="12332"/>
                  <a:pt x="6300" y="12477"/>
                </a:cubicBezTo>
                <a:cubicBezTo>
                  <a:pt x="6325" y="12477"/>
                  <a:pt x="6333" y="12477"/>
                  <a:pt x="6325" y="12452"/>
                </a:cubicBezTo>
              </a:path>
              <a:path w="6624" h="2407">
                <a:moveTo>
                  <a:pt x="6871" y="12005"/>
                </a:moveTo>
                <a:cubicBezTo>
                  <a:pt x="6749" y="12127"/>
                  <a:pt x="6753" y="12187"/>
                  <a:pt x="6772" y="12353"/>
                </a:cubicBezTo>
                <a:cubicBezTo>
                  <a:pt x="6865" y="12353"/>
                  <a:pt x="7114" y="12239"/>
                  <a:pt x="6945" y="12105"/>
                </a:cubicBezTo>
                <a:cubicBezTo>
                  <a:pt x="6871" y="12086"/>
                  <a:pt x="6864" y="12078"/>
                  <a:pt x="6821" y="12080"/>
                </a:cubicBezTo>
                <a:cubicBezTo>
                  <a:pt x="6971" y="12094"/>
                  <a:pt x="7033" y="12129"/>
                  <a:pt x="7144" y="12229"/>
                </a:cubicBezTo>
                <a:cubicBezTo>
                  <a:pt x="7096" y="12134"/>
                  <a:pt x="7046" y="11906"/>
                  <a:pt x="7243" y="11956"/>
                </a:cubicBezTo>
                <a:cubicBezTo>
                  <a:pt x="7365" y="11987"/>
                  <a:pt x="7388" y="12053"/>
                  <a:pt x="7417" y="12154"/>
                </a:cubicBezTo>
              </a:path>
              <a:path w="6624" h="2407">
                <a:moveTo>
                  <a:pt x="8086" y="11187"/>
                </a:moveTo>
                <a:cubicBezTo>
                  <a:pt x="7790" y="11249"/>
                  <a:pt x="7774" y="11425"/>
                  <a:pt x="7913" y="11708"/>
                </a:cubicBezTo>
                <a:cubicBezTo>
                  <a:pt x="7936" y="11755"/>
                  <a:pt x="8253" y="12077"/>
                  <a:pt x="8136" y="12030"/>
                </a:cubicBezTo>
              </a:path>
              <a:path w="6624" h="2407">
                <a:moveTo>
                  <a:pt x="7813" y="11832"/>
                </a:moveTo>
                <a:cubicBezTo>
                  <a:pt x="8019" y="11752"/>
                  <a:pt x="8222" y="11673"/>
                  <a:pt x="8434" y="11609"/>
                </a:cubicBezTo>
                <a:cubicBezTo>
                  <a:pt x="8409" y="11675"/>
                  <a:pt x="8227" y="11892"/>
                  <a:pt x="8359" y="11956"/>
                </a:cubicBezTo>
                <a:cubicBezTo>
                  <a:pt x="8508" y="12028"/>
                  <a:pt x="8877" y="11812"/>
                  <a:pt x="8657" y="11658"/>
                </a:cubicBezTo>
                <a:cubicBezTo>
                  <a:pt x="8518" y="11612"/>
                  <a:pt x="8478" y="11594"/>
                  <a:pt x="8384" y="11633"/>
                </a:cubicBezTo>
              </a:path>
              <a:path w="6624" h="2407">
                <a:moveTo>
                  <a:pt x="8880" y="11757"/>
                </a:moveTo>
                <a:cubicBezTo>
                  <a:pt x="8888" y="11765"/>
                  <a:pt x="8897" y="11774"/>
                  <a:pt x="8905" y="11782"/>
                </a:cubicBezTo>
                <a:cubicBezTo>
                  <a:pt x="8863" y="11615"/>
                  <a:pt x="8856" y="11567"/>
                  <a:pt x="8930" y="11410"/>
                </a:cubicBezTo>
              </a:path>
              <a:path w="6624" h="2407">
                <a:moveTo>
                  <a:pt x="9103" y="11559"/>
                </a:moveTo>
                <a:cubicBezTo>
                  <a:pt x="9111" y="11592"/>
                  <a:pt x="9120" y="11625"/>
                  <a:pt x="9128" y="11658"/>
                </a:cubicBezTo>
                <a:cubicBezTo>
                  <a:pt x="9124" y="11654"/>
                  <a:pt x="9062" y="11425"/>
                  <a:pt x="9178" y="11361"/>
                </a:cubicBezTo>
                <a:cubicBezTo>
                  <a:pt x="9315" y="11285"/>
                  <a:pt x="9424" y="11490"/>
                  <a:pt x="9451" y="11584"/>
                </a:cubicBezTo>
                <a:cubicBezTo>
                  <a:pt x="9407" y="11407"/>
                  <a:pt x="9426" y="11334"/>
                  <a:pt x="9550" y="11212"/>
                </a:cubicBezTo>
                <a:cubicBezTo>
                  <a:pt x="9666" y="11356"/>
                  <a:pt x="9688" y="11484"/>
                  <a:pt x="9872" y="11485"/>
                </a:cubicBezTo>
              </a:path>
              <a:path w="6624" h="2407">
                <a:moveTo>
                  <a:pt x="4118" y="13271"/>
                </a:moveTo>
                <a:cubicBezTo>
                  <a:pt x="4109" y="13331"/>
                  <a:pt x="4044" y="13554"/>
                  <a:pt x="4093" y="13593"/>
                </a:cubicBezTo>
                <a:cubicBezTo>
                  <a:pt x="4118" y="13593"/>
                  <a:pt x="4142" y="13593"/>
                  <a:pt x="4167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25760" y="4724280"/>
            <a:ext cx="249120" cy="293760"/>
          </a:xfrm>
          <a:custGeom>
            <a:avLst/>
            <a:gdLst/>
            <a:ahLst/>
            <a:rect l="l" t="t" r="r" b="b"/>
            <a:pathLst>
              <a:path w="696" h="819">
                <a:moveTo>
                  <a:pt x="4614" y="13122"/>
                </a:moveTo>
                <a:cubicBezTo>
                  <a:pt x="4652" y="13347"/>
                  <a:pt x="4606" y="13541"/>
                  <a:pt x="4589" y="13767"/>
                </a:cubicBezTo>
                <a:cubicBezTo>
                  <a:pt x="4581" y="13878"/>
                  <a:pt x="4646" y="14005"/>
                  <a:pt x="4787" y="13915"/>
                </a:cubicBezTo>
                <a:cubicBezTo>
                  <a:pt x="4867" y="13836"/>
                  <a:pt x="4875" y="13816"/>
                  <a:pt x="4936" y="13791"/>
                </a:cubicBezTo>
              </a:path>
              <a:path w="696" h="819">
                <a:moveTo>
                  <a:pt x="4514" y="13692"/>
                </a:moveTo>
                <a:cubicBezTo>
                  <a:pt x="4622" y="13643"/>
                  <a:pt x="4844" y="13511"/>
                  <a:pt x="4961" y="13519"/>
                </a:cubicBezTo>
                <a:cubicBezTo>
                  <a:pt x="4969" y="13527"/>
                  <a:pt x="4978" y="13535"/>
                  <a:pt x="4986" y="13543"/>
                </a:cubicBezTo>
                <a:cubicBezTo>
                  <a:pt x="4966" y="13647"/>
                  <a:pt x="4956" y="13693"/>
                  <a:pt x="4986" y="13791"/>
                </a:cubicBezTo>
                <a:cubicBezTo>
                  <a:pt x="5088" y="13765"/>
                  <a:pt x="5338" y="13645"/>
                  <a:pt x="5159" y="13494"/>
                </a:cubicBezTo>
                <a:cubicBezTo>
                  <a:pt x="5070" y="13472"/>
                  <a:pt x="5045" y="13471"/>
                  <a:pt x="5011" y="134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1880" y="4714920"/>
            <a:ext cx="63360" cy="88920"/>
          </a:xfrm>
          <a:custGeom>
            <a:avLst/>
            <a:gdLst/>
            <a:ahLst/>
            <a:rect l="l" t="t" r="r" b="b"/>
            <a:pathLst>
              <a:path w="175" h="249">
                <a:moveTo>
                  <a:pt x="5283" y="13097"/>
                </a:moveTo>
                <a:cubicBezTo>
                  <a:pt x="5310" y="13178"/>
                  <a:pt x="5344" y="13261"/>
                  <a:pt x="5358" y="13345"/>
                </a:cubicBezTo>
              </a:path>
              <a:path w="175" h="249">
                <a:moveTo>
                  <a:pt x="5457" y="13271"/>
                </a:moveTo>
                <a:cubicBezTo>
                  <a:pt x="5457" y="13287"/>
                  <a:pt x="5457" y="13304"/>
                  <a:pt x="5457" y="13320"/>
                </a:cubicBezTo>
              </a:path>
              <a:path w="175" h="249">
                <a:moveTo>
                  <a:pt x="5457" y="13320"/>
                </a:moveTo>
                <a:lnTo>
                  <a:pt x="5457" y="1332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Ratios in Simplest Form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write a ratio in simplest form - simplify by dividing both numbers by their GCF (greatest common fa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15 to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8: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3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76520" y="4876920"/>
          <a:ext cx="45720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876920"/>
                    <a:ext cx="4572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313160" y="3116160"/>
            <a:ext cx="17640" cy="179640"/>
          </a:xfrm>
          <a:custGeom>
            <a:avLst/>
            <a:gdLst/>
            <a:ahLst/>
            <a:rect l="l" t="t" r="r" b="b"/>
            <a:pathLst>
              <a:path w="50" h="497">
                <a:moveTo>
                  <a:pt x="11981" y="8657"/>
                </a:moveTo>
                <a:lnTo>
                  <a:pt x="11981" y="8657"/>
                </a:lnTo>
              </a:path>
              <a:path w="50" h="497">
                <a:moveTo>
                  <a:pt x="12030" y="9153"/>
                </a:moveTo>
                <a:lnTo>
                  <a:pt x="12030" y="915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41840" y="2874960"/>
            <a:ext cx="642960" cy="554040"/>
          </a:xfrm>
          <a:custGeom>
            <a:avLst/>
            <a:gdLst/>
            <a:ahLst/>
            <a:rect l="l" t="t" r="r" b="b"/>
            <a:pathLst>
              <a:path w="1787" h="1539">
                <a:moveTo>
                  <a:pt x="10716" y="8037"/>
                </a:moveTo>
                <a:cubicBezTo>
                  <a:pt x="10716" y="7903"/>
                  <a:pt x="10675" y="8251"/>
                  <a:pt x="10666" y="8384"/>
                </a:cubicBezTo>
                <a:cubicBezTo>
                  <a:pt x="10666" y="8509"/>
                  <a:pt x="10674" y="8537"/>
                  <a:pt x="10641" y="8607"/>
                </a:cubicBezTo>
              </a:path>
              <a:path w="1787" h="1539">
                <a:moveTo>
                  <a:pt x="11311" y="7987"/>
                </a:moveTo>
                <a:cubicBezTo>
                  <a:pt x="11283" y="7998"/>
                  <a:pt x="11152" y="8024"/>
                  <a:pt x="11137" y="8037"/>
                </a:cubicBezTo>
                <a:cubicBezTo>
                  <a:pt x="11080" y="8085"/>
                  <a:pt x="11051" y="8193"/>
                  <a:pt x="11013" y="8260"/>
                </a:cubicBezTo>
                <a:cubicBezTo>
                  <a:pt x="11090" y="8299"/>
                  <a:pt x="11209" y="8255"/>
                  <a:pt x="11286" y="8310"/>
                </a:cubicBezTo>
                <a:cubicBezTo>
                  <a:pt x="11430" y="8413"/>
                  <a:pt x="11265" y="8561"/>
                  <a:pt x="11162" y="8582"/>
                </a:cubicBezTo>
                <a:cubicBezTo>
                  <a:pt x="11101" y="8582"/>
                  <a:pt x="11086" y="8591"/>
                  <a:pt x="11063" y="8558"/>
                </a:cubicBezTo>
              </a:path>
              <a:path w="1787" h="1539">
                <a:moveTo>
                  <a:pt x="10393" y="8905"/>
                </a:moveTo>
                <a:cubicBezTo>
                  <a:pt x="10667" y="8824"/>
                  <a:pt x="10928" y="8809"/>
                  <a:pt x="11212" y="8781"/>
                </a:cubicBezTo>
                <a:cubicBezTo>
                  <a:pt x="11350" y="8767"/>
                  <a:pt x="11451" y="8756"/>
                  <a:pt x="11584" y="8756"/>
                </a:cubicBezTo>
              </a:path>
              <a:path w="1787" h="1539">
                <a:moveTo>
                  <a:pt x="10765" y="9004"/>
                </a:moveTo>
                <a:cubicBezTo>
                  <a:pt x="10852" y="9033"/>
                  <a:pt x="10769" y="9303"/>
                  <a:pt x="10765" y="9376"/>
                </a:cubicBezTo>
                <a:cubicBezTo>
                  <a:pt x="10765" y="9467"/>
                  <a:pt x="10765" y="9475"/>
                  <a:pt x="10765" y="9525"/>
                </a:cubicBezTo>
              </a:path>
              <a:path w="1787" h="1539">
                <a:moveTo>
                  <a:pt x="11435" y="9004"/>
                </a:moveTo>
                <a:cubicBezTo>
                  <a:pt x="11330" y="9004"/>
                  <a:pt x="11244" y="8998"/>
                  <a:pt x="11187" y="9103"/>
                </a:cubicBezTo>
                <a:cubicBezTo>
                  <a:pt x="11187" y="9111"/>
                  <a:pt x="11187" y="9120"/>
                  <a:pt x="11187" y="9128"/>
                </a:cubicBezTo>
                <a:cubicBezTo>
                  <a:pt x="11273" y="9182"/>
                  <a:pt x="11457" y="9227"/>
                  <a:pt x="11485" y="9351"/>
                </a:cubicBezTo>
                <a:cubicBezTo>
                  <a:pt x="11510" y="9460"/>
                  <a:pt x="11348" y="9429"/>
                  <a:pt x="11311" y="9426"/>
                </a:cubicBezTo>
                <a:cubicBezTo>
                  <a:pt x="11311" y="9270"/>
                  <a:pt x="11326" y="9152"/>
                  <a:pt x="11435" y="9029"/>
                </a:cubicBezTo>
                <a:cubicBezTo>
                  <a:pt x="11450" y="9012"/>
                  <a:pt x="11487" y="9021"/>
                  <a:pt x="11435" y="9004"/>
                </a:cubicBezTo>
              </a:path>
              <a:path w="1787" h="1539">
                <a:moveTo>
                  <a:pt x="11931" y="8855"/>
                </a:moveTo>
                <a:cubicBezTo>
                  <a:pt x="11862" y="8855"/>
                  <a:pt x="12043" y="8879"/>
                  <a:pt x="12055" y="8880"/>
                </a:cubicBezTo>
                <a:cubicBezTo>
                  <a:pt x="12096" y="8882"/>
                  <a:pt x="12138" y="8880"/>
                  <a:pt x="12179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03920" y="2446200"/>
            <a:ext cx="706320" cy="27000"/>
          </a:xfrm>
          <a:custGeom>
            <a:avLst/>
            <a:gdLst/>
            <a:ahLst/>
            <a:rect l="l" t="t" r="r" b="b"/>
            <a:pathLst>
              <a:path w="1961" h="76">
                <a:moveTo>
                  <a:pt x="16123" y="6821"/>
                </a:moveTo>
                <a:cubicBezTo>
                  <a:pt x="16254" y="6765"/>
                  <a:pt x="16473" y="6796"/>
                  <a:pt x="16619" y="6796"/>
                </a:cubicBezTo>
                <a:cubicBezTo>
                  <a:pt x="16992" y="6796"/>
                  <a:pt x="17362" y="6834"/>
                  <a:pt x="17735" y="6846"/>
                </a:cubicBezTo>
                <a:cubicBezTo>
                  <a:pt x="17889" y="6851"/>
                  <a:pt x="17950" y="6854"/>
                  <a:pt x="18083" y="68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73720" y="2874960"/>
            <a:ext cx="876240" cy="1536840"/>
          </a:xfrm>
          <a:custGeom>
            <a:avLst/>
            <a:gdLst/>
            <a:ahLst/>
            <a:rect l="l" t="t" r="r" b="b"/>
            <a:pathLst>
              <a:path w="2432" h="4268">
                <a:moveTo>
                  <a:pt x="12427" y="8558"/>
                </a:moveTo>
                <a:cubicBezTo>
                  <a:pt x="12427" y="8486"/>
                  <a:pt x="12448" y="8479"/>
                  <a:pt x="12526" y="8458"/>
                </a:cubicBezTo>
                <a:cubicBezTo>
                  <a:pt x="12568" y="8447"/>
                  <a:pt x="12606" y="8419"/>
                  <a:pt x="12626" y="8458"/>
                </a:cubicBezTo>
                <a:cubicBezTo>
                  <a:pt x="12647" y="8499"/>
                  <a:pt x="12602" y="8491"/>
                  <a:pt x="12650" y="8508"/>
                </a:cubicBezTo>
              </a:path>
              <a:path w="2432" h="4268">
                <a:moveTo>
                  <a:pt x="12477" y="8062"/>
                </a:moveTo>
                <a:cubicBezTo>
                  <a:pt x="12525" y="8043"/>
                  <a:pt x="12572" y="8012"/>
                  <a:pt x="12626" y="7987"/>
                </a:cubicBezTo>
                <a:cubicBezTo>
                  <a:pt x="12608" y="8113"/>
                  <a:pt x="12547" y="8160"/>
                  <a:pt x="12477" y="8260"/>
                </a:cubicBezTo>
                <a:cubicBezTo>
                  <a:pt x="12547" y="8242"/>
                  <a:pt x="12586" y="8168"/>
                  <a:pt x="12650" y="8260"/>
                </a:cubicBezTo>
                <a:cubicBezTo>
                  <a:pt x="12746" y="8397"/>
                  <a:pt x="12539" y="8439"/>
                  <a:pt x="12477" y="8508"/>
                </a:cubicBezTo>
                <a:cubicBezTo>
                  <a:pt x="12477" y="8516"/>
                  <a:pt x="12477" y="8525"/>
                  <a:pt x="12477" y="8533"/>
                </a:cubicBezTo>
              </a:path>
              <a:path w="2432" h="4268">
                <a:moveTo>
                  <a:pt x="12427" y="8954"/>
                </a:moveTo>
                <a:cubicBezTo>
                  <a:pt x="12634" y="8881"/>
                  <a:pt x="12831" y="8805"/>
                  <a:pt x="13047" y="8781"/>
                </a:cubicBezTo>
              </a:path>
              <a:path w="2432" h="4268">
                <a:moveTo>
                  <a:pt x="12576" y="9103"/>
                </a:moveTo>
                <a:cubicBezTo>
                  <a:pt x="12623" y="9089"/>
                  <a:pt x="12767" y="9039"/>
                  <a:pt x="12774" y="9103"/>
                </a:cubicBezTo>
                <a:cubicBezTo>
                  <a:pt x="12774" y="9190"/>
                  <a:pt x="12769" y="9225"/>
                  <a:pt x="12725" y="9277"/>
                </a:cubicBezTo>
                <a:cubicBezTo>
                  <a:pt x="12708" y="9285"/>
                  <a:pt x="12692" y="9294"/>
                  <a:pt x="12675" y="9302"/>
                </a:cubicBezTo>
                <a:cubicBezTo>
                  <a:pt x="12709" y="9256"/>
                  <a:pt x="12811" y="9218"/>
                  <a:pt x="12799" y="9327"/>
                </a:cubicBezTo>
                <a:cubicBezTo>
                  <a:pt x="12786" y="9442"/>
                  <a:pt x="12506" y="9592"/>
                  <a:pt x="12576" y="9500"/>
                </a:cubicBezTo>
                <a:cubicBezTo>
                  <a:pt x="12609" y="9467"/>
                  <a:pt x="12642" y="9434"/>
                  <a:pt x="12675" y="9401"/>
                </a:cubicBezTo>
              </a:path>
              <a:path w="2432" h="4268">
                <a:moveTo>
                  <a:pt x="13419" y="8830"/>
                </a:moveTo>
                <a:cubicBezTo>
                  <a:pt x="13460" y="8830"/>
                  <a:pt x="13569" y="8791"/>
                  <a:pt x="13593" y="8806"/>
                </a:cubicBezTo>
                <a:cubicBezTo>
                  <a:pt x="13593" y="8814"/>
                  <a:pt x="13593" y="8822"/>
                  <a:pt x="13593" y="8830"/>
                </a:cubicBezTo>
              </a:path>
              <a:path w="2432" h="4268">
                <a:moveTo>
                  <a:pt x="13345" y="9079"/>
                </a:moveTo>
                <a:cubicBezTo>
                  <a:pt x="13429" y="9058"/>
                  <a:pt x="13508" y="9038"/>
                  <a:pt x="13593" y="9029"/>
                </a:cubicBezTo>
              </a:path>
              <a:path w="2432" h="4268">
                <a:moveTo>
                  <a:pt x="14536" y="8012"/>
                </a:moveTo>
                <a:cubicBezTo>
                  <a:pt x="14442" y="8023"/>
                  <a:pt x="14359" y="8056"/>
                  <a:pt x="14263" y="8062"/>
                </a:cubicBezTo>
                <a:cubicBezTo>
                  <a:pt x="14210" y="8065"/>
                  <a:pt x="14216" y="8164"/>
                  <a:pt x="14213" y="8210"/>
                </a:cubicBezTo>
                <a:cubicBezTo>
                  <a:pt x="14213" y="8235"/>
                  <a:pt x="14213" y="8243"/>
                  <a:pt x="14213" y="8260"/>
                </a:cubicBezTo>
                <a:cubicBezTo>
                  <a:pt x="14340" y="8209"/>
                  <a:pt x="14441" y="8156"/>
                  <a:pt x="14511" y="8285"/>
                </a:cubicBezTo>
                <a:cubicBezTo>
                  <a:pt x="14625" y="8494"/>
                  <a:pt x="14335" y="8521"/>
                  <a:pt x="14213" y="8533"/>
                </a:cubicBezTo>
              </a:path>
              <a:path w="2432" h="4268">
                <a:moveTo>
                  <a:pt x="13915" y="8756"/>
                </a:moveTo>
                <a:cubicBezTo>
                  <a:pt x="13790" y="8756"/>
                  <a:pt x="14113" y="8780"/>
                  <a:pt x="14238" y="8781"/>
                </a:cubicBezTo>
                <a:cubicBezTo>
                  <a:pt x="14403" y="8783"/>
                  <a:pt x="14772" y="8728"/>
                  <a:pt x="14858" y="8830"/>
                </a:cubicBezTo>
              </a:path>
              <a:path w="2432" h="4268">
                <a:moveTo>
                  <a:pt x="14213" y="8979"/>
                </a:moveTo>
                <a:cubicBezTo>
                  <a:pt x="14149" y="8936"/>
                  <a:pt x="14172" y="9073"/>
                  <a:pt x="14163" y="9128"/>
                </a:cubicBezTo>
                <a:cubicBezTo>
                  <a:pt x="14148" y="9215"/>
                  <a:pt x="14092" y="9330"/>
                  <a:pt x="14188" y="9376"/>
                </a:cubicBezTo>
                <a:cubicBezTo>
                  <a:pt x="14298" y="9428"/>
                  <a:pt x="14454" y="9359"/>
                  <a:pt x="14536" y="9277"/>
                </a:cubicBezTo>
                <a:cubicBezTo>
                  <a:pt x="14573" y="9240"/>
                  <a:pt x="14517" y="9161"/>
                  <a:pt x="14486" y="9153"/>
                </a:cubicBezTo>
                <a:cubicBezTo>
                  <a:pt x="14402" y="9132"/>
                  <a:pt x="14377" y="9242"/>
                  <a:pt x="14362" y="9302"/>
                </a:cubicBezTo>
                <a:cubicBezTo>
                  <a:pt x="14357" y="9323"/>
                  <a:pt x="14394" y="9352"/>
                  <a:pt x="14412" y="9376"/>
                </a:cubicBezTo>
              </a:path>
              <a:path w="2432" h="4268">
                <a:moveTo>
                  <a:pt x="12849" y="10592"/>
                </a:moveTo>
                <a:cubicBezTo>
                  <a:pt x="12870" y="10755"/>
                  <a:pt x="12851" y="10819"/>
                  <a:pt x="12774" y="10964"/>
                </a:cubicBezTo>
                <a:cubicBezTo>
                  <a:pt x="12920" y="10964"/>
                  <a:pt x="13053" y="10938"/>
                  <a:pt x="13196" y="10914"/>
                </a:cubicBezTo>
                <a:cubicBezTo>
                  <a:pt x="13204" y="10914"/>
                  <a:pt x="13213" y="10914"/>
                  <a:pt x="13221" y="10914"/>
                </a:cubicBezTo>
              </a:path>
              <a:path w="2432" h="4268">
                <a:moveTo>
                  <a:pt x="13271" y="10368"/>
                </a:moveTo>
                <a:cubicBezTo>
                  <a:pt x="13239" y="10636"/>
                  <a:pt x="13209" y="10900"/>
                  <a:pt x="13146" y="11162"/>
                </a:cubicBezTo>
                <a:cubicBezTo>
                  <a:pt x="13138" y="11187"/>
                  <a:pt x="13130" y="11212"/>
                  <a:pt x="13122" y="11237"/>
                </a:cubicBezTo>
              </a:path>
              <a:path w="2432" h="4268">
                <a:moveTo>
                  <a:pt x="13171" y="11782"/>
                </a:moveTo>
                <a:cubicBezTo>
                  <a:pt x="13171" y="11835"/>
                  <a:pt x="13121" y="11637"/>
                  <a:pt x="13097" y="11609"/>
                </a:cubicBezTo>
                <a:cubicBezTo>
                  <a:pt x="12955" y="11448"/>
                  <a:pt x="12729" y="11743"/>
                  <a:pt x="12725" y="11881"/>
                </a:cubicBezTo>
                <a:cubicBezTo>
                  <a:pt x="12741" y="11906"/>
                  <a:pt x="12758" y="11931"/>
                  <a:pt x="12774" y="11956"/>
                </a:cubicBezTo>
                <a:cubicBezTo>
                  <a:pt x="12956" y="11936"/>
                  <a:pt x="13075" y="11907"/>
                  <a:pt x="13171" y="11733"/>
                </a:cubicBezTo>
                <a:cubicBezTo>
                  <a:pt x="13171" y="11708"/>
                  <a:pt x="13171" y="11700"/>
                  <a:pt x="13171" y="11683"/>
                </a:cubicBezTo>
                <a:cubicBezTo>
                  <a:pt x="13159" y="11842"/>
                  <a:pt x="13154" y="12028"/>
                  <a:pt x="13097" y="12179"/>
                </a:cubicBezTo>
                <a:cubicBezTo>
                  <a:pt x="13082" y="12218"/>
                  <a:pt x="13072" y="12208"/>
                  <a:pt x="13072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59280" y="3081240"/>
            <a:ext cx="527400" cy="1071720"/>
          </a:xfrm>
          <a:custGeom>
            <a:avLst/>
            <a:gdLst/>
            <a:ahLst/>
            <a:rect l="l" t="t" r="r" b="b"/>
            <a:pathLst>
              <a:path w="1464" h="2977">
                <a:moveTo>
                  <a:pt x="16421" y="8582"/>
                </a:moveTo>
                <a:cubicBezTo>
                  <a:pt x="16363" y="8582"/>
                  <a:pt x="16299" y="8507"/>
                  <a:pt x="16272" y="8558"/>
                </a:cubicBezTo>
                <a:cubicBezTo>
                  <a:pt x="16236" y="8627"/>
                  <a:pt x="16193" y="8695"/>
                  <a:pt x="16173" y="8781"/>
                </a:cubicBezTo>
                <a:cubicBezTo>
                  <a:pt x="16173" y="8789"/>
                  <a:pt x="16173" y="8798"/>
                  <a:pt x="16173" y="8806"/>
                </a:cubicBezTo>
                <a:cubicBezTo>
                  <a:pt x="16272" y="8847"/>
                  <a:pt x="16428" y="8901"/>
                  <a:pt x="16446" y="9029"/>
                </a:cubicBezTo>
                <a:cubicBezTo>
                  <a:pt x="16464" y="9159"/>
                  <a:pt x="16174" y="9166"/>
                  <a:pt x="16098" y="9178"/>
                </a:cubicBezTo>
                <a:cubicBezTo>
                  <a:pt x="16090" y="9178"/>
                  <a:pt x="16081" y="9178"/>
                  <a:pt x="16073" y="9178"/>
                </a:cubicBezTo>
              </a:path>
              <a:path w="1464" h="2977">
                <a:moveTo>
                  <a:pt x="16718" y="8682"/>
                </a:moveTo>
                <a:cubicBezTo>
                  <a:pt x="16745" y="8717"/>
                  <a:pt x="16743" y="8712"/>
                  <a:pt x="16743" y="8756"/>
                </a:cubicBezTo>
              </a:path>
              <a:path w="1464" h="2977">
                <a:moveTo>
                  <a:pt x="16743" y="9153"/>
                </a:moveTo>
                <a:cubicBezTo>
                  <a:pt x="16743" y="9076"/>
                  <a:pt x="16743" y="9148"/>
                  <a:pt x="16743" y="9103"/>
                </a:cubicBezTo>
              </a:path>
              <a:path w="1464" h="2977">
                <a:moveTo>
                  <a:pt x="17140" y="8632"/>
                </a:moveTo>
                <a:cubicBezTo>
                  <a:pt x="17125" y="8753"/>
                  <a:pt x="17101" y="8878"/>
                  <a:pt x="17090" y="9004"/>
                </a:cubicBezTo>
                <a:cubicBezTo>
                  <a:pt x="17080" y="9121"/>
                  <a:pt x="17120" y="9168"/>
                  <a:pt x="17239" y="9153"/>
                </a:cubicBezTo>
                <a:cubicBezTo>
                  <a:pt x="17366" y="9137"/>
                  <a:pt x="17445" y="9077"/>
                  <a:pt x="17462" y="8954"/>
                </a:cubicBezTo>
                <a:cubicBezTo>
                  <a:pt x="17462" y="8946"/>
                  <a:pt x="17462" y="8938"/>
                  <a:pt x="17462" y="8930"/>
                </a:cubicBezTo>
                <a:cubicBezTo>
                  <a:pt x="17342" y="8905"/>
                  <a:pt x="17328" y="8902"/>
                  <a:pt x="17264" y="9029"/>
                </a:cubicBezTo>
                <a:cubicBezTo>
                  <a:pt x="17206" y="9145"/>
                  <a:pt x="17235" y="9143"/>
                  <a:pt x="17338" y="9178"/>
                </a:cubicBezTo>
              </a:path>
              <a:path w="1464" h="2977">
                <a:moveTo>
                  <a:pt x="16073" y="10592"/>
                </a:moveTo>
                <a:cubicBezTo>
                  <a:pt x="16073" y="10835"/>
                  <a:pt x="16037" y="11069"/>
                  <a:pt x="16024" y="11311"/>
                </a:cubicBezTo>
                <a:cubicBezTo>
                  <a:pt x="16024" y="11445"/>
                  <a:pt x="16042" y="11468"/>
                  <a:pt x="15999" y="11534"/>
                </a:cubicBezTo>
              </a:path>
              <a:path w="1464" h="2977">
                <a:moveTo>
                  <a:pt x="17016" y="10889"/>
                </a:moveTo>
                <a:cubicBezTo>
                  <a:pt x="17003" y="10824"/>
                  <a:pt x="16965" y="10670"/>
                  <a:pt x="16867" y="10691"/>
                </a:cubicBezTo>
                <a:cubicBezTo>
                  <a:pt x="16618" y="10746"/>
                  <a:pt x="16657" y="10994"/>
                  <a:pt x="16743" y="11137"/>
                </a:cubicBezTo>
                <a:cubicBezTo>
                  <a:pt x="16861" y="11034"/>
                  <a:pt x="16944" y="10977"/>
                  <a:pt x="16966" y="10815"/>
                </a:cubicBezTo>
                <a:cubicBezTo>
                  <a:pt x="17022" y="11014"/>
                  <a:pt x="17057" y="11202"/>
                  <a:pt x="17066" y="11410"/>
                </a:cubicBezTo>
                <a:cubicBezTo>
                  <a:pt x="17066" y="11435"/>
                  <a:pt x="17066" y="11443"/>
                  <a:pt x="17066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24800" y="2990880"/>
            <a:ext cx="919080" cy="1027080"/>
          </a:xfrm>
          <a:custGeom>
            <a:avLst/>
            <a:gdLst/>
            <a:ahLst/>
            <a:rect l="l" t="t" r="r" b="b"/>
            <a:pathLst>
              <a:path w="2556" h="2853">
                <a:moveTo>
                  <a:pt x="19224" y="8458"/>
                </a:moveTo>
                <a:cubicBezTo>
                  <a:pt x="19184" y="8482"/>
                  <a:pt x="18987" y="8493"/>
                  <a:pt x="18976" y="8508"/>
                </a:cubicBezTo>
                <a:cubicBezTo>
                  <a:pt x="18934" y="8566"/>
                  <a:pt x="18926" y="8662"/>
                  <a:pt x="18926" y="8731"/>
                </a:cubicBezTo>
                <a:cubicBezTo>
                  <a:pt x="18999" y="8731"/>
                  <a:pt x="19112" y="8711"/>
                  <a:pt x="19174" y="8756"/>
                </a:cubicBezTo>
                <a:cubicBezTo>
                  <a:pt x="19347" y="8880"/>
                  <a:pt x="19103" y="9016"/>
                  <a:pt x="19000" y="9029"/>
                </a:cubicBezTo>
                <a:cubicBezTo>
                  <a:pt x="18885" y="9029"/>
                  <a:pt x="18868" y="9029"/>
                  <a:pt x="18802" y="9029"/>
                </a:cubicBezTo>
              </a:path>
              <a:path w="2556" h="2853">
                <a:moveTo>
                  <a:pt x="19745" y="8409"/>
                </a:moveTo>
                <a:cubicBezTo>
                  <a:pt x="19745" y="8562"/>
                  <a:pt x="19699" y="8732"/>
                  <a:pt x="19720" y="8880"/>
                </a:cubicBezTo>
                <a:cubicBezTo>
                  <a:pt x="19738" y="9008"/>
                  <a:pt x="19956" y="8902"/>
                  <a:pt x="20017" y="8880"/>
                </a:cubicBezTo>
              </a:path>
              <a:path w="2556" h="2853">
                <a:moveTo>
                  <a:pt x="19571" y="8756"/>
                </a:moveTo>
                <a:cubicBezTo>
                  <a:pt x="19699" y="8703"/>
                  <a:pt x="19874" y="8627"/>
                  <a:pt x="20017" y="8632"/>
                </a:cubicBezTo>
                <a:cubicBezTo>
                  <a:pt x="20034" y="8640"/>
                  <a:pt x="20050" y="8649"/>
                  <a:pt x="20067" y="8657"/>
                </a:cubicBezTo>
              </a:path>
              <a:path w="2556" h="2853">
                <a:moveTo>
                  <a:pt x="20265" y="8632"/>
                </a:moveTo>
                <a:cubicBezTo>
                  <a:pt x="20156" y="8660"/>
                  <a:pt x="20155" y="8761"/>
                  <a:pt x="20141" y="8855"/>
                </a:cubicBezTo>
                <a:cubicBezTo>
                  <a:pt x="20141" y="8863"/>
                  <a:pt x="20141" y="8872"/>
                  <a:pt x="20141" y="8880"/>
                </a:cubicBezTo>
                <a:cubicBezTo>
                  <a:pt x="20249" y="8846"/>
                  <a:pt x="20533" y="8748"/>
                  <a:pt x="20315" y="8607"/>
                </a:cubicBezTo>
                <a:cubicBezTo>
                  <a:pt x="20238" y="8588"/>
                  <a:pt x="20221" y="8595"/>
                  <a:pt x="20191" y="8558"/>
                </a:cubicBezTo>
              </a:path>
              <a:path w="2556" h="2853">
                <a:moveTo>
                  <a:pt x="20886" y="8310"/>
                </a:moveTo>
                <a:cubicBezTo>
                  <a:pt x="20869" y="8426"/>
                  <a:pt x="20826" y="8541"/>
                  <a:pt x="20811" y="8657"/>
                </a:cubicBezTo>
                <a:cubicBezTo>
                  <a:pt x="20796" y="8775"/>
                  <a:pt x="20824" y="8863"/>
                  <a:pt x="20960" y="8855"/>
                </a:cubicBezTo>
                <a:cubicBezTo>
                  <a:pt x="21094" y="8847"/>
                  <a:pt x="21177" y="8759"/>
                  <a:pt x="21233" y="8657"/>
                </a:cubicBezTo>
                <a:cubicBezTo>
                  <a:pt x="21219" y="8601"/>
                  <a:pt x="21151" y="8553"/>
                  <a:pt x="21084" y="8582"/>
                </a:cubicBezTo>
                <a:cubicBezTo>
                  <a:pt x="20975" y="8629"/>
                  <a:pt x="20991" y="8724"/>
                  <a:pt x="21010" y="8806"/>
                </a:cubicBezTo>
                <a:cubicBezTo>
                  <a:pt x="21010" y="8814"/>
                  <a:pt x="21010" y="8822"/>
                  <a:pt x="21010" y="8830"/>
                </a:cubicBezTo>
              </a:path>
              <a:path w="2556" h="2853">
                <a:moveTo>
                  <a:pt x="18678" y="10517"/>
                </a:moveTo>
                <a:cubicBezTo>
                  <a:pt x="18703" y="10517"/>
                  <a:pt x="18711" y="10517"/>
                  <a:pt x="18728" y="10517"/>
                </a:cubicBezTo>
                <a:cubicBezTo>
                  <a:pt x="18712" y="10610"/>
                  <a:pt x="18685" y="10695"/>
                  <a:pt x="18678" y="10790"/>
                </a:cubicBezTo>
                <a:cubicBezTo>
                  <a:pt x="18848" y="10790"/>
                  <a:pt x="18964" y="10762"/>
                  <a:pt x="19124" y="10716"/>
                </a:cubicBezTo>
              </a:path>
              <a:path w="2556" h="2853">
                <a:moveTo>
                  <a:pt x="19000" y="10344"/>
                </a:moveTo>
                <a:cubicBezTo>
                  <a:pt x="19000" y="10602"/>
                  <a:pt x="19019" y="10855"/>
                  <a:pt x="19025" y="11112"/>
                </a:cubicBezTo>
                <a:cubicBezTo>
                  <a:pt x="19025" y="11157"/>
                  <a:pt x="19022" y="11177"/>
                  <a:pt x="19050" y="11137"/>
                </a:cubicBezTo>
              </a:path>
              <a:path w="2556" h="2853">
                <a:moveTo>
                  <a:pt x="19596" y="10418"/>
                </a:moveTo>
                <a:cubicBezTo>
                  <a:pt x="19596" y="10592"/>
                  <a:pt x="19544" y="10851"/>
                  <a:pt x="19621" y="11013"/>
                </a:cubicBezTo>
                <a:cubicBezTo>
                  <a:pt x="19681" y="11139"/>
                  <a:pt x="19950" y="11012"/>
                  <a:pt x="20017" y="10964"/>
                </a:cubicBezTo>
                <a:cubicBezTo>
                  <a:pt x="20017" y="10956"/>
                  <a:pt x="20017" y="10947"/>
                  <a:pt x="20017" y="10939"/>
                </a:cubicBezTo>
              </a:path>
              <a:path w="2556" h="2853">
                <a:moveTo>
                  <a:pt x="20216" y="10641"/>
                </a:moveTo>
                <a:cubicBezTo>
                  <a:pt x="20142" y="10751"/>
                  <a:pt x="20126" y="10800"/>
                  <a:pt x="20117" y="10939"/>
                </a:cubicBezTo>
                <a:cubicBezTo>
                  <a:pt x="20215" y="10947"/>
                  <a:pt x="20426" y="10901"/>
                  <a:pt x="20315" y="10740"/>
                </a:cubicBezTo>
                <a:cubicBezTo>
                  <a:pt x="20246" y="10694"/>
                  <a:pt x="20226" y="10682"/>
                  <a:pt x="20191" y="10641"/>
                </a:cubicBezTo>
              </a:path>
              <a:path w="2556" h="2853">
                <a:moveTo>
                  <a:pt x="21034" y="10468"/>
                </a:moveTo>
                <a:cubicBezTo>
                  <a:pt x="21015" y="10370"/>
                  <a:pt x="20942" y="10320"/>
                  <a:pt x="20836" y="10344"/>
                </a:cubicBezTo>
                <a:cubicBezTo>
                  <a:pt x="20703" y="10374"/>
                  <a:pt x="20531" y="10685"/>
                  <a:pt x="20762" y="10691"/>
                </a:cubicBezTo>
                <a:cubicBezTo>
                  <a:pt x="20910" y="10695"/>
                  <a:pt x="20969" y="10556"/>
                  <a:pt x="20985" y="10443"/>
                </a:cubicBezTo>
                <a:cubicBezTo>
                  <a:pt x="21010" y="10609"/>
                  <a:pt x="21038" y="10772"/>
                  <a:pt x="21059" y="10939"/>
                </a:cubicBezTo>
                <a:cubicBezTo>
                  <a:pt x="21059" y="10967"/>
                  <a:pt x="21057" y="10978"/>
                  <a:pt x="21034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60840" y="3929040"/>
            <a:ext cx="2251080" cy="312840"/>
          </a:xfrm>
          <a:custGeom>
            <a:avLst/>
            <a:gdLst/>
            <a:ahLst/>
            <a:rect l="l" t="t" r="r" b="b"/>
            <a:pathLst>
              <a:path w="6252" h="869">
                <a:moveTo>
                  <a:pt x="10170" y="11112"/>
                </a:moveTo>
                <a:cubicBezTo>
                  <a:pt x="10170" y="11120"/>
                  <a:pt x="10170" y="11129"/>
                  <a:pt x="10170" y="11137"/>
                </a:cubicBezTo>
              </a:path>
              <a:path w="6252" h="869">
                <a:moveTo>
                  <a:pt x="10269" y="11782"/>
                </a:moveTo>
                <a:lnTo>
                  <a:pt x="10269" y="11782"/>
                </a:lnTo>
              </a:path>
              <a:path w="6252" h="869">
                <a:moveTo>
                  <a:pt x="11832" y="11385"/>
                </a:moveTo>
                <a:cubicBezTo>
                  <a:pt x="11955" y="11361"/>
                  <a:pt x="11996" y="11353"/>
                  <a:pt x="12080" y="11361"/>
                </a:cubicBezTo>
              </a:path>
              <a:path w="6252" h="869">
                <a:moveTo>
                  <a:pt x="11881" y="11559"/>
                </a:moveTo>
                <a:cubicBezTo>
                  <a:pt x="12031" y="11559"/>
                  <a:pt x="12081" y="11559"/>
                  <a:pt x="12179" y="11534"/>
                </a:cubicBezTo>
              </a:path>
              <a:path w="6252" h="869">
                <a:moveTo>
                  <a:pt x="12576" y="11460"/>
                </a:moveTo>
                <a:cubicBezTo>
                  <a:pt x="12882" y="11416"/>
                  <a:pt x="13208" y="11364"/>
                  <a:pt x="13519" y="11385"/>
                </a:cubicBezTo>
                <a:cubicBezTo>
                  <a:pt x="13560" y="11393"/>
                  <a:pt x="13602" y="11402"/>
                  <a:pt x="13643" y="11410"/>
                </a:cubicBezTo>
              </a:path>
              <a:path w="6252" h="869">
                <a:moveTo>
                  <a:pt x="16396" y="10914"/>
                </a:moveTo>
                <a:cubicBezTo>
                  <a:pt x="16396" y="10922"/>
                  <a:pt x="16396" y="10931"/>
                  <a:pt x="16396" y="10939"/>
                </a:cubicBezTo>
              </a:path>
              <a:path w="6252" h="869">
                <a:moveTo>
                  <a:pt x="16421" y="11261"/>
                </a:moveTo>
                <a:lnTo>
                  <a:pt x="16421" y="11261"/>
                </a:lnTo>
                <a:lnTo>
                  <a:pt x="16421" y="11261"/>
                </a:lnTo>
              </a:path>
              <a:path w="6252" h="869">
                <a:moveTo>
                  <a:pt x="16421" y="11261"/>
                </a:moveTo>
                <a:lnTo>
                  <a:pt x="16421" y="1126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11760" y="3938760"/>
            <a:ext cx="142560" cy="14256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0864" y="10988"/>
                </a:moveTo>
                <a:cubicBezTo>
                  <a:pt x="10948" y="10928"/>
                  <a:pt x="11062" y="10934"/>
                  <a:pt x="11162" y="10964"/>
                </a:cubicBezTo>
                <a:cubicBezTo>
                  <a:pt x="11170" y="10972"/>
                  <a:pt x="11179" y="10980"/>
                  <a:pt x="11187" y="10988"/>
                </a:cubicBezTo>
                <a:cubicBezTo>
                  <a:pt x="11102" y="11109"/>
                  <a:pt x="11019" y="11206"/>
                  <a:pt x="10914" y="11311"/>
                </a:cubicBezTo>
                <a:cubicBezTo>
                  <a:pt x="11012" y="11336"/>
                  <a:pt x="11145" y="11296"/>
                  <a:pt x="11261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75040" y="4160880"/>
            <a:ext cx="233280" cy="214200"/>
          </a:xfrm>
          <a:custGeom>
            <a:avLst/>
            <a:gdLst/>
            <a:ahLst/>
            <a:rect l="l" t="t" r="r" b="b"/>
            <a:pathLst>
              <a:path w="646" h="596">
                <a:moveTo>
                  <a:pt x="10914" y="11609"/>
                </a:moveTo>
                <a:cubicBezTo>
                  <a:pt x="11078" y="11592"/>
                  <a:pt x="11254" y="11562"/>
                  <a:pt x="11410" y="11584"/>
                </a:cubicBezTo>
              </a:path>
              <a:path w="646" h="596">
                <a:moveTo>
                  <a:pt x="10765" y="11832"/>
                </a:moveTo>
                <a:cubicBezTo>
                  <a:pt x="10941" y="11808"/>
                  <a:pt x="11087" y="11792"/>
                  <a:pt x="11261" y="11807"/>
                </a:cubicBezTo>
                <a:cubicBezTo>
                  <a:pt x="11171" y="11962"/>
                  <a:pt x="11022" y="12010"/>
                  <a:pt x="10889" y="12129"/>
                </a:cubicBezTo>
                <a:cubicBezTo>
                  <a:pt x="10783" y="12225"/>
                  <a:pt x="11146" y="12109"/>
                  <a:pt x="11286" y="120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78080" y="3724200"/>
            <a:ext cx="216000" cy="276480"/>
          </a:xfrm>
          <a:custGeom>
            <a:avLst/>
            <a:gdLst/>
            <a:ahLst/>
            <a:rect l="l" t="t" r="r" b="b"/>
            <a:pathLst>
              <a:path w="597" h="769">
                <a:moveTo>
                  <a:pt x="9426" y="10368"/>
                </a:moveTo>
                <a:cubicBezTo>
                  <a:pt x="9216" y="10292"/>
                  <a:pt x="9022" y="10428"/>
                  <a:pt x="8830" y="10517"/>
                </a:cubicBezTo>
                <a:cubicBezTo>
                  <a:pt x="8902" y="10720"/>
                  <a:pt x="9106" y="10832"/>
                  <a:pt x="9252" y="11013"/>
                </a:cubicBezTo>
                <a:cubicBezTo>
                  <a:pt x="9102" y="11113"/>
                  <a:pt x="8828" y="11187"/>
                  <a:pt x="9004" y="10889"/>
                </a:cubicBezTo>
                <a:cubicBezTo>
                  <a:pt x="9082" y="10757"/>
                  <a:pt x="9390" y="10507"/>
                  <a:pt x="9302" y="104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70160" y="4187880"/>
            <a:ext cx="241200" cy="233280"/>
          </a:xfrm>
          <a:custGeom>
            <a:avLst/>
            <a:gdLst/>
            <a:ahLst/>
            <a:rect l="l" t="t" r="r" b="b"/>
            <a:pathLst>
              <a:path w="670" h="646">
                <a:moveTo>
                  <a:pt x="8855" y="11658"/>
                </a:moveTo>
                <a:cubicBezTo>
                  <a:pt x="8855" y="11849"/>
                  <a:pt x="8867" y="12067"/>
                  <a:pt x="8830" y="12254"/>
                </a:cubicBezTo>
                <a:cubicBezTo>
                  <a:pt x="8793" y="12291"/>
                  <a:pt x="8800" y="12289"/>
                  <a:pt x="8880" y="12229"/>
                </a:cubicBezTo>
              </a:path>
              <a:path w="670" h="646">
                <a:moveTo>
                  <a:pt x="9426" y="11633"/>
                </a:moveTo>
                <a:cubicBezTo>
                  <a:pt x="9326" y="11688"/>
                  <a:pt x="9041" y="11781"/>
                  <a:pt x="9178" y="11931"/>
                </a:cubicBezTo>
                <a:cubicBezTo>
                  <a:pt x="9302" y="12030"/>
                  <a:pt x="9343" y="12063"/>
                  <a:pt x="9426" y="12129"/>
                </a:cubicBezTo>
                <a:cubicBezTo>
                  <a:pt x="9446" y="12190"/>
                  <a:pt x="9465" y="12205"/>
                  <a:pt x="9426" y="12229"/>
                </a:cubicBezTo>
                <a:cubicBezTo>
                  <a:pt x="9166" y="12229"/>
                  <a:pt x="9221" y="12148"/>
                  <a:pt x="9351" y="11956"/>
                </a:cubicBezTo>
                <a:cubicBezTo>
                  <a:pt x="9370" y="11928"/>
                  <a:pt x="9554" y="11733"/>
                  <a:pt x="9426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25920" y="4106880"/>
            <a:ext cx="160200" cy="9360"/>
          </a:xfrm>
          <a:custGeom>
            <a:avLst/>
            <a:gdLst/>
            <a:ahLst/>
            <a:rect l="l" t="t" r="r" b="b"/>
            <a:pathLst>
              <a:path w="447" h="26">
                <a:moveTo>
                  <a:pt x="10071" y="11435"/>
                </a:moveTo>
                <a:cubicBezTo>
                  <a:pt x="10213" y="11435"/>
                  <a:pt x="10351" y="11416"/>
                  <a:pt x="10492" y="11410"/>
                </a:cubicBezTo>
                <a:cubicBezTo>
                  <a:pt x="10500" y="11410"/>
                  <a:pt x="10509" y="11410"/>
                  <a:pt x="10517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16160" y="3857760"/>
            <a:ext cx="4081680" cy="250560"/>
          </a:xfrm>
          <a:custGeom>
            <a:avLst/>
            <a:gdLst/>
            <a:ahLst/>
            <a:rect l="l" t="t" r="r" b="b"/>
            <a:pathLst>
              <a:path w="11337" h="695">
                <a:moveTo>
                  <a:pt x="8657" y="11410"/>
                </a:moveTo>
                <a:cubicBezTo>
                  <a:pt x="9047" y="11372"/>
                  <a:pt x="9432" y="11323"/>
                  <a:pt x="9823" y="11311"/>
                </a:cubicBezTo>
              </a:path>
              <a:path w="11337" h="695">
                <a:moveTo>
                  <a:pt x="15801" y="10815"/>
                </a:moveTo>
                <a:cubicBezTo>
                  <a:pt x="15765" y="10904"/>
                  <a:pt x="15757" y="10967"/>
                  <a:pt x="15751" y="11063"/>
                </a:cubicBezTo>
                <a:cubicBezTo>
                  <a:pt x="15859" y="11109"/>
                  <a:pt x="15993" y="11085"/>
                  <a:pt x="16098" y="11013"/>
                </a:cubicBezTo>
                <a:cubicBezTo>
                  <a:pt x="16123" y="10988"/>
                  <a:pt x="16148" y="10964"/>
                  <a:pt x="16173" y="10939"/>
                </a:cubicBezTo>
              </a:path>
              <a:path w="11337" h="695">
                <a:moveTo>
                  <a:pt x="19472" y="10790"/>
                </a:moveTo>
                <a:cubicBezTo>
                  <a:pt x="19650" y="10755"/>
                  <a:pt x="19813" y="10737"/>
                  <a:pt x="19993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94000" y="5099040"/>
            <a:ext cx="4527360" cy="357120"/>
          </a:xfrm>
          <a:custGeom>
            <a:avLst/>
            <a:gdLst/>
            <a:ahLst/>
            <a:rect l="l" t="t" r="r" b="b"/>
            <a:pathLst>
              <a:path w="12577" h="994">
                <a:moveTo>
                  <a:pt x="6672" y="14982"/>
                </a:moveTo>
                <a:cubicBezTo>
                  <a:pt x="6664" y="14990"/>
                  <a:pt x="6656" y="14999"/>
                  <a:pt x="6648" y="15007"/>
                </a:cubicBezTo>
              </a:path>
              <a:path w="12577" h="994">
                <a:moveTo>
                  <a:pt x="8731" y="15081"/>
                </a:moveTo>
                <a:cubicBezTo>
                  <a:pt x="8785" y="15072"/>
                  <a:pt x="8830" y="15054"/>
                  <a:pt x="8880" y="15032"/>
                </a:cubicBezTo>
              </a:path>
              <a:path w="12577" h="994">
                <a:moveTo>
                  <a:pt x="10492" y="14684"/>
                </a:moveTo>
                <a:cubicBezTo>
                  <a:pt x="10588" y="14698"/>
                  <a:pt x="10724" y="14708"/>
                  <a:pt x="10815" y="14734"/>
                </a:cubicBezTo>
                <a:cubicBezTo>
                  <a:pt x="10837" y="14756"/>
                  <a:pt x="10842" y="14765"/>
                  <a:pt x="10864" y="14759"/>
                </a:cubicBezTo>
              </a:path>
              <a:path w="12577" h="994">
                <a:moveTo>
                  <a:pt x="10691" y="14486"/>
                </a:moveTo>
                <a:cubicBezTo>
                  <a:pt x="10691" y="14503"/>
                  <a:pt x="10691" y="14519"/>
                  <a:pt x="10691" y="14536"/>
                </a:cubicBezTo>
              </a:path>
              <a:path w="12577" h="994">
                <a:moveTo>
                  <a:pt x="10616" y="15156"/>
                </a:moveTo>
                <a:cubicBezTo>
                  <a:pt x="10624" y="15156"/>
                  <a:pt x="10633" y="15156"/>
                  <a:pt x="10641" y="15156"/>
                </a:cubicBezTo>
              </a:path>
              <a:path w="12577" h="994">
                <a:moveTo>
                  <a:pt x="15503" y="14163"/>
                </a:moveTo>
                <a:lnTo>
                  <a:pt x="15503" y="14163"/>
                </a:lnTo>
              </a:path>
              <a:path w="12577" h="994">
                <a:moveTo>
                  <a:pt x="15503" y="14635"/>
                </a:moveTo>
                <a:lnTo>
                  <a:pt x="15503" y="14635"/>
                </a:lnTo>
              </a:path>
              <a:path w="12577" h="994">
                <a:moveTo>
                  <a:pt x="18678" y="14585"/>
                </a:moveTo>
                <a:cubicBezTo>
                  <a:pt x="18863" y="14560"/>
                  <a:pt x="19038" y="14542"/>
                  <a:pt x="19224" y="145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04960" y="4929120"/>
            <a:ext cx="1135080" cy="849240"/>
          </a:xfrm>
          <a:custGeom>
            <a:avLst/>
            <a:gdLst/>
            <a:ahLst/>
            <a:rect l="l" t="t" r="r" b="b"/>
            <a:pathLst>
              <a:path w="3151" h="2358">
                <a:moveTo>
                  <a:pt x="5457" y="13767"/>
                </a:moveTo>
                <a:cubicBezTo>
                  <a:pt x="5457" y="13669"/>
                  <a:pt x="5381" y="13698"/>
                  <a:pt x="5308" y="13717"/>
                </a:cubicBezTo>
                <a:cubicBezTo>
                  <a:pt x="5187" y="13749"/>
                  <a:pt x="5138" y="13952"/>
                  <a:pt x="5110" y="14064"/>
                </a:cubicBezTo>
                <a:cubicBezTo>
                  <a:pt x="5066" y="14239"/>
                  <a:pt x="5069" y="14403"/>
                  <a:pt x="5159" y="14560"/>
                </a:cubicBezTo>
                <a:cubicBezTo>
                  <a:pt x="5224" y="14673"/>
                  <a:pt x="5448" y="14526"/>
                  <a:pt x="5507" y="14486"/>
                </a:cubicBezTo>
                <a:cubicBezTo>
                  <a:pt x="5595" y="14427"/>
                  <a:pt x="5706" y="14310"/>
                  <a:pt x="5680" y="14188"/>
                </a:cubicBezTo>
                <a:cubicBezTo>
                  <a:pt x="5672" y="14172"/>
                  <a:pt x="5663" y="14155"/>
                  <a:pt x="5655" y="14139"/>
                </a:cubicBezTo>
                <a:cubicBezTo>
                  <a:pt x="5551" y="14124"/>
                  <a:pt x="5427" y="14120"/>
                  <a:pt x="5333" y="14188"/>
                </a:cubicBezTo>
                <a:cubicBezTo>
                  <a:pt x="5278" y="14228"/>
                  <a:pt x="5259" y="14323"/>
                  <a:pt x="5259" y="14387"/>
                </a:cubicBezTo>
              </a:path>
              <a:path w="3151" h="2358">
                <a:moveTo>
                  <a:pt x="4762" y="15007"/>
                </a:moveTo>
                <a:cubicBezTo>
                  <a:pt x="4729" y="15007"/>
                  <a:pt x="5219" y="14959"/>
                  <a:pt x="5234" y="14957"/>
                </a:cubicBezTo>
                <a:cubicBezTo>
                  <a:pt x="5507" y="14919"/>
                  <a:pt x="5809" y="14912"/>
                  <a:pt x="6077" y="14858"/>
                </a:cubicBezTo>
                <a:cubicBezTo>
                  <a:pt x="6094" y="14850"/>
                  <a:pt x="6110" y="14841"/>
                  <a:pt x="6127" y="14833"/>
                </a:cubicBezTo>
              </a:path>
              <a:path w="3151" h="2358">
                <a:moveTo>
                  <a:pt x="4936" y="15379"/>
                </a:moveTo>
                <a:cubicBezTo>
                  <a:pt x="4999" y="15587"/>
                  <a:pt x="5030" y="15751"/>
                  <a:pt x="5035" y="15974"/>
                </a:cubicBezTo>
                <a:cubicBezTo>
                  <a:pt x="5039" y="16145"/>
                  <a:pt x="5050" y="15952"/>
                  <a:pt x="5060" y="15900"/>
                </a:cubicBezTo>
              </a:path>
              <a:path w="3151" h="2358">
                <a:moveTo>
                  <a:pt x="5234" y="15429"/>
                </a:moveTo>
                <a:cubicBezTo>
                  <a:pt x="5234" y="15355"/>
                  <a:pt x="5302" y="15335"/>
                  <a:pt x="5358" y="15280"/>
                </a:cubicBezTo>
                <a:cubicBezTo>
                  <a:pt x="5432" y="15209"/>
                  <a:pt x="5540" y="15147"/>
                  <a:pt x="5606" y="15255"/>
                </a:cubicBezTo>
                <a:cubicBezTo>
                  <a:pt x="5707" y="15420"/>
                  <a:pt x="5595" y="15532"/>
                  <a:pt x="5482" y="15652"/>
                </a:cubicBezTo>
                <a:cubicBezTo>
                  <a:pt x="5409" y="15730"/>
                  <a:pt x="5295" y="15817"/>
                  <a:pt x="5259" y="15925"/>
                </a:cubicBezTo>
                <a:cubicBezTo>
                  <a:pt x="5259" y="15974"/>
                  <a:pt x="5259" y="15991"/>
                  <a:pt x="5259" y="16024"/>
                </a:cubicBezTo>
                <a:cubicBezTo>
                  <a:pt x="5321" y="15992"/>
                  <a:pt x="5377" y="15908"/>
                  <a:pt x="5457" y="15900"/>
                </a:cubicBezTo>
                <a:cubicBezTo>
                  <a:pt x="5565" y="15890"/>
                  <a:pt x="5669" y="15957"/>
                  <a:pt x="5779" y="15925"/>
                </a:cubicBezTo>
                <a:cubicBezTo>
                  <a:pt x="5853" y="15888"/>
                  <a:pt x="5858" y="15871"/>
                  <a:pt x="5904" y="15875"/>
                </a:cubicBezTo>
              </a:path>
              <a:path w="3151" h="2358">
                <a:moveTo>
                  <a:pt x="6524" y="14784"/>
                </a:moveTo>
                <a:cubicBezTo>
                  <a:pt x="6606" y="14784"/>
                  <a:pt x="6724" y="14751"/>
                  <a:pt x="6796" y="14759"/>
                </a:cubicBezTo>
                <a:cubicBezTo>
                  <a:pt x="6804" y="14767"/>
                  <a:pt x="6813" y="14776"/>
                  <a:pt x="6821" y="14784"/>
                </a:cubicBezTo>
              </a:path>
              <a:path w="3151" h="2358">
                <a:moveTo>
                  <a:pt x="6722" y="14585"/>
                </a:moveTo>
                <a:cubicBezTo>
                  <a:pt x="6722" y="14541"/>
                  <a:pt x="6716" y="14584"/>
                  <a:pt x="6697" y="14610"/>
                </a:cubicBezTo>
              </a:path>
              <a:path w="3151" h="2358">
                <a:moveTo>
                  <a:pt x="7541" y="14263"/>
                </a:moveTo>
                <a:cubicBezTo>
                  <a:pt x="7541" y="14271"/>
                  <a:pt x="7541" y="14280"/>
                  <a:pt x="7541" y="14288"/>
                </a:cubicBezTo>
                <a:cubicBezTo>
                  <a:pt x="7494" y="14272"/>
                  <a:pt x="7541" y="14238"/>
                  <a:pt x="7590" y="14213"/>
                </a:cubicBezTo>
                <a:cubicBezTo>
                  <a:pt x="7687" y="14164"/>
                  <a:pt x="7650" y="14411"/>
                  <a:pt x="7640" y="14436"/>
                </a:cubicBezTo>
                <a:cubicBezTo>
                  <a:pt x="7608" y="14519"/>
                  <a:pt x="7541" y="14511"/>
                  <a:pt x="7565" y="14511"/>
                </a:cubicBezTo>
                <a:cubicBezTo>
                  <a:pt x="7640" y="14523"/>
                  <a:pt x="7834" y="14577"/>
                  <a:pt x="7714" y="14709"/>
                </a:cubicBezTo>
                <a:cubicBezTo>
                  <a:pt x="7634" y="14796"/>
                  <a:pt x="7532" y="14755"/>
                  <a:pt x="7441" y="14734"/>
                </a:cubicBezTo>
              </a:path>
              <a:path w="3151" h="2358">
                <a:moveTo>
                  <a:pt x="7218" y="14982"/>
                </a:moveTo>
                <a:cubicBezTo>
                  <a:pt x="7429" y="15049"/>
                  <a:pt x="7593" y="15081"/>
                  <a:pt x="7813" y="15081"/>
                </a:cubicBezTo>
                <a:cubicBezTo>
                  <a:pt x="7855" y="15081"/>
                  <a:pt x="7863" y="15081"/>
                  <a:pt x="7888" y="15081"/>
                </a:cubicBezTo>
              </a:path>
              <a:path w="3151" h="2358">
                <a:moveTo>
                  <a:pt x="7417" y="15230"/>
                </a:moveTo>
                <a:cubicBezTo>
                  <a:pt x="7469" y="15225"/>
                  <a:pt x="7739" y="15167"/>
                  <a:pt x="7665" y="15329"/>
                </a:cubicBezTo>
                <a:cubicBezTo>
                  <a:pt x="7646" y="15372"/>
                  <a:pt x="7577" y="15414"/>
                  <a:pt x="7541" y="15429"/>
                </a:cubicBezTo>
                <a:cubicBezTo>
                  <a:pt x="7603" y="15397"/>
                  <a:pt x="7725" y="15388"/>
                  <a:pt x="7739" y="15503"/>
                </a:cubicBezTo>
                <a:cubicBezTo>
                  <a:pt x="7756" y="15641"/>
                  <a:pt x="7548" y="15644"/>
                  <a:pt x="7466" y="15627"/>
                </a:cubicBezTo>
                <a:cubicBezTo>
                  <a:pt x="7426" y="15607"/>
                  <a:pt x="7420" y="15598"/>
                  <a:pt x="7392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3800" y="5340240"/>
            <a:ext cx="73080" cy="97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8706" y="14833"/>
                </a:moveTo>
                <a:cubicBezTo>
                  <a:pt x="8767" y="14833"/>
                  <a:pt x="8887" y="14805"/>
                  <a:pt x="8905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5037120"/>
            <a:ext cx="250560" cy="561960"/>
          </a:xfrm>
          <a:custGeom>
            <a:avLst/>
            <a:gdLst/>
            <a:ahLst/>
            <a:rect l="l" t="t" r="r" b="b"/>
            <a:pathLst>
              <a:path w="696" h="1564">
                <a:moveTo>
                  <a:pt x="9823" y="14114"/>
                </a:moveTo>
                <a:cubicBezTo>
                  <a:pt x="9773" y="14089"/>
                  <a:pt x="9938" y="14027"/>
                  <a:pt x="9971" y="14015"/>
                </a:cubicBezTo>
                <a:cubicBezTo>
                  <a:pt x="10004" y="14007"/>
                  <a:pt x="10038" y="13998"/>
                  <a:pt x="10071" y="13990"/>
                </a:cubicBezTo>
                <a:cubicBezTo>
                  <a:pt x="10092" y="14157"/>
                  <a:pt x="9945" y="14225"/>
                  <a:pt x="9823" y="14337"/>
                </a:cubicBezTo>
                <a:cubicBezTo>
                  <a:pt x="9798" y="14362"/>
                  <a:pt x="9773" y="14387"/>
                  <a:pt x="9748" y="14412"/>
                </a:cubicBezTo>
                <a:cubicBezTo>
                  <a:pt x="9845" y="14431"/>
                  <a:pt x="9943" y="14416"/>
                  <a:pt x="10046" y="14436"/>
                </a:cubicBezTo>
                <a:cubicBezTo>
                  <a:pt x="10054" y="14436"/>
                  <a:pt x="10063" y="14436"/>
                  <a:pt x="10071" y="14436"/>
                </a:cubicBezTo>
              </a:path>
              <a:path w="696" h="1564">
                <a:moveTo>
                  <a:pt x="9500" y="14585"/>
                </a:moveTo>
                <a:cubicBezTo>
                  <a:pt x="9704" y="14616"/>
                  <a:pt x="9916" y="14604"/>
                  <a:pt x="10120" y="14635"/>
                </a:cubicBezTo>
                <a:cubicBezTo>
                  <a:pt x="10145" y="14643"/>
                  <a:pt x="10170" y="14652"/>
                  <a:pt x="10195" y="14660"/>
                </a:cubicBezTo>
              </a:path>
              <a:path w="696" h="1564">
                <a:moveTo>
                  <a:pt x="9723" y="14883"/>
                </a:moveTo>
                <a:cubicBezTo>
                  <a:pt x="9717" y="14921"/>
                  <a:pt x="9650" y="15045"/>
                  <a:pt x="9674" y="15081"/>
                </a:cubicBezTo>
                <a:cubicBezTo>
                  <a:pt x="9718" y="15145"/>
                  <a:pt x="9878" y="15106"/>
                  <a:pt x="9947" y="15106"/>
                </a:cubicBezTo>
                <a:cubicBezTo>
                  <a:pt x="9955" y="15106"/>
                  <a:pt x="9963" y="15106"/>
                  <a:pt x="9971" y="15106"/>
                </a:cubicBezTo>
              </a:path>
              <a:path w="696" h="1564">
                <a:moveTo>
                  <a:pt x="9971" y="14833"/>
                </a:moveTo>
                <a:cubicBezTo>
                  <a:pt x="9867" y="14938"/>
                  <a:pt x="9817" y="15220"/>
                  <a:pt x="9773" y="15379"/>
                </a:cubicBezTo>
                <a:cubicBezTo>
                  <a:pt x="9752" y="15456"/>
                  <a:pt x="9738" y="15493"/>
                  <a:pt x="9723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5133960"/>
            <a:ext cx="393840" cy="465120"/>
          </a:xfrm>
          <a:custGeom>
            <a:avLst/>
            <a:gdLst/>
            <a:ahLst/>
            <a:rect l="l" t="t" r="r" b="b"/>
            <a:pathLst>
              <a:path w="1093" h="1291">
                <a:moveTo>
                  <a:pt x="11137" y="14312"/>
                </a:moveTo>
                <a:cubicBezTo>
                  <a:pt x="11166" y="14271"/>
                  <a:pt x="11314" y="14249"/>
                  <a:pt x="11385" y="14263"/>
                </a:cubicBezTo>
                <a:cubicBezTo>
                  <a:pt x="11393" y="14271"/>
                  <a:pt x="11402" y="14280"/>
                  <a:pt x="11410" y="14288"/>
                </a:cubicBezTo>
                <a:cubicBezTo>
                  <a:pt x="11358" y="14405"/>
                  <a:pt x="11303" y="14486"/>
                  <a:pt x="11212" y="14585"/>
                </a:cubicBezTo>
                <a:cubicBezTo>
                  <a:pt x="11311" y="14602"/>
                  <a:pt x="11383" y="14593"/>
                  <a:pt x="11485" y="14585"/>
                </a:cubicBezTo>
              </a:path>
              <a:path w="1093" h="1291">
                <a:moveTo>
                  <a:pt x="11013" y="14883"/>
                </a:moveTo>
                <a:cubicBezTo>
                  <a:pt x="11138" y="14866"/>
                  <a:pt x="11442" y="14767"/>
                  <a:pt x="11559" y="14833"/>
                </a:cubicBezTo>
                <a:cubicBezTo>
                  <a:pt x="11559" y="14841"/>
                  <a:pt x="11559" y="14850"/>
                  <a:pt x="11559" y="14858"/>
                </a:cubicBezTo>
              </a:path>
              <a:path w="1093" h="1291">
                <a:moveTo>
                  <a:pt x="11137" y="15205"/>
                </a:moveTo>
                <a:cubicBezTo>
                  <a:pt x="11257" y="15182"/>
                  <a:pt x="11279" y="15159"/>
                  <a:pt x="11361" y="15230"/>
                </a:cubicBezTo>
                <a:cubicBezTo>
                  <a:pt x="11315" y="15378"/>
                  <a:pt x="11208" y="15442"/>
                  <a:pt x="11088" y="15553"/>
                </a:cubicBezTo>
                <a:cubicBezTo>
                  <a:pt x="11200" y="15553"/>
                  <a:pt x="11301" y="15519"/>
                  <a:pt x="11410" y="15503"/>
                </a:cubicBezTo>
                <a:cubicBezTo>
                  <a:pt x="11467" y="15503"/>
                  <a:pt x="11488" y="15498"/>
                  <a:pt x="11509" y="15453"/>
                </a:cubicBezTo>
              </a:path>
              <a:path w="1093" h="1291">
                <a:moveTo>
                  <a:pt x="11832" y="14784"/>
                </a:moveTo>
                <a:cubicBezTo>
                  <a:pt x="11930" y="14784"/>
                  <a:pt x="12013" y="14781"/>
                  <a:pt x="12105" y="14808"/>
                </a:cubicBezTo>
              </a:path>
              <a:path w="1093" h="1291">
                <a:moveTo>
                  <a:pt x="11708" y="14982"/>
                </a:moveTo>
                <a:cubicBezTo>
                  <a:pt x="11848" y="15007"/>
                  <a:pt x="11969" y="15019"/>
                  <a:pt x="12105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54360" y="5081760"/>
            <a:ext cx="223920" cy="534960"/>
          </a:xfrm>
          <a:custGeom>
            <a:avLst/>
            <a:gdLst/>
            <a:ahLst/>
            <a:rect l="l" t="t" r="r" b="b"/>
            <a:pathLst>
              <a:path w="622" h="1489">
                <a:moveTo>
                  <a:pt x="12849" y="14114"/>
                </a:moveTo>
                <a:cubicBezTo>
                  <a:pt x="12904" y="14132"/>
                  <a:pt x="12874" y="14325"/>
                  <a:pt x="12874" y="14362"/>
                </a:cubicBezTo>
                <a:cubicBezTo>
                  <a:pt x="12874" y="14478"/>
                  <a:pt x="12874" y="14593"/>
                  <a:pt x="12874" y="14709"/>
                </a:cubicBezTo>
              </a:path>
              <a:path w="622" h="1489">
                <a:moveTo>
                  <a:pt x="12650" y="14932"/>
                </a:moveTo>
                <a:cubicBezTo>
                  <a:pt x="12831" y="14873"/>
                  <a:pt x="13006" y="14883"/>
                  <a:pt x="13196" y="14883"/>
                </a:cubicBezTo>
                <a:cubicBezTo>
                  <a:pt x="13241" y="14883"/>
                  <a:pt x="13254" y="14880"/>
                  <a:pt x="13271" y="14908"/>
                </a:cubicBezTo>
              </a:path>
              <a:path w="622" h="1489">
                <a:moveTo>
                  <a:pt x="12725" y="15131"/>
                </a:moveTo>
                <a:cubicBezTo>
                  <a:pt x="12781" y="15131"/>
                  <a:pt x="12804" y="15093"/>
                  <a:pt x="12849" y="15081"/>
                </a:cubicBezTo>
                <a:cubicBezTo>
                  <a:pt x="12908" y="15065"/>
                  <a:pt x="12977" y="15082"/>
                  <a:pt x="13022" y="15106"/>
                </a:cubicBezTo>
                <a:cubicBezTo>
                  <a:pt x="13096" y="15146"/>
                  <a:pt x="13133" y="15192"/>
                  <a:pt x="13072" y="15280"/>
                </a:cubicBezTo>
                <a:cubicBezTo>
                  <a:pt x="13002" y="15381"/>
                  <a:pt x="12874" y="15428"/>
                  <a:pt x="12799" y="15528"/>
                </a:cubicBezTo>
                <a:cubicBezTo>
                  <a:pt x="12777" y="15571"/>
                  <a:pt x="12773" y="15582"/>
                  <a:pt x="12750" y="15602"/>
                </a:cubicBezTo>
                <a:cubicBezTo>
                  <a:pt x="12807" y="15587"/>
                  <a:pt x="12856" y="15541"/>
                  <a:pt x="12923" y="15528"/>
                </a:cubicBezTo>
                <a:cubicBezTo>
                  <a:pt x="13001" y="15513"/>
                  <a:pt x="13021" y="15562"/>
                  <a:pt x="13097" y="15577"/>
                </a:cubicBezTo>
                <a:cubicBezTo>
                  <a:pt x="13138" y="15577"/>
                  <a:pt x="13146" y="15577"/>
                  <a:pt x="13171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29160" y="5089680"/>
            <a:ext cx="9720" cy="285480"/>
          </a:xfrm>
          <a:custGeom>
            <a:avLst/>
            <a:gdLst/>
            <a:ahLst/>
            <a:rect l="l" t="t" r="r" b="b"/>
            <a:pathLst>
              <a:path w="26" h="794">
                <a:moveTo>
                  <a:pt x="15081" y="14139"/>
                </a:moveTo>
                <a:cubicBezTo>
                  <a:pt x="15098" y="14344"/>
                  <a:pt x="15125" y="14552"/>
                  <a:pt x="15106" y="14759"/>
                </a:cubicBezTo>
                <a:cubicBezTo>
                  <a:pt x="15100" y="14825"/>
                  <a:pt x="15081" y="14974"/>
                  <a:pt x="15081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05640" y="5133960"/>
            <a:ext cx="169560" cy="223920"/>
          </a:xfrm>
          <a:custGeom>
            <a:avLst/>
            <a:gdLst/>
            <a:ahLst/>
            <a:rect l="l" t="t" r="r" b="b"/>
            <a:pathLst>
              <a:path w="472" h="621">
                <a:moveTo>
                  <a:pt x="15925" y="14312"/>
                </a:moveTo>
                <a:cubicBezTo>
                  <a:pt x="16009" y="14230"/>
                  <a:pt x="16093" y="14265"/>
                  <a:pt x="16197" y="14312"/>
                </a:cubicBezTo>
                <a:cubicBezTo>
                  <a:pt x="16198" y="14551"/>
                  <a:pt x="16090" y="14675"/>
                  <a:pt x="15900" y="14833"/>
                </a:cubicBezTo>
                <a:cubicBezTo>
                  <a:pt x="15883" y="14841"/>
                  <a:pt x="15867" y="14850"/>
                  <a:pt x="15850" y="14858"/>
                </a:cubicBezTo>
                <a:cubicBezTo>
                  <a:pt x="16000" y="14886"/>
                  <a:pt x="16156" y="14828"/>
                  <a:pt x="16297" y="14858"/>
                </a:cubicBezTo>
                <a:cubicBezTo>
                  <a:pt x="16305" y="14866"/>
                  <a:pt x="16313" y="14875"/>
                  <a:pt x="16321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45160" y="5089680"/>
            <a:ext cx="9720" cy="285480"/>
          </a:xfrm>
          <a:custGeom>
            <a:avLst/>
            <a:gdLst/>
            <a:ahLst/>
            <a:rect l="l" t="t" r="r" b="b"/>
            <a:pathLst>
              <a:path w="26" h="794">
                <a:moveTo>
                  <a:pt x="18182" y="14139"/>
                </a:moveTo>
                <a:cubicBezTo>
                  <a:pt x="18182" y="14382"/>
                  <a:pt x="18187" y="14618"/>
                  <a:pt x="18207" y="14858"/>
                </a:cubicBezTo>
                <a:cubicBezTo>
                  <a:pt x="18207" y="14899"/>
                  <a:pt x="18207" y="14907"/>
                  <a:pt x="18207" y="149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59720" y="5062680"/>
            <a:ext cx="617400" cy="277560"/>
          </a:xfrm>
          <a:custGeom>
            <a:avLst/>
            <a:gdLst/>
            <a:ahLst/>
            <a:rect l="l" t="t" r="r" b="b"/>
            <a:pathLst>
              <a:path w="1713" h="770">
                <a:moveTo>
                  <a:pt x="18777" y="14213"/>
                </a:moveTo>
                <a:cubicBezTo>
                  <a:pt x="18799" y="14353"/>
                  <a:pt x="18769" y="14642"/>
                  <a:pt x="18827" y="14759"/>
                </a:cubicBezTo>
                <a:cubicBezTo>
                  <a:pt x="18866" y="14839"/>
                  <a:pt x="19051" y="14833"/>
                  <a:pt x="19124" y="14833"/>
                </a:cubicBezTo>
                <a:cubicBezTo>
                  <a:pt x="19097" y="14751"/>
                  <a:pt x="19088" y="14719"/>
                  <a:pt x="19075" y="14660"/>
                </a:cubicBezTo>
              </a:path>
              <a:path w="1713" h="770">
                <a:moveTo>
                  <a:pt x="19447" y="14387"/>
                </a:moveTo>
                <a:cubicBezTo>
                  <a:pt x="19346" y="14481"/>
                  <a:pt x="19113" y="14716"/>
                  <a:pt x="19372" y="14808"/>
                </a:cubicBezTo>
                <a:cubicBezTo>
                  <a:pt x="19539" y="14868"/>
                  <a:pt x="19843" y="14588"/>
                  <a:pt x="19621" y="14486"/>
                </a:cubicBezTo>
                <a:cubicBezTo>
                  <a:pt x="19503" y="14486"/>
                  <a:pt x="19481" y="14500"/>
                  <a:pt x="19422" y="14461"/>
                </a:cubicBezTo>
              </a:path>
              <a:path w="1713" h="770">
                <a:moveTo>
                  <a:pt x="19993" y="14163"/>
                </a:moveTo>
                <a:cubicBezTo>
                  <a:pt x="19931" y="14163"/>
                  <a:pt x="20146" y="14069"/>
                  <a:pt x="20166" y="14064"/>
                </a:cubicBezTo>
                <a:cubicBezTo>
                  <a:pt x="20288" y="14031"/>
                  <a:pt x="20378" y="14181"/>
                  <a:pt x="20365" y="14288"/>
                </a:cubicBezTo>
                <a:cubicBezTo>
                  <a:pt x="20341" y="14485"/>
                  <a:pt x="20064" y="14655"/>
                  <a:pt x="19918" y="14759"/>
                </a:cubicBezTo>
                <a:cubicBezTo>
                  <a:pt x="19869" y="14784"/>
                  <a:pt x="19853" y="14792"/>
                  <a:pt x="19844" y="14833"/>
                </a:cubicBezTo>
                <a:cubicBezTo>
                  <a:pt x="19980" y="14833"/>
                  <a:pt x="20040" y="14760"/>
                  <a:pt x="20166" y="14734"/>
                </a:cubicBezTo>
                <a:cubicBezTo>
                  <a:pt x="20281" y="14710"/>
                  <a:pt x="20360" y="14818"/>
                  <a:pt x="20464" y="14833"/>
                </a:cubicBezTo>
                <a:cubicBezTo>
                  <a:pt x="20472" y="14833"/>
                  <a:pt x="20481" y="14833"/>
                  <a:pt x="20489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Writing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 the following ratios in simplest for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) Ravens wins t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) Redskins wins to total games pla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) Ravens wins to Steelers w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920" y="1600200"/>
          <a:ext cx="4495680" cy="4530600"/>
        </p:xfrm>
        <a:graphic>
          <a:graphicData uri="http://schemas.openxmlformats.org/drawingml/2006/table">
            <a:tbl>
              <a:tblPr/>
              <a:tblGrid>
                <a:gridCol w="1676160"/>
                <a:gridCol w="1320840"/>
                <a:gridCol w="1498680"/>
              </a:tblGrid>
              <a:tr h="90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F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v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sk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e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7134120" y="2330280"/>
            <a:ext cx="1135080" cy="71640"/>
          </a:xfrm>
          <a:custGeom>
            <a:avLst/>
            <a:gdLst/>
            <a:ahLst/>
            <a:rect l="l" t="t" r="r" b="b"/>
            <a:pathLst>
              <a:path w="3151" h="199">
                <a:moveTo>
                  <a:pt x="19819" y="6672"/>
                </a:moveTo>
                <a:cubicBezTo>
                  <a:pt x="19865" y="6661"/>
                  <a:pt x="19985" y="6648"/>
                  <a:pt x="20067" y="6648"/>
                </a:cubicBezTo>
                <a:cubicBezTo>
                  <a:pt x="20260" y="6648"/>
                  <a:pt x="20448" y="6654"/>
                  <a:pt x="20638" y="6623"/>
                </a:cubicBezTo>
                <a:cubicBezTo>
                  <a:pt x="20829" y="6592"/>
                  <a:pt x="21019" y="6580"/>
                  <a:pt x="21208" y="6548"/>
                </a:cubicBezTo>
                <a:cubicBezTo>
                  <a:pt x="21394" y="6516"/>
                  <a:pt x="21591" y="6503"/>
                  <a:pt x="21779" y="6499"/>
                </a:cubicBezTo>
                <a:cubicBezTo>
                  <a:pt x="21954" y="6495"/>
                  <a:pt x="22123" y="6474"/>
                  <a:pt x="22299" y="6474"/>
                </a:cubicBezTo>
                <a:cubicBezTo>
                  <a:pt x="22451" y="6474"/>
                  <a:pt x="22595" y="6495"/>
                  <a:pt x="22746" y="6499"/>
                </a:cubicBezTo>
                <a:cubicBezTo>
                  <a:pt x="22825" y="6501"/>
                  <a:pt x="22893" y="6512"/>
                  <a:pt x="22969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18680" y="2490840"/>
            <a:ext cx="107640" cy="1795320"/>
          </a:xfrm>
          <a:custGeom>
            <a:avLst/>
            <a:gdLst/>
            <a:ahLst/>
            <a:rect l="l" t="t" r="r" b="b"/>
            <a:pathLst>
              <a:path w="298" h="4986">
                <a:moveTo>
                  <a:pt x="23664" y="6921"/>
                </a:moveTo>
                <a:cubicBezTo>
                  <a:pt x="23699" y="7045"/>
                  <a:pt x="23714" y="7165"/>
                  <a:pt x="23738" y="7293"/>
                </a:cubicBezTo>
                <a:cubicBezTo>
                  <a:pt x="23746" y="7318"/>
                  <a:pt x="23755" y="7342"/>
                  <a:pt x="23763" y="7367"/>
                </a:cubicBezTo>
              </a:path>
              <a:path w="298" h="4986">
                <a:moveTo>
                  <a:pt x="23961" y="11733"/>
                </a:moveTo>
                <a:cubicBezTo>
                  <a:pt x="23953" y="11733"/>
                  <a:pt x="23945" y="11733"/>
                  <a:pt x="23937" y="11733"/>
                </a:cubicBezTo>
              </a:path>
              <a:path w="298" h="4986">
                <a:moveTo>
                  <a:pt x="23887" y="11881"/>
                </a:moveTo>
                <a:cubicBezTo>
                  <a:pt x="23879" y="11889"/>
                  <a:pt x="23870" y="11898"/>
                  <a:pt x="23862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77120" y="2517840"/>
            <a:ext cx="546120" cy="777960"/>
          </a:xfrm>
          <a:custGeom>
            <a:avLst/>
            <a:gdLst/>
            <a:ahLst/>
            <a:rect l="l" t="t" r="r" b="b"/>
            <a:pathLst>
              <a:path w="1514" h="2159">
                <a:moveTo>
                  <a:pt x="22994" y="7764"/>
                </a:moveTo>
                <a:cubicBezTo>
                  <a:pt x="23188" y="7764"/>
                  <a:pt x="23369" y="7753"/>
                  <a:pt x="23564" y="7739"/>
                </a:cubicBezTo>
                <a:cubicBezTo>
                  <a:pt x="23813" y="7721"/>
                  <a:pt x="24059" y="7689"/>
                  <a:pt x="24309" y="7689"/>
                </a:cubicBezTo>
                <a:cubicBezTo>
                  <a:pt x="24317" y="7689"/>
                  <a:pt x="24325" y="7689"/>
                  <a:pt x="24333" y="7689"/>
                </a:cubicBezTo>
              </a:path>
              <a:path w="1514" h="2159">
                <a:moveTo>
                  <a:pt x="24408" y="8508"/>
                </a:moveTo>
                <a:cubicBezTo>
                  <a:pt x="24310" y="8524"/>
                  <a:pt x="24231" y="8580"/>
                  <a:pt x="24135" y="8607"/>
                </a:cubicBezTo>
                <a:cubicBezTo>
                  <a:pt x="24098" y="8617"/>
                  <a:pt x="24091" y="8737"/>
                  <a:pt x="24085" y="8781"/>
                </a:cubicBezTo>
                <a:cubicBezTo>
                  <a:pt x="24085" y="8822"/>
                  <a:pt x="24085" y="8830"/>
                  <a:pt x="24085" y="8855"/>
                </a:cubicBezTo>
                <a:cubicBezTo>
                  <a:pt x="24158" y="8855"/>
                  <a:pt x="24213" y="8816"/>
                  <a:pt x="24284" y="8806"/>
                </a:cubicBezTo>
                <a:cubicBezTo>
                  <a:pt x="24385" y="8791"/>
                  <a:pt x="24486" y="8826"/>
                  <a:pt x="24507" y="8930"/>
                </a:cubicBezTo>
                <a:cubicBezTo>
                  <a:pt x="24529" y="9039"/>
                  <a:pt x="24453" y="9102"/>
                  <a:pt x="24358" y="9128"/>
                </a:cubicBezTo>
                <a:cubicBezTo>
                  <a:pt x="24309" y="9142"/>
                  <a:pt x="24179" y="9186"/>
                  <a:pt x="24160" y="9128"/>
                </a:cubicBezTo>
              </a:path>
              <a:path w="1514" h="2159">
                <a:moveTo>
                  <a:pt x="23416" y="7020"/>
                </a:moveTo>
                <a:cubicBezTo>
                  <a:pt x="23341" y="6995"/>
                  <a:pt x="23432" y="7221"/>
                  <a:pt x="23440" y="7293"/>
                </a:cubicBezTo>
                <a:cubicBezTo>
                  <a:pt x="23448" y="7364"/>
                  <a:pt x="23417" y="7376"/>
                  <a:pt x="23465" y="7392"/>
                </a:cubicBezTo>
              </a:path>
              <a:path w="1514" h="2159">
                <a:moveTo>
                  <a:pt x="23812" y="7962"/>
                </a:moveTo>
                <a:cubicBezTo>
                  <a:pt x="23706" y="7962"/>
                  <a:pt x="23638" y="7986"/>
                  <a:pt x="23540" y="8012"/>
                </a:cubicBezTo>
                <a:cubicBezTo>
                  <a:pt x="23512" y="8020"/>
                  <a:pt x="23499" y="8097"/>
                  <a:pt x="23515" y="8136"/>
                </a:cubicBezTo>
                <a:cubicBezTo>
                  <a:pt x="23538" y="8159"/>
                  <a:pt x="23546" y="8163"/>
                  <a:pt x="23540" y="8186"/>
                </a:cubicBezTo>
                <a:cubicBezTo>
                  <a:pt x="23593" y="8186"/>
                  <a:pt x="23609" y="8164"/>
                  <a:pt x="23664" y="8161"/>
                </a:cubicBezTo>
                <a:cubicBezTo>
                  <a:pt x="23721" y="8158"/>
                  <a:pt x="23791" y="8147"/>
                  <a:pt x="23812" y="8186"/>
                </a:cubicBezTo>
                <a:cubicBezTo>
                  <a:pt x="23847" y="8251"/>
                  <a:pt x="23837" y="8294"/>
                  <a:pt x="23763" y="8334"/>
                </a:cubicBezTo>
                <a:cubicBezTo>
                  <a:pt x="23705" y="8365"/>
                  <a:pt x="23650" y="8359"/>
                  <a:pt x="23589" y="8359"/>
                </a:cubicBezTo>
                <a:cubicBezTo>
                  <a:pt x="23581" y="8359"/>
                  <a:pt x="23572" y="8359"/>
                  <a:pt x="23564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04120" y="3813120"/>
            <a:ext cx="777960" cy="946080"/>
          </a:xfrm>
          <a:custGeom>
            <a:avLst/>
            <a:gdLst/>
            <a:ahLst/>
            <a:rect l="l" t="t" r="r" b="b"/>
            <a:pathLst>
              <a:path w="2159" h="2630">
                <a:moveTo>
                  <a:pt x="23490" y="10592"/>
                </a:moveTo>
                <a:cubicBezTo>
                  <a:pt x="23490" y="10592"/>
                  <a:pt x="23278" y="10602"/>
                  <a:pt x="23168" y="10666"/>
                </a:cubicBezTo>
                <a:cubicBezTo>
                  <a:pt x="23105" y="10728"/>
                  <a:pt x="23087" y="10738"/>
                  <a:pt x="23068" y="10790"/>
                </a:cubicBezTo>
                <a:cubicBezTo>
                  <a:pt x="23222" y="10883"/>
                  <a:pt x="23368" y="10930"/>
                  <a:pt x="23490" y="11063"/>
                </a:cubicBezTo>
                <a:cubicBezTo>
                  <a:pt x="23446" y="11133"/>
                  <a:pt x="23285" y="11235"/>
                  <a:pt x="23242" y="11088"/>
                </a:cubicBezTo>
                <a:cubicBezTo>
                  <a:pt x="23201" y="10950"/>
                  <a:pt x="23477" y="10807"/>
                  <a:pt x="23540" y="10716"/>
                </a:cubicBezTo>
                <a:cubicBezTo>
                  <a:pt x="23540" y="10691"/>
                  <a:pt x="23540" y="10683"/>
                  <a:pt x="23515" y="10691"/>
                </a:cubicBezTo>
              </a:path>
              <a:path w="2159" h="2630">
                <a:moveTo>
                  <a:pt x="23788" y="10641"/>
                </a:moveTo>
                <a:cubicBezTo>
                  <a:pt x="23788" y="10770"/>
                  <a:pt x="23791" y="10836"/>
                  <a:pt x="23763" y="10964"/>
                </a:cubicBezTo>
                <a:cubicBezTo>
                  <a:pt x="23747" y="11037"/>
                  <a:pt x="23725" y="11114"/>
                  <a:pt x="23713" y="11187"/>
                </a:cubicBezTo>
                <a:cubicBezTo>
                  <a:pt x="23818" y="11198"/>
                  <a:pt x="23871" y="11223"/>
                  <a:pt x="23961" y="11162"/>
                </a:cubicBezTo>
              </a:path>
              <a:path w="2159" h="2630">
                <a:moveTo>
                  <a:pt x="23564" y="11013"/>
                </a:moveTo>
                <a:cubicBezTo>
                  <a:pt x="23723" y="10988"/>
                  <a:pt x="23875" y="10964"/>
                  <a:pt x="24036" y="10964"/>
                </a:cubicBezTo>
              </a:path>
              <a:path w="2159" h="2630">
                <a:moveTo>
                  <a:pt x="24110" y="10964"/>
                </a:moveTo>
                <a:cubicBezTo>
                  <a:pt x="24099" y="11038"/>
                  <a:pt x="24048" y="11128"/>
                  <a:pt x="24085" y="11187"/>
                </a:cubicBezTo>
                <a:cubicBezTo>
                  <a:pt x="24093" y="11195"/>
                  <a:pt x="24102" y="11204"/>
                  <a:pt x="24110" y="11212"/>
                </a:cubicBezTo>
                <a:cubicBezTo>
                  <a:pt x="24172" y="11168"/>
                  <a:pt x="24244" y="11090"/>
                  <a:pt x="24160" y="11013"/>
                </a:cubicBezTo>
                <a:cubicBezTo>
                  <a:pt x="24112" y="10989"/>
                  <a:pt x="24098" y="10981"/>
                  <a:pt x="24061" y="10988"/>
                </a:cubicBezTo>
              </a:path>
              <a:path w="2159" h="2630">
                <a:moveTo>
                  <a:pt x="24581" y="10641"/>
                </a:moveTo>
                <a:cubicBezTo>
                  <a:pt x="24600" y="10772"/>
                  <a:pt x="24585" y="10879"/>
                  <a:pt x="24581" y="11013"/>
                </a:cubicBezTo>
                <a:cubicBezTo>
                  <a:pt x="24580" y="11054"/>
                  <a:pt x="24581" y="11096"/>
                  <a:pt x="24581" y="11137"/>
                </a:cubicBezTo>
              </a:path>
              <a:path w="2159" h="2630">
                <a:moveTo>
                  <a:pt x="24904" y="10592"/>
                </a:moveTo>
                <a:cubicBezTo>
                  <a:pt x="24904" y="10663"/>
                  <a:pt x="24887" y="10725"/>
                  <a:pt x="24879" y="10790"/>
                </a:cubicBezTo>
                <a:cubicBezTo>
                  <a:pt x="24869" y="10868"/>
                  <a:pt x="24842" y="10947"/>
                  <a:pt x="24829" y="11013"/>
                </a:cubicBezTo>
                <a:cubicBezTo>
                  <a:pt x="24818" y="11068"/>
                  <a:pt x="24859" y="11087"/>
                  <a:pt x="24904" y="11112"/>
                </a:cubicBezTo>
                <a:cubicBezTo>
                  <a:pt x="24979" y="11154"/>
                  <a:pt x="25106" y="11141"/>
                  <a:pt x="25177" y="11088"/>
                </a:cubicBezTo>
                <a:cubicBezTo>
                  <a:pt x="25217" y="11058"/>
                  <a:pt x="25226" y="11024"/>
                  <a:pt x="25226" y="10964"/>
                </a:cubicBezTo>
                <a:cubicBezTo>
                  <a:pt x="25226" y="10880"/>
                  <a:pt x="25120" y="10920"/>
                  <a:pt x="25078" y="10939"/>
                </a:cubicBezTo>
                <a:cubicBezTo>
                  <a:pt x="25024" y="10963"/>
                  <a:pt x="25007" y="11001"/>
                  <a:pt x="25003" y="11063"/>
                </a:cubicBezTo>
                <a:cubicBezTo>
                  <a:pt x="25003" y="11104"/>
                  <a:pt x="25003" y="11112"/>
                  <a:pt x="25003" y="11137"/>
                </a:cubicBezTo>
              </a:path>
              <a:path w="2159" h="2630">
                <a:moveTo>
                  <a:pt x="23738" y="11633"/>
                </a:moveTo>
                <a:cubicBezTo>
                  <a:pt x="23653" y="11516"/>
                  <a:pt x="23551" y="11544"/>
                  <a:pt x="23416" y="11559"/>
                </a:cubicBezTo>
                <a:cubicBezTo>
                  <a:pt x="23360" y="11707"/>
                  <a:pt x="23480" y="11714"/>
                  <a:pt x="23564" y="11832"/>
                </a:cubicBezTo>
                <a:cubicBezTo>
                  <a:pt x="23656" y="11960"/>
                  <a:pt x="23547" y="12022"/>
                  <a:pt x="23416" y="11981"/>
                </a:cubicBezTo>
                <a:cubicBezTo>
                  <a:pt x="23416" y="11973"/>
                  <a:pt x="23416" y="11964"/>
                  <a:pt x="23416" y="11956"/>
                </a:cubicBezTo>
                <a:cubicBezTo>
                  <a:pt x="23493" y="11862"/>
                  <a:pt x="23591" y="11793"/>
                  <a:pt x="23639" y="11683"/>
                </a:cubicBezTo>
              </a:path>
              <a:path w="2159" h="2630">
                <a:moveTo>
                  <a:pt x="24185" y="11633"/>
                </a:moveTo>
                <a:cubicBezTo>
                  <a:pt x="24129" y="11670"/>
                  <a:pt x="24177" y="11780"/>
                  <a:pt x="24160" y="11857"/>
                </a:cubicBezTo>
                <a:cubicBezTo>
                  <a:pt x="24140" y="11897"/>
                  <a:pt x="24131" y="11903"/>
                  <a:pt x="24135" y="11931"/>
                </a:cubicBezTo>
              </a:path>
              <a:path w="2159" h="2630">
                <a:moveTo>
                  <a:pt x="24284" y="11633"/>
                </a:moveTo>
                <a:cubicBezTo>
                  <a:pt x="24284" y="11725"/>
                  <a:pt x="24263" y="11793"/>
                  <a:pt x="24259" y="11881"/>
                </a:cubicBezTo>
                <a:cubicBezTo>
                  <a:pt x="24257" y="11914"/>
                  <a:pt x="24259" y="11948"/>
                  <a:pt x="24259" y="11981"/>
                </a:cubicBezTo>
                <a:cubicBezTo>
                  <a:pt x="24348" y="11981"/>
                  <a:pt x="24486" y="12009"/>
                  <a:pt x="24557" y="11956"/>
                </a:cubicBezTo>
                <a:cubicBezTo>
                  <a:pt x="24584" y="11936"/>
                  <a:pt x="24586" y="11907"/>
                  <a:pt x="24606" y="11881"/>
                </a:cubicBezTo>
                <a:cubicBezTo>
                  <a:pt x="24550" y="11863"/>
                  <a:pt x="24565" y="11844"/>
                  <a:pt x="24482" y="11857"/>
                </a:cubicBezTo>
                <a:cubicBezTo>
                  <a:pt x="24420" y="11867"/>
                  <a:pt x="24433" y="11929"/>
                  <a:pt x="24433" y="11981"/>
                </a:cubicBezTo>
                <a:cubicBezTo>
                  <a:pt x="24433" y="11989"/>
                  <a:pt x="24433" y="11997"/>
                  <a:pt x="24433" y="12005"/>
                </a:cubicBezTo>
              </a:path>
              <a:path w="2159" h="2630">
                <a:moveTo>
                  <a:pt x="23664" y="12204"/>
                </a:moveTo>
                <a:cubicBezTo>
                  <a:pt x="23556" y="12212"/>
                  <a:pt x="23492" y="12234"/>
                  <a:pt x="23391" y="12278"/>
                </a:cubicBezTo>
                <a:cubicBezTo>
                  <a:pt x="23446" y="12362"/>
                  <a:pt x="23555" y="12410"/>
                  <a:pt x="23639" y="12477"/>
                </a:cubicBezTo>
                <a:cubicBezTo>
                  <a:pt x="23627" y="12495"/>
                  <a:pt x="23484" y="12557"/>
                  <a:pt x="23490" y="12477"/>
                </a:cubicBezTo>
                <a:cubicBezTo>
                  <a:pt x="23498" y="12383"/>
                  <a:pt x="23658" y="12359"/>
                  <a:pt x="23688" y="12278"/>
                </a:cubicBezTo>
                <a:cubicBezTo>
                  <a:pt x="23688" y="12270"/>
                  <a:pt x="23688" y="12262"/>
                  <a:pt x="23688" y="12254"/>
                </a:cubicBezTo>
              </a:path>
              <a:path w="2159" h="2630">
                <a:moveTo>
                  <a:pt x="23217" y="12675"/>
                </a:moveTo>
                <a:cubicBezTo>
                  <a:pt x="23401" y="12675"/>
                  <a:pt x="23580" y="12657"/>
                  <a:pt x="23763" y="12650"/>
                </a:cubicBezTo>
                <a:cubicBezTo>
                  <a:pt x="23771" y="12650"/>
                  <a:pt x="23780" y="12650"/>
                  <a:pt x="23788" y="12650"/>
                </a:cubicBezTo>
              </a:path>
              <a:path w="2159" h="2630">
                <a:moveTo>
                  <a:pt x="23440" y="12874"/>
                </a:moveTo>
                <a:cubicBezTo>
                  <a:pt x="23425" y="12966"/>
                  <a:pt x="23398" y="13051"/>
                  <a:pt x="23391" y="13146"/>
                </a:cubicBezTo>
              </a:path>
              <a:path w="2159" h="2630">
                <a:moveTo>
                  <a:pt x="23688" y="12898"/>
                </a:moveTo>
                <a:cubicBezTo>
                  <a:pt x="23688" y="12961"/>
                  <a:pt x="23659" y="13082"/>
                  <a:pt x="23713" y="13122"/>
                </a:cubicBezTo>
                <a:cubicBezTo>
                  <a:pt x="23782" y="13174"/>
                  <a:pt x="23894" y="13189"/>
                  <a:pt x="23961" y="13122"/>
                </a:cubicBezTo>
                <a:cubicBezTo>
                  <a:pt x="23981" y="13081"/>
                  <a:pt x="23990" y="13075"/>
                  <a:pt x="23986" y="13047"/>
                </a:cubicBezTo>
                <a:cubicBezTo>
                  <a:pt x="23904" y="13047"/>
                  <a:pt x="23884" y="13035"/>
                  <a:pt x="23862" y="13122"/>
                </a:cubicBezTo>
                <a:cubicBezTo>
                  <a:pt x="23862" y="13130"/>
                  <a:pt x="23862" y="13138"/>
                  <a:pt x="23862" y="13146"/>
                </a:cubicBezTo>
              </a:path>
              <a:path w="2159" h="2630">
                <a:moveTo>
                  <a:pt x="24085" y="12650"/>
                </a:moveTo>
                <a:cubicBezTo>
                  <a:pt x="24110" y="12650"/>
                  <a:pt x="24118" y="12650"/>
                  <a:pt x="24135" y="12650"/>
                </a:cubicBezTo>
              </a:path>
              <a:path w="2159" h="2630">
                <a:moveTo>
                  <a:pt x="24135" y="12799"/>
                </a:moveTo>
                <a:cubicBezTo>
                  <a:pt x="24176" y="12799"/>
                  <a:pt x="24184" y="12799"/>
                  <a:pt x="24209" y="12799"/>
                </a:cubicBezTo>
              </a:path>
              <a:path w="2159" h="2630">
                <a:moveTo>
                  <a:pt x="24656" y="12328"/>
                </a:moveTo>
                <a:cubicBezTo>
                  <a:pt x="24693" y="12434"/>
                  <a:pt x="24733" y="12543"/>
                  <a:pt x="24755" y="12650"/>
                </a:cubicBezTo>
              </a:path>
              <a:path w="2159" h="2630">
                <a:moveTo>
                  <a:pt x="24557" y="12799"/>
                </a:moveTo>
                <a:cubicBezTo>
                  <a:pt x="24731" y="12799"/>
                  <a:pt x="24904" y="12799"/>
                  <a:pt x="25078" y="12799"/>
                </a:cubicBezTo>
              </a:path>
              <a:path w="2159" h="2630">
                <a:moveTo>
                  <a:pt x="24780" y="12998"/>
                </a:moveTo>
                <a:cubicBezTo>
                  <a:pt x="24839" y="12990"/>
                  <a:pt x="24894" y="12973"/>
                  <a:pt x="24954" y="12973"/>
                </a:cubicBezTo>
                <a:cubicBezTo>
                  <a:pt x="24962" y="12973"/>
                  <a:pt x="24970" y="12973"/>
                  <a:pt x="24978" y="12973"/>
                </a:cubicBezTo>
                <a:cubicBezTo>
                  <a:pt x="24930" y="13059"/>
                  <a:pt x="24854" y="13116"/>
                  <a:pt x="24805" y="13196"/>
                </a:cubicBezTo>
                <a:cubicBezTo>
                  <a:pt x="24805" y="13204"/>
                  <a:pt x="24805" y="13213"/>
                  <a:pt x="24805" y="13221"/>
                </a:cubicBezTo>
                <a:cubicBezTo>
                  <a:pt x="24873" y="13221"/>
                  <a:pt x="24966" y="13178"/>
                  <a:pt x="25028" y="13196"/>
                </a:cubicBezTo>
                <a:cubicBezTo>
                  <a:pt x="25051" y="13219"/>
                  <a:pt x="25055" y="13227"/>
                  <a:pt x="25078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8120" y="3178080"/>
            <a:ext cx="1071720" cy="322200"/>
          </a:xfrm>
          <a:custGeom>
            <a:avLst/>
            <a:gdLst/>
            <a:ahLst/>
            <a:rect l="l" t="t" r="r" b="b"/>
            <a:pathLst>
              <a:path w="2978" h="894">
                <a:moveTo>
                  <a:pt x="16743" y="8830"/>
                </a:moveTo>
                <a:cubicBezTo>
                  <a:pt x="16735" y="8830"/>
                  <a:pt x="16726" y="8830"/>
                  <a:pt x="16718" y="8830"/>
                </a:cubicBezTo>
              </a:path>
              <a:path w="2978" h="894">
                <a:moveTo>
                  <a:pt x="19621" y="9103"/>
                </a:moveTo>
                <a:cubicBezTo>
                  <a:pt x="19641" y="9267"/>
                  <a:pt x="19650" y="9436"/>
                  <a:pt x="19670" y="9599"/>
                </a:cubicBezTo>
                <a:cubicBezTo>
                  <a:pt x="19689" y="9673"/>
                  <a:pt x="19697" y="9680"/>
                  <a:pt x="19695" y="97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69000" y="2724120"/>
            <a:ext cx="3170160" cy="830160"/>
          </a:xfrm>
          <a:custGeom>
            <a:avLst/>
            <a:gdLst/>
            <a:ahLst/>
            <a:rect l="l" t="t" r="r" b="b"/>
            <a:pathLst>
              <a:path w="8806" h="2308">
                <a:moveTo>
                  <a:pt x="16024" y="7689"/>
                </a:moveTo>
                <a:cubicBezTo>
                  <a:pt x="16140" y="7632"/>
                  <a:pt x="16284" y="7650"/>
                  <a:pt x="16446" y="7640"/>
                </a:cubicBezTo>
                <a:cubicBezTo>
                  <a:pt x="16858" y="7615"/>
                  <a:pt x="17271" y="7544"/>
                  <a:pt x="17686" y="7565"/>
                </a:cubicBezTo>
                <a:cubicBezTo>
                  <a:pt x="17737" y="7568"/>
                  <a:pt x="17822" y="7585"/>
                  <a:pt x="17884" y="7590"/>
                </a:cubicBezTo>
              </a:path>
              <a:path w="8806" h="2308">
                <a:moveTo>
                  <a:pt x="16718" y="8830"/>
                </a:moveTo>
                <a:cubicBezTo>
                  <a:pt x="16694" y="8830"/>
                  <a:pt x="16685" y="8830"/>
                  <a:pt x="16669" y="8830"/>
                </a:cubicBezTo>
              </a:path>
              <a:path w="8806" h="2308">
                <a:moveTo>
                  <a:pt x="16669" y="8830"/>
                </a:moveTo>
                <a:cubicBezTo>
                  <a:pt x="16644" y="8830"/>
                  <a:pt x="16636" y="8830"/>
                  <a:pt x="16644" y="8806"/>
                </a:cubicBezTo>
                <a:cubicBezTo>
                  <a:pt x="16681" y="8814"/>
                  <a:pt x="16709" y="8827"/>
                  <a:pt x="16743" y="8830"/>
                </a:cubicBezTo>
                <a:cubicBezTo>
                  <a:pt x="16808" y="8836"/>
                  <a:pt x="16860" y="8820"/>
                  <a:pt x="16917" y="8806"/>
                </a:cubicBezTo>
                <a:cubicBezTo>
                  <a:pt x="16980" y="8790"/>
                  <a:pt x="17022" y="8783"/>
                  <a:pt x="17090" y="8781"/>
                </a:cubicBezTo>
                <a:cubicBezTo>
                  <a:pt x="17170" y="8779"/>
                  <a:pt x="17241" y="8764"/>
                  <a:pt x="17314" y="8756"/>
                </a:cubicBezTo>
                <a:cubicBezTo>
                  <a:pt x="17383" y="8748"/>
                  <a:pt x="17402" y="8804"/>
                  <a:pt x="17462" y="8806"/>
                </a:cubicBezTo>
                <a:cubicBezTo>
                  <a:pt x="17540" y="8808"/>
                  <a:pt x="17592" y="8766"/>
                  <a:pt x="17661" y="8756"/>
                </a:cubicBezTo>
                <a:cubicBezTo>
                  <a:pt x="17718" y="8748"/>
                  <a:pt x="17713" y="8738"/>
                  <a:pt x="17785" y="8756"/>
                </a:cubicBezTo>
                <a:cubicBezTo>
                  <a:pt x="17898" y="8785"/>
                  <a:pt x="17976" y="8736"/>
                  <a:pt x="18083" y="8756"/>
                </a:cubicBezTo>
                <a:cubicBezTo>
                  <a:pt x="18145" y="8767"/>
                  <a:pt x="18107" y="8790"/>
                  <a:pt x="18157" y="8806"/>
                </a:cubicBezTo>
                <a:cubicBezTo>
                  <a:pt x="18240" y="8832"/>
                  <a:pt x="18334" y="8830"/>
                  <a:pt x="18430" y="8830"/>
                </a:cubicBezTo>
                <a:cubicBezTo>
                  <a:pt x="18519" y="8830"/>
                  <a:pt x="18568" y="8852"/>
                  <a:pt x="18653" y="8880"/>
                </a:cubicBezTo>
                <a:cubicBezTo>
                  <a:pt x="18778" y="8921"/>
                  <a:pt x="18875" y="8892"/>
                  <a:pt x="19000" y="8855"/>
                </a:cubicBezTo>
                <a:cubicBezTo>
                  <a:pt x="19111" y="8823"/>
                  <a:pt x="19044" y="8860"/>
                  <a:pt x="19149" y="8880"/>
                </a:cubicBezTo>
                <a:cubicBezTo>
                  <a:pt x="19275" y="8903"/>
                  <a:pt x="19377" y="8847"/>
                  <a:pt x="19496" y="8830"/>
                </a:cubicBezTo>
                <a:cubicBezTo>
                  <a:pt x="19568" y="8820"/>
                  <a:pt x="19660" y="8812"/>
                  <a:pt x="19720" y="8806"/>
                </a:cubicBezTo>
                <a:cubicBezTo>
                  <a:pt x="19839" y="8793"/>
                  <a:pt x="19963" y="8819"/>
                  <a:pt x="20067" y="8830"/>
                </a:cubicBezTo>
                <a:cubicBezTo>
                  <a:pt x="20130" y="8837"/>
                  <a:pt x="20161" y="8812"/>
                  <a:pt x="20216" y="8806"/>
                </a:cubicBezTo>
                <a:cubicBezTo>
                  <a:pt x="20329" y="8794"/>
                  <a:pt x="20455" y="8791"/>
                  <a:pt x="20563" y="8781"/>
                </a:cubicBezTo>
                <a:cubicBezTo>
                  <a:pt x="20614" y="8776"/>
                  <a:pt x="20666" y="8760"/>
                  <a:pt x="20712" y="8756"/>
                </a:cubicBezTo>
                <a:cubicBezTo>
                  <a:pt x="20796" y="8748"/>
                  <a:pt x="20832" y="8735"/>
                  <a:pt x="20910" y="8731"/>
                </a:cubicBezTo>
                <a:cubicBezTo>
                  <a:pt x="20918" y="8731"/>
                  <a:pt x="20927" y="8731"/>
                  <a:pt x="20935" y="8731"/>
                </a:cubicBezTo>
              </a:path>
              <a:path w="8806" h="2308">
                <a:moveTo>
                  <a:pt x="21258" y="8855"/>
                </a:moveTo>
                <a:cubicBezTo>
                  <a:pt x="21386" y="8869"/>
                  <a:pt x="21524" y="8932"/>
                  <a:pt x="21654" y="8930"/>
                </a:cubicBezTo>
                <a:cubicBezTo>
                  <a:pt x="21846" y="8927"/>
                  <a:pt x="22071" y="8875"/>
                  <a:pt x="22225" y="8756"/>
                </a:cubicBezTo>
                <a:cubicBezTo>
                  <a:pt x="22387" y="8631"/>
                  <a:pt x="22487" y="8459"/>
                  <a:pt x="22448" y="8260"/>
                </a:cubicBezTo>
                <a:cubicBezTo>
                  <a:pt x="22418" y="8107"/>
                  <a:pt x="22351" y="7979"/>
                  <a:pt x="22225" y="7888"/>
                </a:cubicBezTo>
                <a:cubicBezTo>
                  <a:pt x="22082" y="7785"/>
                  <a:pt x="21950" y="7768"/>
                  <a:pt x="21779" y="7764"/>
                </a:cubicBezTo>
                <a:cubicBezTo>
                  <a:pt x="21620" y="7760"/>
                  <a:pt x="21442" y="7797"/>
                  <a:pt x="21307" y="7888"/>
                </a:cubicBezTo>
                <a:cubicBezTo>
                  <a:pt x="21211" y="7953"/>
                  <a:pt x="21089" y="8096"/>
                  <a:pt x="21059" y="8210"/>
                </a:cubicBezTo>
                <a:cubicBezTo>
                  <a:pt x="21031" y="8317"/>
                  <a:pt x="21057" y="8478"/>
                  <a:pt x="21084" y="8582"/>
                </a:cubicBezTo>
                <a:cubicBezTo>
                  <a:pt x="21116" y="8707"/>
                  <a:pt x="21232" y="8809"/>
                  <a:pt x="21357" y="8830"/>
                </a:cubicBezTo>
                <a:cubicBezTo>
                  <a:pt x="21513" y="8856"/>
                  <a:pt x="21654" y="8806"/>
                  <a:pt x="21803" y="8781"/>
                </a:cubicBezTo>
                <a:cubicBezTo>
                  <a:pt x="21828" y="8781"/>
                  <a:pt x="21836" y="8781"/>
                  <a:pt x="21853" y="8781"/>
                </a:cubicBezTo>
              </a:path>
              <a:path w="8806" h="2308">
                <a:moveTo>
                  <a:pt x="20241" y="9153"/>
                </a:moveTo>
                <a:cubicBezTo>
                  <a:pt x="20220" y="9091"/>
                  <a:pt x="20208" y="9164"/>
                  <a:pt x="20191" y="9203"/>
                </a:cubicBezTo>
                <a:cubicBezTo>
                  <a:pt x="20260" y="9189"/>
                  <a:pt x="20276" y="9172"/>
                  <a:pt x="20290" y="9103"/>
                </a:cubicBezTo>
                <a:cubicBezTo>
                  <a:pt x="20253" y="9112"/>
                  <a:pt x="20201" y="9133"/>
                  <a:pt x="20241" y="9153"/>
                </a:cubicBezTo>
              </a:path>
              <a:path w="8806" h="2308">
                <a:moveTo>
                  <a:pt x="20265" y="9575"/>
                </a:moveTo>
                <a:cubicBezTo>
                  <a:pt x="20195" y="9625"/>
                  <a:pt x="20176" y="9625"/>
                  <a:pt x="20241" y="9674"/>
                </a:cubicBezTo>
                <a:cubicBezTo>
                  <a:pt x="20285" y="9598"/>
                  <a:pt x="20233" y="9572"/>
                  <a:pt x="20216" y="9649"/>
                </a:cubicBezTo>
                <a:cubicBezTo>
                  <a:pt x="20216" y="9657"/>
                  <a:pt x="20216" y="9666"/>
                  <a:pt x="20216" y="9674"/>
                </a:cubicBezTo>
                <a:cubicBezTo>
                  <a:pt x="20287" y="9638"/>
                  <a:pt x="20296" y="9600"/>
                  <a:pt x="20191" y="9624"/>
                </a:cubicBezTo>
              </a:path>
              <a:path w="8806" h="2308">
                <a:moveTo>
                  <a:pt x="19025" y="9872"/>
                </a:moveTo>
                <a:cubicBezTo>
                  <a:pt x="19126" y="9812"/>
                  <a:pt x="19278" y="9858"/>
                  <a:pt x="19397" y="9847"/>
                </a:cubicBezTo>
                <a:cubicBezTo>
                  <a:pt x="19547" y="9834"/>
                  <a:pt x="19695" y="9808"/>
                  <a:pt x="19844" y="9798"/>
                </a:cubicBezTo>
                <a:cubicBezTo>
                  <a:pt x="19877" y="9798"/>
                  <a:pt x="19893" y="9798"/>
                  <a:pt x="19918" y="9798"/>
                </a:cubicBezTo>
              </a:path>
              <a:path w="8806" h="2308">
                <a:moveTo>
                  <a:pt x="20638" y="9723"/>
                </a:moveTo>
                <a:cubicBezTo>
                  <a:pt x="20828" y="9723"/>
                  <a:pt x="21028" y="9703"/>
                  <a:pt x="21208" y="9748"/>
                </a:cubicBezTo>
                <a:cubicBezTo>
                  <a:pt x="21216" y="9748"/>
                  <a:pt x="21225" y="9748"/>
                  <a:pt x="21233" y="9748"/>
                </a:cubicBezTo>
              </a:path>
              <a:path w="8806" h="2308">
                <a:moveTo>
                  <a:pt x="22349" y="9550"/>
                </a:moveTo>
                <a:cubicBezTo>
                  <a:pt x="22305" y="9602"/>
                  <a:pt x="22277" y="9597"/>
                  <a:pt x="22225" y="9649"/>
                </a:cubicBezTo>
                <a:cubicBezTo>
                  <a:pt x="22352" y="9649"/>
                  <a:pt x="22439" y="9624"/>
                  <a:pt x="22572" y="9599"/>
                </a:cubicBezTo>
                <a:cubicBezTo>
                  <a:pt x="22676" y="9579"/>
                  <a:pt x="22767" y="9575"/>
                  <a:pt x="22870" y="9575"/>
                </a:cubicBezTo>
                <a:cubicBezTo>
                  <a:pt x="22878" y="9575"/>
                  <a:pt x="22887" y="9575"/>
                  <a:pt x="22895" y="9575"/>
                </a:cubicBezTo>
              </a:path>
              <a:path w="8806" h="2308">
                <a:moveTo>
                  <a:pt x="23242" y="8930"/>
                </a:moveTo>
                <a:cubicBezTo>
                  <a:pt x="23289" y="9057"/>
                  <a:pt x="23292" y="9167"/>
                  <a:pt x="23292" y="9302"/>
                </a:cubicBezTo>
                <a:cubicBezTo>
                  <a:pt x="23292" y="9447"/>
                  <a:pt x="23506" y="9397"/>
                  <a:pt x="23589" y="9351"/>
                </a:cubicBezTo>
                <a:cubicBezTo>
                  <a:pt x="23589" y="9343"/>
                  <a:pt x="23589" y="9335"/>
                  <a:pt x="23589" y="9327"/>
                </a:cubicBezTo>
              </a:path>
              <a:path w="8806" h="2308">
                <a:moveTo>
                  <a:pt x="23019" y="9203"/>
                </a:moveTo>
                <a:cubicBezTo>
                  <a:pt x="23187" y="9167"/>
                  <a:pt x="23317" y="9153"/>
                  <a:pt x="23490" y="9153"/>
                </a:cubicBezTo>
              </a:path>
              <a:path w="8806" h="2308">
                <a:moveTo>
                  <a:pt x="23713" y="9153"/>
                </a:moveTo>
                <a:cubicBezTo>
                  <a:pt x="23706" y="9194"/>
                  <a:pt x="23644" y="9328"/>
                  <a:pt x="23713" y="9351"/>
                </a:cubicBezTo>
                <a:cubicBezTo>
                  <a:pt x="23817" y="9385"/>
                  <a:pt x="23962" y="9293"/>
                  <a:pt x="23887" y="9178"/>
                </a:cubicBezTo>
                <a:cubicBezTo>
                  <a:pt x="23832" y="9150"/>
                  <a:pt x="23809" y="9142"/>
                  <a:pt x="23763" y="9153"/>
                </a:cubicBezTo>
              </a:path>
              <a:path w="8806" h="2308">
                <a:moveTo>
                  <a:pt x="24085" y="9327"/>
                </a:moveTo>
                <a:cubicBezTo>
                  <a:pt x="24156" y="9274"/>
                  <a:pt x="24296" y="9258"/>
                  <a:pt x="24383" y="9252"/>
                </a:cubicBezTo>
                <a:cubicBezTo>
                  <a:pt x="24514" y="9243"/>
                  <a:pt x="24648" y="9227"/>
                  <a:pt x="24780" y="9227"/>
                </a:cubicBezTo>
                <a:cubicBezTo>
                  <a:pt x="24805" y="9227"/>
                  <a:pt x="24813" y="9227"/>
                  <a:pt x="24829" y="9227"/>
                </a:cubicBezTo>
              </a:path>
              <a:path w="8806" h="2308">
                <a:moveTo>
                  <a:pt x="19149" y="9252"/>
                </a:moveTo>
                <a:cubicBezTo>
                  <a:pt x="19157" y="9197"/>
                  <a:pt x="19166" y="9183"/>
                  <a:pt x="19174" y="9128"/>
                </a:cubicBezTo>
                <a:cubicBezTo>
                  <a:pt x="19207" y="9309"/>
                  <a:pt x="19240" y="9490"/>
                  <a:pt x="19248" y="9674"/>
                </a:cubicBezTo>
                <a:cubicBezTo>
                  <a:pt x="19248" y="9699"/>
                  <a:pt x="19248" y="9707"/>
                  <a:pt x="19248" y="9674"/>
                </a:cubicBezTo>
              </a:path>
              <a:path w="8806" h="2308">
                <a:moveTo>
                  <a:pt x="21059" y="9029"/>
                </a:moveTo>
                <a:cubicBezTo>
                  <a:pt x="20951" y="9045"/>
                  <a:pt x="20848" y="9073"/>
                  <a:pt x="20737" y="9079"/>
                </a:cubicBezTo>
                <a:cubicBezTo>
                  <a:pt x="20729" y="9079"/>
                  <a:pt x="20720" y="9079"/>
                  <a:pt x="20712" y="9079"/>
                </a:cubicBezTo>
                <a:cubicBezTo>
                  <a:pt x="20712" y="9158"/>
                  <a:pt x="20726" y="9225"/>
                  <a:pt x="20737" y="9302"/>
                </a:cubicBezTo>
                <a:cubicBezTo>
                  <a:pt x="20824" y="9292"/>
                  <a:pt x="20946" y="9220"/>
                  <a:pt x="21034" y="9252"/>
                </a:cubicBezTo>
                <a:cubicBezTo>
                  <a:pt x="21143" y="9292"/>
                  <a:pt x="21118" y="9437"/>
                  <a:pt x="21059" y="9500"/>
                </a:cubicBezTo>
                <a:cubicBezTo>
                  <a:pt x="20983" y="9580"/>
                  <a:pt x="20885" y="9575"/>
                  <a:pt x="20786" y="9575"/>
                </a:cubicBezTo>
                <a:cubicBezTo>
                  <a:pt x="20778" y="9575"/>
                  <a:pt x="20770" y="9575"/>
                  <a:pt x="20762" y="9575"/>
                </a:cubicBezTo>
              </a:path>
              <a:path w="8806" h="2308">
                <a:moveTo>
                  <a:pt x="22275" y="8979"/>
                </a:moveTo>
                <a:cubicBezTo>
                  <a:pt x="22275" y="9113"/>
                  <a:pt x="22296" y="9242"/>
                  <a:pt x="22299" y="9376"/>
                </a:cubicBezTo>
                <a:cubicBezTo>
                  <a:pt x="22300" y="9437"/>
                  <a:pt x="22297" y="9555"/>
                  <a:pt x="22324" y="9500"/>
                </a:cubicBezTo>
              </a:path>
              <a:path w="8806" h="2308">
                <a:moveTo>
                  <a:pt x="22696" y="8855"/>
                </a:moveTo>
                <a:cubicBezTo>
                  <a:pt x="22696" y="8961"/>
                  <a:pt x="22708" y="9074"/>
                  <a:pt x="22721" y="9178"/>
                </a:cubicBezTo>
                <a:cubicBezTo>
                  <a:pt x="22732" y="9271"/>
                  <a:pt x="22758" y="9360"/>
                  <a:pt x="22771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983360" y="491976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2175" y="13667"/>
                </a:moveTo>
                <a:cubicBezTo>
                  <a:pt x="22175" y="13675"/>
                  <a:pt x="22175" y="13684"/>
                  <a:pt x="22175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32800" y="4894200"/>
            <a:ext cx="644400" cy="169920"/>
          </a:xfrm>
          <a:custGeom>
            <a:avLst/>
            <a:gdLst/>
            <a:ahLst/>
            <a:rect l="l" t="t" r="r" b="b"/>
            <a:pathLst>
              <a:path w="1787" h="472">
                <a:moveTo>
                  <a:pt x="21481" y="13593"/>
                </a:moveTo>
                <a:cubicBezTo>
                  <a:pt x="21527" y="13608"/>
                  <a:pt x="21522" y="13743"/>
                  <a:pt x="21530" y="13791"/>
                </a:cubicBezTo>
                <a:cubicBezTo>
                  <a:pt x="21540" y="13855"/>
                  <a:pt x="21555" y="14006"/>
                  <a:pt x="21580" y="14039"/>
                </a:cubicBezTo>
              </a:path>
              <a:path w="1787" h="472">
                <a:moveTo>
                  <a:pt x="21779" y="13593"/>
                </a:moveTo>
                <a:cubicBezTo>
                  <a:pt x="21829" y="13610"/>
                  <a:pt x="21847" y="13737"/>
                  <a:pt x="21853" y="13791"/>
                </a:cubicBezTo>
                <a:cubicBezTo>
                  <a:pt x="21862" y="13877"/>
                  <a:pt x="21855" y="13925"/>
                  <a:pt x="21903" y="13990"/>
                </a:cubicBezTo>
              </a:path>
              <a:path w="1787" h="472">
                <a:moveTo>
                  <a:pt x="22250" y="13990"/>
                </a:moveTo>
                <a:cubicBezTo>
                  <a:pt x="22250" y="13982"/>
                  <a:pt x="22250" y="13898"/>
                  <a:pt x="22250" y="13965"/>
                </a:cubicBezTo>
              </a:path>
              <a:path w="1787" h="472">
                <a:moveTo>
                  <a:pt x="22572" y="13643"/>
                </a:moveTo>
                <a:cubicBezTo>
                  <a:pt x="22572" y="13735"/>
                  <a:pt x="22618" y="13852"/>
                  <a:pt x="22647" y="13940"/>
                </a:cubicBezTo>
                <a:cubicBezTo>
                  <a:pt x="22663" y="13989"/>
                  <a:pt x="22668" y="14021"/>
                  <a:pt x="22696" y="14039"/>
                </a:cubicBezTo>
              </a:path>
              <a:path w="1787" h="472">
                <a:moveTo>
                  <a:pt x="22820" y="13692"/>
                </a:moveTo>
                <a:cubicBezTo>
                  <a:pt x="22879" y="13680"/>
                  <a:pt x="22953" y="13617"/>
                  <a:pt x="23019" y="13643"/>
                </a:cubicBezTo>
                <a:cubicBezTo>
                  <a:pt x="23129" y="13687"/>
                  <a:pt x="23026" y="13860"/>
                  <a:pt x="22994" y="13915"/>
                </a:cubicBezTo>
                <a:cubicBezTo>
                  <a:pt x="22956" y="13982"/>
                  <a:pt x="22920" y="13979"/>
                  <a:pt x="22920" y="14064"/>
                </a:cubicBezTo>
                <a:cubicBezTo>
                  <a:pt x="22972" y="14051"/>
                  <a:pt x="23005" y="14039"/>
                  <a:pt x="23068" y="14039"/>
                </a:cubicBezTo>
                <a:cubicBezTo>
                  <a:pt x="23136" y="14039"/>
                  <a:pt x="23186" y="14058"/>
                  <a:pt x="23242" y="14064"/>
                </a:cubicBezTo>
                <a:cubicBezTo>
                  <a:pt x="23250" y="14064"/>
                  <a:pt x="23259" y="14064"/>
                  <a:pt x="23267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670960" y="4840200"/>
            <a:ext cx="268200" cy="312840"/>
          </a:xfrm>
          <a:custGeom>
            <a:avLst/>
            <a:gdLst/>
            <a:ahLst/>
            <a:rect l="l" t="t" r="r" b="b"/>
            <a:pathLst>
              <a:path w="745" h="869">
                <a:moveTo>
                  <a:pt x="24234" y="13519"/>
                </a:moveTo>
                <a:cubicBezTo>
                  <a:pt x="24266" y="13593"/>
                  <a:pt x="24259" y="13679"/>
                  <a:pt x="24259" y="13767"/>
                </a:cubicBezTo>
                <a:cubicBezTo>
                  <a:pt x="24259" y="13775"/>
                  <a:pt x="24259" y="13783"/>
                  <a:pt x="24259" y="13791"/>
                </a:cubicBezTo>
              </a:path>
              <a:path w="745" h="869">
                <a:moveTo>
                  <a:pt x="24482" y="13444"/>
                </a:moveTo>
                <a:cubicBezTo>
                  <a:pt x="24530" y="13491"/>
                  <a:pt x="24562" y="13630"/>
                  <a:pt x="24581" y="13717"/>
                </a:cubicBezTo>
                <a:cubicBezTo>
                  <a:pt x="24581" y="13725"/>
                  <a:pt x="24581" y="13734"/>
                  <a:pt x="24581" y="13742"/>
                </a:cubicBezTo>
              </a:path>
              <a:path w="745" h="869">
                <a:moveTo>
                  <a:pt x="24085" y="13940"/>
                </a:moveTo>
                <a:cubicBezTo>
                  <a:pt x="24234" y="13926"/>
                  <a:pt x="24384" y="13895"/>
                  <a:pt x="24532" y="13866"/>
                </a:cubicBezTo>
                <a:cubicBezTo>
                  <a:pt x="24619" y="13849"/>
                  <a:pt x="24672" y="13841"/>
                  <a:pt x="24755" y="13841"/>
                </a:cubicBezTo>
              </a:path>
              <a:path w="745" h="869">
                <a:moveTo>
                  <a:pt x="24309" y="14089"/>
                </a:moveTo>
                <a:cubicBezTo>
                  <a:pt x="24350" y="14146"/>
                  <a:pt x="24333" y="14215"/>
                  <a:pt x="24333" y="14288"/>
                </a:cubicBezTo>
                <a:cubicBezTo>
                  <a:pt x="24333" y="14312"/>
                  <a:pt x="24333" y="14320"/>
                  <a:pt x="24333" y="14288"/>
                </a:cubicBezTo>
              </a:path>
              <a:path w="745" h="869">
                <a:moveTo>
                  <a:pt x="24507" y="14089"/>
                </a:moveTo>
                <a:cubicBezTo>
                  <a:pt x="24531" y="14078"/>
                  <a:pt x="24625" y="14038"/>
                  <a:pt x="24656" y="14064"/>
                </a:cubicBezTo>
                <a:cubicBezTo>
                  <a:pt x="24705" y="14105"/>
                  <a:pt x="24649" y="14235"/>
                  <a:pt x="24606" y="14263"/>
                </a:cubicBezTo>
                <a:cubicBezTo>
                  <a:pt x="24570" y="14287"/>
                  <a:pt x="24707" y="14240"/>
                  <a:pt x="24755" y="14238"/>
                </a:cubicBezTo>
                <a:cubicBezTo>
                  <a:pt x="24796" y="14238"/>
                  <a:pt x="24804" y="14238"/>
                  <a:pt x="24829" y="142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28800" y="6188040"/>
            <a:ext cx="169920" cy="428760"/>
          </a:xfrm>
          <a:custGeom>
            <a:avLst/>
            <a:gdLst/>
            <a:ahLst/>
            <a:rect l="l" t="t" r="r" b="b"/>
            <a:pathLst>
              <a:path w="472" h="1191">
                <a:moveTo>
                  <a:pt x="2902" y="17190"/>
                </a:moveTo>
                <a:cubicBezTo>
                  <a:pt x="2835" y="17199"/>
                  <a:pt x="2766" y="17206"/>
                  <a:pt x="2704" y="17239"/>
                </a:cubicBezTo>
                <a:cubicBezTo>
                  <a:pt x="2660" y="17263"/>
                  <a:pt x="2566" y="17361"/>
                  <a:pt x="2580" y="17413"/>
                </a:cubicBezTo>
                <a:cubicBezTo>
                  <a:pt x="2646" y="17652"/>
                  <a:pt x="2919" y="17690"/>
                  <a:pt x="3051" y="17859"/>
                </a:cubicBezTo>
                <a:cubicBezTo>
                  <a:pt x="3079" y="17895"/>
                  <a:pt x="3054" y="18001"/>
                  <a:pt x="3026" y="18033"/>
                </a:cubicBezTo>
                <a:cubicBezTo>
                  <a:pt x="2977" y="18088"/>
                  <a:pt x="2959" y="18140"/>
                  <a:pt x="2927" y="18207"/>
                </a:cubicBezTo>
                <a:cubicBezTo>
                  <a:pt x="2912" y="18239"/>
                  <a:pt x="2866" y="18367"/>
                  <a:pt x="2853" y="18380"/>
                </a:cubicBezTo>
                <a:cubicBezTo>
                  <a:pt x="2845" y="18380"/>
                  <a:pt x="2836" y="18380"/>
                  <a:pt x="2828" y="18380"/>
                </a:cubicBezTo>
                <a:cubicBezTo>
                  <a:pt x="2847" y="18306"/>
                  <a:pt x="2831" y="18343"/>
                  <a:pt x="2927" y="18281"/>
                </a:cubicBezTo>
                <a:cubicBezTo>
                  <a:pt x="3049" y="18202"/>
                  <a:pt x="2991" y="18231"/>
                  <a:pt x="2977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Equivalent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ever you do to one number in the ratio you must do to the other in order to keep the ratios equ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making an equivalent ratio, you can make both numbers smaller (as when you simplify), or both larg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4: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3 to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3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76520" y="5638680"/>
          <a:ext cx="3045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638680"/>
                    <a:ext cx="3045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303800" y="3276720"/>
            <a:ext cx="162000" cy="28440"/>
          </a:xfrm>
          <a:custGeom>
            <a:avLst/>
            <a:gdLst/>
            <a:ahLst/>
            <a:rect l="l" t="t" r="r" b="b"/>
            <a:pathLst>
              <a:path w="447" h="76">
                <a:moveTo>
                  <a:pt x="11956" y="9178"/>
                </a:moveTo>
                <a:cubicBezTo>
                  <a:pt x="12036" y="9178"/>
                  <a:pt x="12096" y="9167"/>
                  <a:pt x="12179" y="9153"/>
                </a:cubicBezTo>
                <a:cubicBezTo>
                  <a:pt x="12267" y="9138"/>
                  <a:pt x="12325" y="9119"/>
                  <a:pt x="12402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59080" y="3232080"/>
            <a:ext cx="4125960" cy="3152880"/>
          </a:xfrm>
          <a:custGeom>
            <a:avLst/>
            <a:gdLst/>
            <a:ahLst/>
            <a:rect l="l" t="t" r="r" b="b"/>
            <a:pathLst>
              <a:path w="11460" h="8757">
                <a:moveTo>
                  <a:pt x="12105" y="8979"/>
                </a:moveTo>
                <a:lnTo>
                  <a:pt x="12105" y="8979"/>
                </a:lnTo>
              </a:path>
              <a:path w="11460" h="8757">
                <a:moveTo>
                  <a:pt x="12204" y="9351"/>
                </a:moveTo>
                <a:lnTo>
                  <a:pt x="12204" y="9351"/>
                </a:lnTo>
                <a:lnTo>
                  <a:pt x="12204" y="9351"/>
                </a:lnTo>
              </a:path>
              <a:path w="11460" h="8757">
                <a:moveTo>
                  <a:pt x="12551" y="13519"/>
                </a:moveTo>
                <a:cubicBezTo>
                  <a:pt x="12609" y="13461"/>
                  <a:pt x="12618" y="13453"/>
                  <a:pt x="12650" y="13419"/>
                </a:cubicBezTo>
              </a:path>
              <a:path w="11460" h="8757">
                <a:moveTo>
                  <a:pt x="12378" y="15304"/>
                </a:moveTo>
                <a:cubicBezTo>
                  <a:pt x="12401" y="15258"/>
                  <a:pt x="12420" y="15220"/>
                  <a:pt x="12452" y="15180"/>
                </a:cubicBezTo>
              </a:path>
              <a:path w="11460" h="8757">
                <a:moveTo>
                  <a:pt x="14238" y="14536"/>
                </a:moveTo>
                <a:cubicBezTo>
                  <a:pt x="14307" y="14524"/>
                  <a:pt x="14372" y="14510"/>
                  <a:pt x="14436" y="14486"/>
                </a:cubicBezTo>
              </a:path>
              <a:path w="11460" h="8757">
                <a:moveTo>
                  <a:pt x="14312" y="14660"/>
                </a:moveTo>
                <a:cubicBezTo>
                  <a:pt x="14373" y="14650"/>
                  <a:pt x="14424" y="14640"/>
                  <a:pt x="14486" y="14635"/>
                </a:cubicBezTo>
              </a:path>
              <a:path w="11460" h="8757">
                <a:moveTo>
                  <a:pt x="16421" y="14808"/>
                </a:moveTo>
                <a:lnTo>
                  <a:pt x="16421" y="14808"/>
                </a:lnTo>
              </a:path>
              <a:path w="11460" h="8757">
                <a:moveTo>
                  <a:pt x="17016" y="15304"/>
                </a:moveTo>
                <a:cubicBezTo>
                  <a:pt x="17023" y="15378"/>
                  <a:pt x="17005" y="15399"/>
                  <a:pt x="17066" y="15429"/>
                </a:cubicBezTo>
              </a:path>
              <a:path w="11460" h="8757">
                <a:moveTo>
                  <a:pt x="19844" y="14784"/>
                </a:moveTo>
                <a:cubicBezTo>
                  <a:pt x="20071" y="14721"/>
                  <a:pt x="20278" y="14670"/>
                  <a:pt x="20513" y="14660"/>
                </a:cubicBezTo>
              </a:path>
              <a:path w="11460" h="8757">
                <a:moveTo>
                  <a:pt x="9054" y="17016"/>
                </a:moveTo>
                <a:cubicBezTo>
                  <a:pt x="9152" y="16991"/>
                  <a:pt x="9184" y="16983"/>
                  <a:pt x="9252" y="16991"/>
                </a:cubicBezTo>
              </a:path>
              <a:path w="11460" h="8757">
                <a:moveTo>
                  <a:pt x="9252" y="16991"/>
                </a:moveTo>
                <a:lnTo>
                  <a:pt x="9252" y="16991"/>
                </a:lnTo>
              </a:path>
              <a:path w="11460" h="8757">
                <a:moveTo>
                  <a:pt x="12353" y="16917"/>
                </a:moveTo>
                <a:cubicBezTo>
                  <a:pt x="12627" y="16961"/>
                  <a:pt x="12917" y="16972"/>
                  <a:pt x="13196" y="16991"/>
                </a:cubicBezTo>
                <a:cubicBezTo>
                  <a:pt x="13833" y="17033"/>
                  <a:pt x="14472" y="17097"/>
                  <a:pt x="15106" y="17165"/>
                </a:cubicBezTo>
                <a:cubicBezTo>
                  <a:pt x="15286" y="17184"/>
                  <a:pt x="15655" y="17217"/>
                  <a:pt x="15801" y="17239"/>
                </a:cubicBezTo>
              </a:path>
              <a:path w="11460" h="8757">
                <a:moveTo>
                  <a:pt x="12650" y="17289"/>
                </a:moveTo>
                <a:cubicBezTo>
                  <a:pt x="12722" y="17289"/>
                  <a:pt x="12781" y="17279"/>
                  <a:pt x="12849" y="17264"/>
                </a:cubicBezTo>
                <a:cubicBezTo>
                  <a:pt x="12857" y="17264"/>
                  <a:pt x="12866" y="17264"/>
                  <a:pt x="12874" y="17264"/>
                </a:cubicBezTo>
                <a:cubicBezTo>
                  <a:pt x="12856" y="17353"/>
                  <a:pt x="12827" y="17447"/>
                  <a:pt x="12799" y="17537"/>
                </a:cubicBezTo>
                <a:cubicBezTo>
                  <a:pt x="12780" y="17597"/>
                  <a:pt x="12774" y="17608"/>
                  <a:pt x="12774" y="17661"/>
                </a:cubicBezTo>
              </a:path>
              <a:path w="11460" h="8757">
                <a:moveTo>
                  <a:pt x="13022" y="17611"/>
                </a:moveTo>
                <a:cubicBezTo>
                  <a:pt x="13022" y="17679"/>
                  <a:pt x="13025" y="17698"/>
                  <a:pt x="12998" y="17735"/>
                </a:cubicBezTo>
              </a:path>
              <a:path w="11460" h="8757">
                <a:moveTo>
                  <a:pt x="13246" y="17289"/>
                </a:moveTo>
                <a:cubicBezTo>
                  <a:pt x="13174" y="17402"/>
                  <a:pt x="13146" y="17412"/>
                  <a:pt x="13171" y="17537"/>
                </a:cubicBezTo>
                <a:cubicBezTo>
                  <a:pt x="13277" y="17525"/>
                  <a:pt x="13351" y="17494"/>
                  <a:pt x="13320" y="17363"/>
                </a:cubicBezTo>
                <a:cubicBezTo>
                  <a:pt x="13306" y="17304"/>
                  <a:pt x="13256" y="17347"/>
                  <a:pt x="13246" y="17363"/>
                </a:cubicBezTo>
              </a:path>
              <a:path w="11460" h="8757">
                <a:moveTo>
                  <a:pt x="13568" y="17264"/>
                </a:moveTo>
                <a:cubicBezTo>
                  <a:pt x="13497" y="17363"/>
                  <a:pt x="13486" y="17397"/>
                  <a:pt x="13494" y="17512"/>
                </a:cubicBezTo>
                <a:cubicBezTo>
                  <a:pt x="13604" y="17543"/>
                  <a:pt x="13688" y="17501"/>
                  <a:pt x="13667" y="17363"/>
                </a:cubicBezTo>
                <a:cubicBezTo>
                  <a:pt x="13658" y="17306"/>
                  <a:pt x="13465" y="17314"/>
                  <a:pt x="13593" y="17314"/>
                </a:cubicBezTo>
              </a:path>
              <a:path w="11460" h="8757">
                <a:moveTo>
                  <a:pt x="13791" y="17338"/>
                </a:moveTo>
                <a:cubicBezTo>
                  <a:pt x="13793" y="17366"/>
                  <a:pt x="13847" y="17608"/>
                  <a:pt x="13940" y="17462"/>
                </a:cubicBezTo>
                <a:cubicBezTo>
                  <a:pt x="13977" y="17404"/>
                  <a:pt x="13959" y="17186"/>
                  <a:pt x="13841" y="17239"/>
                </a:cubicBezTo>
                <a:cubicBezTo>
                  <a:pt x="13824" y="17256"/>
                  <a:pt x="13808" y="17272"/>
                  <a:pt x="13791" y="17289"/>
                </a:cubicBezTo>
              </a:path>
              <a:path w="11460" h="8757">
                <a:moveTo>
                  <a:pt x="14163" y="17611"/>
                </a:moveTo>
                <a:cubicBezTo>
                  <a:pt x="14163" y="17636"/>
                  <a:pt x="14163" y="17661"/>
                  <a:pt x="14163" y="17686"/>
                </a:cubicBezTo>
              </a:path>
              <a:path w="11460" h="8757">
                <a:moveTo>
                  <a:pt x="14163" y="17686"/>
                </a:moveTo>
                <a:lnTo>
                  <a:pt x="14163" y="17686"/>
                </a:lnTo>
              </a:path>
              <a:path w="11460" h="8757">
                <a:moveTo>
                  <a:pt x="16371" y="16148"/>
                </a:moveTo>
                <a:cubicBezTo>
                  <a:pt x="16386" y="16240"/>
                  <a:pt x="16404" y="16289"/>
                  <a:pt x="16470" y="16346"/>
                </a:cubicBezTo>
              </a:path>
              <a:path w="11460" h="8757">
                <a:moveTo>
                  <a:pt x="16470" y="16346"/>
                </a:moveTo>
                <a:lnTo>
                  <a:pt x="16470" y="16346"/>
                </a:lnTo>
              </a:path>
              <a:path w="11460" h="8757">
                <a:moveTo>
                  <a:pt x="17487" y="16545"/>
                </a:moveTo>
                <a:cubicBezTo>
                  <a:pt x="17569" y="16529"/>
                  <a:pt x="17616" y="16499"/>
                  <a:pt x="17661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14960" y="4803840"/>
            <a:ext cx="706320" cy="777960"/>
          </a:xfrm>
          <a:custGeom>
            <a:avLst/>
            <a:gdLst/>
            <a:ahLst/>
            <a:rect l="l" t="t" r="r" b="b"/>
            <a:pathLst>
              <a:path w="1961" h="2159">
                <a:moveTo>
                  <a:pt x="15553" y="13419"/>
                </a:moveTo>
                <a:cubicBezTo>
                  <a:pt x="15516" y="13347"/>
                  <a:pt x="15443" y="13329"/>
                  <a:pt x="15379" y="13395"/>
                </a:cubicBezTo>
                <a:cubicBezTo>
                  <a:pt x="15341" y="13451"/>
                  <a:pt x="15324" y="13454"/>
                  <a:pt x="15329" y="13494"/>
                </a:cubicBezTo>
                <a:cubicBezTo>
                  <a:pt x="15418" y="13473"/>
                  <a:pt x="15451" y="13460"/>
                  <a:pt x="15528" y="13395"/>
                </a:cubicBezTo>
                <a:cubicBezTo>
                  <a:pt x="15528" y="13474"/>
                  <a:pt x="15513" y="13542"/>
                  <a:pt x="15503" y="13618"/>
                </a:cubicBezTo>
                <a:cubicBezTo>
                  <a:pt x="15503" y="13634"/>
                  <a:pt x="15503" y="13651"/>
                  <a:pt x="15503" y="13667"/>
                </a:cubicBezTo>
              </a:path>
              <a:path w="1961" h="2159">
                <a:moveTo>
                  <a:pt x="14610" y="15280"/>
                </a:moveTo>
                <a:cubicBezTo>
                  <a:pt x="14600" y="15239"/>
                  <a:pt x="14590" y="15173"/>
                  <a:pt x="14536" y="15230"/>
                </a:cubicBezTo>
                <a:cubicBezTo>
                  <a:pt x="14473" y="15297"/>
                  <a:pt x="14474" y="15317"/>
                  <a:pt x="14511" y="15379"/>
                </a:cubicBezTo>
                <a:cubicBezTo>
                  <a:pt x="14570" y="15349"/>
                  <a:pt x="14593" y="15331"/>
                  <a:pt x="14610" y="15280"/>
                </a:cubicBezTo>
                <a:cubicBezTo>
                  <a:pt x="14610" y="15408"/>
                  <a:pt x="14554" y="15507"/>
                  <a:pt x="14684" y="15478"/>
                </a:cubicBezTo>
              </a:path>
              <a:path w="1961" h="2159">
                <a:moveTo>
                  <a:pt x="15304" y="14089"/>
                </a:moveTo>
                <a:cubicBezTo>
                  <a:pt x="15442" y="14134"/>
                  <a:pt x="15487" y="14255"/>
                  <a:pt x="15379" y="14387"/>
                </a:cubicBezTo>
                <a:cubicBezTo>
                  <a:pt x="15288" y="14499"/>
                  <a:pt x="15224" y="14483"/>
                  <a:pt x="15131" y="14436"/>
                </a:cubicBezTo>
                <a:cubicBezTo>
                  <a:pt x="15176" y="14257"/>
                  <a:pt x="15227" y="14283"/>
                  <a:pt x="15379" y="14362"/>
                </a:cubicBezTo>
                <a:cubicBezTo>
                  <a:pt x="15423" y="14384"/>
                  <a:pt x="15434" y="14397"/>
                  <a:pt x="15453" y="14362"/>
                </a:cubicBezTo>
              </a:path>
              <a:path w="1961" h="2159">
                <a:moveTo>
                  <a:pt x="15528" y="14064"/>
                </a:moveTo>
                <a:cubicBezTo>
                  <a:pt x="15612" y="14055"/>
                  <a:pt x="15691" y="14044"/>
                  <a:pt x="15776" y="14039"/>
                </a:cubicBezTo>
                <a:cubicBezTo>
                  <a:pt x="15793" y="14171"/>
                  <a:pt x="15804" y="14283"/>
                  <a:pt x="15751" y="14412"/>
                </a:cubicBezTo>
                <a:cubicBezTo>
                  <a:pt x="15743" y="14420"/>
                  <a:pt x="15734" y="14428"/>
                  <a:pt x="15726" y="14436"/>
                </a:cubicBezTo>
              </a:path>
              <a:path w="1961" h="2159">
                <a:moveTo>
                  <a:pt x="15007" y="14808"/>
                </a:moveTo>
                <a:cubicBezTo>
                  <a:pt x="15249" y="14720"/>
                  <a:pt x="15540" y="14680"/>
                  <a:pt x="15801" y="14684"/>
                </a:cubicBezTo>
                <a:cubicBezTo>
                  <a:pt x="15942" y="14686"/>
                  <a:pt x="15949" y="14685"/>
                  <a:pt x="15925" y="14759"/>
                </a:cubicBezTo>
              </a:path>
              <a:path w="1961" h="2159">
                <a:moveTo>
                  <a:pt x="15354" y="15081"/>
                </a:moveTo>
                <a:cubicBezTo>
                  <a:pt x="15347" y="14992"/>
                  <a:pt x="15329" y="14836"/>
                  <a:pt x="15180" y="14908"/>
                </a:cubicBezTo>
                <a:cubicBezTo>
                  <a:pt x="15093" y="14950"/>
                  <a:pt x="15092" y="15026"/>
                  <a:pt x="15081" y="15106"/>
                </a:cubicBezTo>
                <a:cubicBezTo>
                  <a:pt x="15182" y="15090"/>
                  <a:pt x="15213" y="15083"/>
                  <a:pt x="15280" y="15007"/>
                </a:cubicBezTo>
                <a:cubicBezTo>
                  <a:pt x="15280" y="15131"/>
                  <a:pt x="15264" y="15259"/>
                  <a:pt x="15230" y="15379"/>
                </a:cubicBezTo>
                <a:cubicBezTo>
                  <a:pt x="15210" y="15420"/>
                  <a:pt x="15191" y="15436"/>
                  <a:pt x="15230" y="15429"/>
                </a:cubicBezTo>
              </a:path>
              <a:path w="1961" h="2159">
                <a:moveTo>
                  <a:pt x="15503" y="15056"/>
                </a:moveTo>
                <a:cubicBezTo>
                  <a:pt x="15476" y="15175"/>
                  <a:pt x="15462" y="15261"/>
                  <a:pt x="15478" y="15379"/>
                </a:cubicBezTo>
                <a:cubicBezTo>
                  <a:pt x="15608" y="15340"/>
                  <a:pt x="15741" y="15247"/>
                  <a:pt x="15701" y="15081"/>
                </a:cubicBezTo>
                <a:cubicBezTo>
                  <a:pt x="15687" y="15024"/>
                  <a:pt x="15549" y="14989"/>
                  <a:pt x="15503" y="14957"/>
                </a:cubicBezTo>
              </a:path>
              <a:path w="1961" h="2159">
                <a:moveTo>
                  <a:pt x="16321" y="14684"/>
                </a:moveTo>
                <a:cubicBezTo>
                  <a:pt x="16363" y="14684"/>
                  <a:pt x="16404" y="14684"/>
                  <a:pt x="16446" y="14684"/>
                </a:cubicBezTo>
              </a:path>
              <a:path w="1961" h="2159">
                <a:moveTo>
                  <a:pt x="16346" y="14808"/>
                </a:moveTo>
                <a:cubicBezTo>
                  <a:pt x="16388" y="14808"/>
                  <a:pt x="16396" y="14808"/>
                  <a:pt x="16421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34040" y="4840200"/>
            <a:ext cx="7308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7066" y="13519"/>
                </a:moveTo>
                <a:cubicBezTo>
                  <a:pt x="17045" y="13638"/>
                  <a:pt x="17041" y="13745"/>
                  <a:pt x="17041" y="13866"/>
                </a:cubicBezTo>
              </a:path>
              <a:path w="199" h="472">
                <a:moveTo>
                  <a:pt x="17190" y="13444"/>
                </a:moveTo>
                <a:cubicBezTo>
                  <a:pt x="17206" y="13580"/>
                  <a:pt x="17234" y="13704"/>
                  <a:pt x="17239" y="13841"/>
                </a:cubicBezTo>
                <a:cubicBezTo>
                  <a:pt x="17239" y="13882"/>
                  <a:pt x="17239" y="13890"/>
                  <a:pt x="17239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70120" y="3679920"/>
            <a:ext cx="115920" cy="16992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7417" y="10294"/>
                </a:moveTo>
                <a:cubicBezTo>
                  <a:pt x="7503" y="10366"/>
                  <a:pt x="7568" y="10430"/>
                  <a:pt x="7640" y="10517"/>
                </a:cubicBezTo>
                <a:cubicBezTo>
                  <a:pt x="7674" y="10558"/>
                  <a:pt x="7685" y="10561"/>
                  <a:pt x="7689" y="10542"/>
                </a:cubicBezTo>
                <a:cubicBezTo>
                  <a:pt x="7697" y="10509"/>
                  <a:pt x="7706" y="10476"/>
                  <a:pt x="7714" y="10443"/>
                </a:cubicBezTo>
              </a:path>
              <a:path w="323" h="472">
                <a:moveTo>
                  <a:pt x="7739" y="10220"/>
                </a:moveTo>
                <a:cubicBezTo>
                  <a:pt x="7685" y="10345"/>
                  <a:pt x="7595" y="10474"/>
                  <a:pt x="7516" y="10592"/>
                </a:cubicBezTo>
                <a:cubicBezTo>
                  <a:pt x="7478" y="10648"/>
                  <a:pt x="7461" y="10651"/>
                  <a:pt x="7466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97120" y="4170240"/>
            <a:ext cx="160560" cy="231840"/>
          </a:xfrm>
          <a:custGeom>
            <a:avLst/>
            <a:gdLst/>
            <a:ahLst/>
            <a:rect l="l" t="t" r="r" b="b"/>
            <a:pathLst>
              <a:path w="448" h="646">
                <a:moveTo>
                  <a:pt x="7938" y="11733"/>
                </a:moveTo>
                <a:cubicBezTo>
                  <a:pt x="7925" y="11670"/>
                  <a:pt x="7875" y="11572"/>
                  <a:pt x="7789" y="11584"/>
                </a:cubicBezTo>
                <a:cubicBezTo>
                  <a:pt x="7653" y="11602"/>
                  <a:pt x="7529" y="11691"/>
                  <a:pt x="7491" y="11807"/>
                </a:cubicBezTo>
                <a:cubicBezTo>
                  <a:pt x="7622" y="11910"/>
                  <a:pt x="7822" y="11942"/>
                  <a:pt x="7888" y="12105"/>
                </a:cubicBezTo>
                <a:cubicBezTo>
                  <a:pt x="7958" y="12280"/>
                  <a:pt x="7697" y="12214"/>
                  <a:pt x="7640" y="12179"/>
                </a:cubicBezTo>
                <a:cubicBezTo>
                  <a:pt x="7691" y="12048"/>
                  <a:pt x="7859" y="11876"/>
                  <a:pt x="7838" y="11733"/>
                </a:cubicBezTo>
                <a:cubicBezTo>
                  <a:pt x="7830" y="11733"/>
                  <a:pt x="7821" y="11733"/>
                  <a:pt x="7813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3240" y="4340160"/>
            <a:ext cx="972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8260" y="12055"/>
                </a:moveTo>
                <a:cubicBezTo>
                  <a:pt x="8270" y="12078"/>
                  <a:pt x="8285" y="12182"/>
                  <a:pt x="8285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89160" y="4143240"/>
            <a:ext cx="206640" cy="231840"/>
          </a:xfrm>
          <a:custGeom>
            <a:avLst/>
            <a:gdLst/>
            <a:ahLst/>
            <a:rect l="l" t="t" r="r" b="b"/>
            <a:pathLst>
              <a:path w="572" h="646">
                <a:moveTo>
                  <a:pt x="8582" y="11733"/>
                </a:moveTo>
                <a:cubicBezTo>
                  <a:pt x="8615" y="11862"/>
                  <a:pt x="8608" y="11976"/>
                  <a:pt x="8632" y="12105"/>
                </a:cubicBezTo>
                <a:cubicBezTo>
                  <a:pt x="8640" y="12121"/>
                  <a:pt x="8649" y="12138"/>
                  <a:pt x="8657" y="12154"/>
                </a:cubicBezTo>
              </a:path>
              <a:path w="572" h="646">
                <a:moveTo>
                  <a:pt x="8830" y="11658"/>
                </a:moveTo>
                <a:cubicBezTo>
                  <a:pt x="8843" y="11742"/>
                  <a:pt x="8806" y="11826"/>
                  <a:pt x="8880" y="11857"/>
                </a:cubicBezTo>
                <a:cubicBezTo>
                  <a:pt x="8932" y="11878"/>
                  <a:pt x="9020" y="11874"/>
                  <a:pt x="9079" y="11857"/>
                </a:cubicBezTo>
                <a:cubicBezTo>
                  <a:pt x="9095" y="11849"/>
                  <a:pt x="9112" y="11840"/>
                  <a:pt x="9128" y="11832"/>
                </a:cubicBezTo>
              </a:path>
              <a:path w="572" h="646">
                <a:moveTo>
                  <a:pt x="9153" y="11509"/>
                </a:moveTo>
                <a:cubicBezTo>
                  <a:pt x="9133" y="11692"/>
                  <a:pt x="9120" y="11848"/>
                  <a:pt x="9128" y="12030"/>
                </a:cubicBezTo>
                <a:cubicBezTo>
                  <a:pt x="9132" y="12110"/>
                  <a:pt x="9103" y="12137"/>
                  <a:pt x="9153" y="121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55960" y="4224240"/>
            <a:ext cx="1660320" cy="731880"/>
          </a:xfrm>
          <a:custGeom>
            <a:avLst/>
            <a:gdLst/>
            <a:ahLst/>
            <a:rect l="l" t="t" r="r" b="b"/>
            <a:pathLst>
              <a:path w="4615" h="2035">
                <a:moveTo>
                  <a:pt x="8210" y="11782"/>
                </a:moveTo>
                <a:lnTo>
                  <a:pt x="8210" y="11782"/>
                </a:lnTo>
              </a:path>
              <a:path w="4615" h="2035">
                <a:moveTo>
                  <a:pt x="12750" y="11733"/>
                </a:moveTo>
                <a:lnTo>
                  <a:pt x="12750" y="11733"/>
                </a:lnTo>
                <a:lnTo>
                  <a:pt x="12750" y="11733"/>
                </a:lnTo>
              </a:path>
              <a:path w="4615" h="2035">
                <a:moveTo>
                  <a:pt x="12774" y="11981"/>
                </a:moveTo>
                <a:cubicBezTo>
                  <a:pt x="12791" y="11989"/>
                  <a:pt x="12807" y="11997"/>
                  <a:pt x="12824" y="12005"/>
                </a:cubicBezTo>
              </a:path>
              <a:path w="4615" h="2035">
                <a:moveTo>
                  <a:pt x="10244" y="13494"/>
                </a:moveTo>
                <a:cubicBezTo>
                  <a:pt x="10257" y="13586"/>
                  <a:pt x="10285" y="13675"/>
                  <a:pt x="10294" y="13767"/>
                </a:cubicBezTo>
              </a:path>
              <a:path w="4615" h="2035">
                <a:moveTo>
                  <a:pt x="10418" y="13494"/>
                </a:moveTo>
                <a:cubicBezTo>
                  <a:pt x="10441" y="13574"/>
                  <a:pt x="10444" y="13607"/>
                  <a:pt x="10492" y="13667"/>
                </a:cubicBezTo>
                <a:cubicBezTo>
                  <a:pt x="10570" y="13551"/>
                  <a:pt x="10637" y="13527"/>
                  <a:pt x="10492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64000" y="5180040"/>
            <a:ext cx="73080" cy="79200"/>
          </a:xfrm>
          <a:custGeom>
            <a:avLst/>
            <a:gdLst/>
            <a:ahLst/>
            <a:rect l="l" t="t" r="r" b="b"/>
            <a:pathLst>
              <a:path w="200" h="224">
                <a:moveTo>
                  <a:pt x="12402" y="14387"/>
                </a:moveTo>
                <a:cubicBezTo>
                  <a:pt x="12459" y="14403"/>
                  <a:pt x="12520" y="14425"/>
                  <a:pt x="12576" y="14436"/>
                </a:cubicBezTo>
              </a:path>
              <a:path w="200" h="224">
                <a:moveTo>
                  <a:pt x="12402" y="14585"/>
                </a:moveTo>
                <a:cubicBezTo>
                  <a:pt x="12469" y="14592"/>
                  <a:pt x="12534" y="14603"/>
                  <a:pt x="12601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89160" y="4938840"/>
            <a:ext cx="1135080" cy="660240"/>
          </a:xfrm>
          <a:custGeom>
            <a:avLst/>
            <a:gdLst/>
            <a:ahLst/>
            <a:rect l="l" t="t" r="r" b="b"/>
            <a:pathLst>
              <a:path w="3152" h="1837">
                <a:moveTo>
                  <a:pt x="8731" y="13866"/>
                </a:moveTo>
                <a:cubicBezTo>
                  <a:pt x="8807" y="13828"/>
                  <a:pt x="8878" y="13755"/>
                  <a:pt x="8979" y="13717"/>
                </a:cubicBezTo>
                <a:cubicBezTo>
                  <a:pt x="9062" y="13840"/>
                  <a:pt x="9005" y="13863"/>
                  <a:pt x="8930" y="13990"/>
                </a:cubicBezTo>
                <a:cubicBezTo>
                  <a:pt x="9016" y="13990"/>
                  <a:pt x="9099" y="14022"/>
                  <a:pt x="9054" y="14139"/>
                </a:cubicBezTo>
                <a:cubicBezTo>
                  <a:pt x="9018" y="14231"/>
                  <a:pt x="8826" y="14358"/>
                  <a:pt x="8781" y="14312"/>
                </a:cubicBezTo>
              </a:path>
              <a:path w="3152" h="1837">
                <a:moveTo>
                  <a:pt x="8582" y="14684"/>
                </a:moveTo>
                <a:cubicBezTo>
                  <a:pt x="8842" y="14610"/>
                  <a:pt x="9107" y="14545"/>
                  <a:pt x="9376" y="14511"/>
                </a:cubicBezTo>
                <a:cubicBezTo>
                  <a:pt x="9426" y="14511"/>
                  <a:pt x="9442" y="14511"/>
                  <a:pt x="9426" y="14560"/>
                </a:cubicBezTo>
              </a:path>
              <a:path w="3152" h="1837">
                <a:moveTo>
                  <a:pt x="8731" y="14883"/>
                </a:moveTo>
                <a:cubicBezTo>
                  <a:pt x="8731" y="15028"/>
                  <a:pt x="8734" y="15164"/>
                  <a:pt x="8706" y="15304"/>
                </a:cubicBezTo>
              </a:path>
              <a:path w="3152" h="1837">
                <a:moveTo>
                  <a:pt x="9079" y="14833"/>
                </a:moveTo>
                <a:cubicBezTo>
                  <a:pt x="9013" y="14983"/>
                  <a:pt x="8981" y="15119"/>
                  <a:pt x="9004" y="15280"/>
                </a:cubicBezTo>
                <a:cubicBezTo>
                  <a:pt x="9168" y="15181"/>
                  <a:pt x="9224" y="15085"/>
                  <a:pt x="9203" y="14883"/>
                </a:cubicBezTo>
                <a:cubicBezTo>
                  <a:pt x="9162" y="14842"/>
                  <a:pt x="9132" y="14839"/>
                  <a:pt x="9079" y="14883"/>
                </a:cubicBezTo>
              </a:path>
              <a:path w="3152" h="1837">
                <a:moveTo>
                  <a:pt x="10939" y="13940"/>
                </a:moveTo>
                <a:cubicBezTo>
                  <a:pt x="10950" y="13895"/>
                  <a:pt x="11030" y="13801"/>
                  <a:pt x="11088" y="13841"/>
                </a:cubicBezTo>
                <a:cubicBezTo>
                  <a:pt x="11212" y="13926"/>
                  <a:pt x="11079" y="14070"/>
                  <a:pt x="11013" y="14114"/>
                </a:cubicBezTo>
                <a:cubicBezTo>
                  <a:pt x="11155" y="14128"/>
                  <a:pt x="11151" y="14235"/>
                  <a:pt x="11038" y="14337"/>
                </a:cubicBezTo>
                <a:cubicBezTo>
                  <a:pt x="10976" y="14393"/>
                  <a:pt x="10919" y="14407"/>
                  <a:pt x="10889" y="14362"/>
                </a:cubicBezTo>
              </a:path>
              <a:path w="3152" h="1837">
                <a:moveTo>
                  <a:pt x="11410" y="13841"/>
                </a:moveTo>
                <a:cubicBezTo>
                  <a:pt x="11358" y="13956"/>
                  <a:pt x="11281" y="14134"/>
                  <a:pt x="11336" y="14263"/>
                </a:cubicBezTo>
                <a:cubicBezTo>
                  <a:pt x="11352" y="14271"/>
                  <a:pt x="11369" y="14280"/>
                  <a:pt x="11385" y="14288"/>
                </a:cubicBezTo>
                <a:cubicBezTo>
                  <a:pt x="11504" y="14193"/>
                  <a:pt x="11687" y="14005"/>
                  <a:pt x="11485" y="13866"/>
                </a:cubicBezTo>
                <a:cubicBezTo>
                  <a:pt x="11407" y="13847"/>
                  <a:pt x="11390" y="13822"/>
                  <a:pt x="11361" y="13866"/>
                </a:cubicBezTo>
              </a:path>
              <a:path w="3152" h="1837">
                <a:moveTo>
                  <a:pt x="10641" y="14585"/>
                </a:moveTo>
                <a:cubicBezTo>
                  <a:pt x="10830" y="14585"/>
                  <a:pt x="11033" y="14489"/>
                  <a:pt x="11212" y="14436"/>
                </a:cubicBezTo>
                <a:cubicBezTo>
                  <a:pt x="11217" y="14435"/>
                  <a:pt x="11763" y="14260"/>
                  <a:pt x="11733" y="14337"/>
                </a:cubicBezTo>
                <a:cubicBezTo>
                  <a:pt x="11716" y="14362"/>
                  <a:pt x="11700" y="14387"/>
                  <a:pt x="11683" y="14412"/>
                </a:cubicBezTo>
              </a:path>
              <a:path w="3152" h="1837">
                <a:moveTo>
                  <a:pt x="10840" y="14784"/>
                </a:moveTo>
                <a:cubicBezTo>
                  <a:pt x="10786" y="14923"/>
                  <a:pt x="10766" y="15065"/>
                  <a:pt x="10716" y="15205"/>
                </a:cubicBezTo>
              </a:path>
              <a:path w="3152" h="1837">
                <a:moveTo>
                  <a:pt x="11162" y="14734"/>
                </a:moveTo>
                <a:cubicBezTo>
                  <a:pt x="11116" y="14843"/>
                  <a:pt x="11030" y="14943"/>
                  <a:pt x="11063" y="15081"/>
                </a:cubicBezTo>
                <a:cubicBezTo>
                  <a:pt x="11071" y="15081"/>
                  <a:pt x="11080" y="15081"/>
                  <a:pt x="11088" y="15081"/>
                </a:cubicBezTo>
                <a:cubicBezTo>
                  <a:pt x="11228" y="15056"/>
                  <a:pt x="11276" y="14962"/>
                  <a:pt x="11212" y="14808"/>
                </a:cubicBezTo>
                <a:cubicBezTo>
                  <a:pt x="11165" y="14762"/>
                  <a:pt x="11153" y="14744"/>
                  <a:pt x="11112" y="14784"/>
                </a:cubicBezTo>
              </a:path>
              <a:path w="3152" h="1837">
                <a:moveTo>
                  <a:pt x="11559" y="14635"/>
                </a:moveTo>
                <a:cubicBezTo>
                  <a:pt x="11513" y="14796"/>
                  <a:pt x="11484" y="14905"/>
                  <a:pt x="11534" y="15056"/>
                </a:cubicBezTo>
                <a:cubicBezTo>
                  <a:pt x="11646" y="15019"/>
                  <a:pt x="11727" y="14910"/>
                  <a:pt x="11633" y="14784"/>
                </a:cubicBezTo>
                <a:cubicBezTo>
                  <a:pt x="11568" y="14740"/>
                  <a:pt x="11554" y="14729"/>
                  <a:pt x="11509" y="14709"/>
                </a:cubicBezTo>
              </a:path>
              <a:path w="3152" h="1837">
                <a:moveTo>
                  <a:pt x="9748" y="14610"/>
                </a:moveTo>
                <a:cubicBezTo>
                  <a:pt x="9798" y="14590"/>
                  <a:pt x="9980" y="14493"/>
                  <a:pt x="10021" y="14511"/>
                </a:cubicBezTo>
                <a:cubicBezTo>
                  <a:pt x="10021" y="14519"/>
                  <a:pt x="10021" y="14528"/>
                  <a:pt x="10021" y="14536"/>
                </a:cubicBezTo>
              </a:path>
              <a:path w="3152" h="1837">
                <a:moveTo>
                  <a:pt x="9798" y="14833"/>
                </a:moveTo>
                <a:cubicBezTo>
                  <a:pt x="9875" y="14813"/>
                  <a:pt x="9944" y="14792"/>
                  <a:pt x="10021" y="14784"/>
                </a:cubicBezTo>
              </a:path>
              <a:path w="3152" h="1837">
                <a:moveTo>
                  <a:pt x="9947" y="15329"/>
                </a:moveTo>
                <a:cubicBezTo>
                  <a:pt x="9947" y="15262"/>
                  <a:pt x="9969" y="15486"/>
                  <a:pt x="9971" y="15528"/>
                </a:cubicBezTo>
                <a:cubicBezTo>
                  <a:pt x="9971" y="15556"/>
                  <a:pt x="9973" y="15562"/>
                  <a:pt x="9996" y="15528"/>
                </a:cubicBezTo>
              </a:path>
              <a:path w="3152" h="1837">
                <a:moveTo>
                  <a:pt x="10145" y="15230"/>
                </a:moveTo>
                <a:cubicBezTo>
                  <a:pt x="10127" y="15325"/>
                  <a:pt x="10108" y="15369"/>
                  <a:pt x="10145" y="15453"/>
                </a:cubicBezTo>
                <a:cubicBezTo>
                  <a:pt x="10203" y="15383"/>
                  <a:pt x="10273" y="15259"/>
                  <a:pt x="10096" y="15304"/>
                </a:cubicBezTo>
                <a:cubicBezTo>
                  <a:pt x="10088" y="15312"/>
                  <a:pt x="10079" y="15321"/>
                  <a:pt x="10071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46720" y="4894200"/>
            <a:ext cx="501480" cy="704880"/>
          </a:xfrm>
          <a:custGeom>
            <a:avLst/>
            <a:gdLst/>
            <a:ahLst/>
            <a:rect l="l" t="t" r="r" b="b"/>
            <a:pathLst>
              <a:path w="1390" h="1961">
                <a:moveTo>
                  <a:pt x="13171" y="14039"/>
                </a:moveTo>
                <a:cubicBezTo>
                  <a:pt x="13171" y="13998"/>
                  <a:pt x="13171" y="13990"/>
                  <a:pt x="13171" y="13965"/>
                </a:cubicBezTo>
                <a:cubicBezTo>
                  <a:pt x="13205" y="13999"/>
                  <a:pt x="13196" y="14255"/>
                  <a:pt x="13196" y="14387"/>
                </a:cubicBezTo>
                <a:cubicBezTo>
                  <a:pt x="13196" y="14403"/>
                  <a:pt x="13196" y="14420"/>
                  <a:pt x="13196" y="14436"/>
                </a:cubicBezTo>
              </a:path>
              <a:path w="1390" h="1961">
                <a:moveTo>
                  <a:pt x="13494" y="13965"/>
                </a:moveTo>
                <a:cubicBezTo>
                  <a:pt x="13432" y="14026"/>
                  <a:pt x="13407" y="14032"/>
                  <a:pt x="13419" y="14089"/>
                </a:cubicBezTo>
                <a:cubicBezTo>
                  <a:pt x="13459" y="14143"/>
                  <a:pt x="13540" y="14155"/>
                  <a:pt x="13618" y="14163"/>
                </a:cubicBezTo>
                <a:cubicBezTo>
                  <a:pt x="13591" y="14283"/>
                  <a:pt x="13572" y="14327"/>
                  <a:pt x="13469" y="14263"/>
                </a:cubicBezTo>
              </a:path>
              <a:path w="1390" h="1961">
                <a:moveTo>
                  <a:pt x="13494" y="13915"/>
                </a:moveTo>
                <a:cubicBezTo>
                  <a:pt x="13549" y="13879"/>
                  <a:pt x="13639" y="13762"/>
                  <a:pt x="13717" y="13791"/>
                </a:cubicBezTo>
                <a:cubicBezTo>
                  <a:pt x="13725" y="13799"/>
                  <a:pt x="13734" y="13808"/>
                  <a:pt x="13742" y="13816"/>
                </a:cubicBezTo>
              </a:path>
              <a:path w="1390" h="1961">
                <a:moveTo>
                  <a:pt x="12948" y="14858"/>
                </a:moveTo>
                <a:cubicBezTo>
                  <a:pt x="13124" y="14790"/>
                  <a:pt x="13312" y="14736"/>
                  <a:pt x="13494" y="14684"/>
                </a:cubicBezTo>
                <a:cubicBezTo>
                  <a:pt x="13568" y="14666"/>
                  <a:pt x="13575" y="14658"/>
                  <a:pt x="13618" y="14660"/>
                </a:cubicBezTo>
              </a:path>
              <a:path w="1390" h="1961">
                <a:moveTo>
                  <a:pt x="13072" y="15106"/>
                </a:moveTo>
                <a:cubicBezTo>
                  <a:pt x="13058" y="15141"/>
                  <a:pt x="13036" y="15170"/>
                  <a:pt x="13022" y="15205"/>
                </a:cubicBezTo>
                <a:cubicBezTo>
                  <a:pt x="13044" y="15218"/>
                  <a:pt x="13198" y="15250"/>
                  <a:pt x="13196" y="15280"/>
                </a:cubicBezTo>
                <a:cubicBezTo>
                  <a:pt x="13192" y="15346"/>
                  <a:pt x="13036" y="15456"/>
                  <a:pt x="12998" y="15379"/>
                </a:cubicBezTo>
                <a:cubicBezTo>
                  <a:pt x="12990" y="15346"/>
                  <a:pt x="12981" y="15313"/>
                  <a:pt x="12973" y="15280"/>
                </a:cubicBezTo>
              </a:path>
              <a:path w="1390" h="1961">
                <a:moveTo>
                  <a:pt x="12998" y="15106"/>
                </a:moveTo>
                <a:cubicBezTo>
                  <a:pt x="13100" y="15049"/>
                  <a:pt x="13181" y="15013"/>
                  <a:pt x="13295" y="14982"/>
                </a:cubicBezTo>
              </a:path>
              <a:path w="1390" h="1961">
                <a:moveTo>
                  <a:pt x="13543" y="14982"/>
                </a:moveTo>
                <a:cubicBezTo>
                  <a:pt x="13501" y="15057"/>
                  <a:pt x="13455" y="15173"/>
                  <a:pt x="13519" y="15255"/>
                </a:cubicBezTo>
                <a:cubicBezTo>
                  <a:pt x="13527" y="15255"/>
                  <a:pt x="13535" y="15255"/>
                  <a:pt x="13543" y="15255"/>
                </a:cubicBezTo>
                <a:cubicBezTo>
                  <a:pt x="13636" y="15110"/>
                  <a:pt x="13643" y="15073"/>
                  <a:pt x="13519" y="15007"/>
                </a:cubicBezTo>
                <a:cubicBezTo>
                  <a:pt x="13511" y="14999"/>
                  <a:pt x="13502" y="14990"/>
                  <a:pt x="13494" y="14982"/>
                </a:cubicBezTo>
              </a:path>
              <a:path w="1390" h="1961">
                <a:moveTo>
                  <a:pt x="12427" y="13593"/>
                </a:moveTo>
                <a:cubicBezTo>
                  <a:pt x="12427" y="13610"/>
                  <a:pt x="12427" y="13626"/>
                  <a:pt x="12427" y="13643"/>
                </a:cubicBezTo>
                <a:cubicBezTo>
                  <a:pt x="12459" y="13637"/>
                  <a:pt x="12559" y="13581"/>
                  <a:pt x="12576" y="13643"/>
                </a:cubicBezTo>
                <a:cubicBezTo>
                  <a:pt x="12603" y="13741"/>
                  <a:pt x="12544" y="13750"/>
                  <a:pt x="12477" y="13767"/>
                </a:cubicBezTo>
              </a:path>
              <a:path w="1390" h="1961">
                <a:moveTo>
                  <a:pt x="12378" y="15379"/>
                </a:moveTo>
                <a:cubicBezTo>
                  <a:pt x="12378" y="15371"/>
                  <a:pt x="12378" y="15362"/>
                  <a:pt x="12378" y="15354"/>
                </a:cubicBezTo>
                <a:cubicBezTo>
                  <a:pt x="12335" y="15383"/>
                  <a:pt x="12343" y="15404"/>
                  <a:pt x="12402" y="15404"/>
                </a:cubicBezTo>
                <a:cubicBezTo>
                  <a:pt x="12410" y="15404"/>
                  <a:pt x="12419" y="15404"/>
                  <a:pt x="12427" y="15404"/>
                </a:cubicBezTo>
                <a:cubicBezTo>
                  <a:pt x="12427" y="15489"/>
                  <a:pt x="12438" y="15478"/>
                  <a:pt x="12378" y="15528"/>
                </a:cubicBezTo>
                <a:cubicBezTo>
                  <a:pt x="12370" y="15536"/>
                  <a:pt x="12361" y="15545"/>
                  <a:pt x="12353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37200" y="4983120"/>
            <a:ext cx="650880" cy="598680"/>
          </a:xfrm>
          <a:custGeom>
            <a:avLst/>
            <a:gdLst/>
            <a:ahLst/>
            <a:rect l="l" t="t" r="r" b="b"/>
            <a:pathLst>
              <a:path w="1812" h="1663">
                <a:moveTo>
                  <a:pt x="16768" y="13915"/>
                </a:moveTo>
                <a:cubicBezTo>
                  <a:pt x="16819" y="13949"/>
                  <a:pt x="16828" y="13957"/>
                  <a:pt x="16842" y="14015"/>
                </a:cubicBezTo>
              </a:path>
              <a:path w="1812" h="1663">
                <a:moveTo>
                  <a:pt x="16942" y="13841"/>
                </a:moveTo>
                <a:cubicBezTo>
                  <a:pt x="16903" y="13919"/>
                  <a:pt x="16837" y="14001"/>
                  <a:pt x="16793" y="14089"/>
                </a:cubicBezTo>
              </a:path>
              <a:path w="1812" h="1663">
                <a:moveTo>
                  <a:pt x="17611" y="14784"/>
                </a:moveTo>
                <a:cubicBezTo>
                  <a:pt x="17673" y="14722"/>
                  <a:pt x="18046" y="14744"/>
                  <a:pt x="18157" y="14734"/>
                </a:cubicBezTo>
                <a:cubicBezTo>
                  <a:pt x="18365" y="14715"/>
                  <a:pt x="18395" y="14713"/>
                  <a:pt x="18579" y="14734"/>
                </a:cubicBezTo>
              </a:path>
              <a:path w="1812" h="1663">
                <a:moveTo>
                  <a:pt x="17661" y="14213"/>
                </a:moveTo>
                <a:cubicBezTo>
                  <a:pt x="17717" y="14179"/>
                  <a:pt x="17788" y="14173"/>
                  <a:pt x="17859" y="14163"/>
                </a:cubicBezTo>
                <a:cubicBezTo>
                  <a:pt x="17839" y="14302"/>
                  <a:pt x="17818" y="14348"/>
                  <a:pt x="17711" y="14436"/>
                </a:cubicBezTo>
                <a:cubicBezTo>
                  <a:pt x="17750" y="14428"/>
                  <a:pt x="17866" y="14375"/>
                  <a:pt x="17859" y="14461"/>
                </a:cubicBezTo>
                <a:cubicBezTo>
                  <a:pt x="17848" y="14598"/>
                  <a:pt x="17521" y="14791"/>
                  <a:pt x="17562" y="14660"/>
                </a:cubicBezTo>
                <a:cubicBezTo>
                  <a:pt x="17587" y="14635"/>
                  <a:pt x="17611" y="14610"/>
                  <a:pt x="17636" y="14585"/>
                </a:cubicBezTo>
              </a:path>
              <a:path w="1812" h="1663">
                <a:moveTo>
                  <a:pt x="18132" y="14139"/>
                </a:moveTo>
                <a:cubicBezTo>
                  <a:pt x="18219" y="14129"/>
                  <a:pt x="18278" y="14100"/>
                  <a:pt x="18355" y="14139"/>
                </a:cubicBezTo>
                <a:cubicBezTo>
                  <a:pt x="18334" y="14225"/>
                  <a:pt x="18308" y="14259"/>
                  <a:pt x="18256" y="14337"/>
                </a:cubicBezTo>
                <a:cubicBezTo>
                  <a:pt x="18333" y="14298"/>
                  <a:pt x="18362" y="14318"/>
                  <a:pt x="18455" y="14337"/>
                </a:cubicBezTo>
                <a:cubicBezTo>
                  <a:pt x="18364" y="14503"/>
                  <a:pt x="18292" y="14494"/>
                  <a:pt x="18107" y="14486"/>
                </a:cubicBezTo>
              </a:path>
              <a:path w="1812" h="1663">
                <a:moveTo>
                  <a:pt x="16867" y="15329"/>
                </a:moveTo>
                <a:cubicBezTo>
                  <a:pt x="16867" y="15387"/>
                  <a:pt x="16867" y="15445"/>
                  <a:pt x="16867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60680" y="5589720"/>
            <a:ext cx="2393640" cy="1081080"/>
          </a:xfrm>
          <a:custGeom>
            <a:avLst/>
            <a:gdLst/>
            <a:ahLst/>
            <a:rect l="l" t="t" r="r" b="b"/>
            <a:pathLst>
              <a:path w="6648" h="3002">
                <a:moveTo>
                  <a:pt x="5259" y="15776"/>
                </a:moveTo>
                <a:cubicBezTo>
                  <a:pt x="5134" y="15794"/>
                  <a:pt x="5015" y="15820"/>
                  <a:pt x="4887" y="15825"/>
                </a:cubicBezTo>
                <a:cubicBezTo>
                  <a:pt x="4879" y="15825"/>
                  <a:pt x="4870" y="15825"/>
                  <a:pt x="4862" y="15825"/>
                </a:cubicBezTo>
                <a:cubicBezTo>
                  <a:pt x="4872" y="15892"/>
                  <a:pt x="4883" y="16009"/>
                  <a:pt x="4911" y="16073"/>
                </a:cubicBezTo>
                <a:cubicBezTo>
                  <a:pt x="4919" y="16081"/>
                  <a:pt x="4928" y="16090"/>
                  <a:pt x="4936" y="16098"/>
                </a:cubicBezTo>
                <a:cubicBezTo>
                  <a:pt x="4964" y="16084"/>
                  <a:pt x="5107" y="16049"/>
                  <a:pt x="5159" y="16073"/>
                </a:cubicBezTo>
                <a:cubicBezTo>
                  <a:pt x="5319" y="16148"/>
                  <a:pt x="5349" y="16297"/>
                  <a:pt x="5234" y="16421"/>
                </a:cubicBezTo>
                <a:cubicBezTo>
                  <a:pt x="5120" y="16543"/>
                  <a:pt x="5056" y="16488"/>
                  <a:pt x="4936" y="16446"/>
                </a:cubicBezTo>
                <a:cubicBezTo>
                  <a:pt x="4928" y="16446"/>
                  <a:pt x="4919" y="16446"/>
                  <a:pt x="4911" y="16446"/>
                </a:cubicBezTo>
              </a:path>
              <a:path w="6648" h="3002">
                <a:moveTo>
                  <a:pt x="4614" y="17140"/>
                </a:moveTo>
                <a:cubicBezTo>
                  <a:pt x="4685" y="17044"/>
                  <a:pt x="4936" y="17025"/>
                  <a:pt x="5060" y="17016"/>
                </a:cubicBezTo>
                <a:cubicBezTo>
                  <a:pt x="5237" y="17004"/>
                  <a:pt x="5406" y="17013"/>
                  <a:pt x="5581" y="16991"/>
                </a:cubicBezTo>
              </a:path>
              <a:path w="6648" h="3002">
                <a:moveTo>
                  <a:pt x="4738" y="17587"/>
                </a:moveTo>
                <a:cubicBezTo>
                  <a:pt x="4848" y="17568"/>
                  <a:pt x="4981" y="17526"/>
                  <a:pt x="5085" y="17487"/>
                </a:cubicBezTo>
                <a:cubicBezTo>
                  <a:pt x="5178" y="17452"/>
                  <a:pt x="5187" y="17409"/>
                  <a:pt x="5259" y="17438"/>
                </a:cubicBezTo>
                <a:cubicBezTo>
                  <a:pt x="5259" y="17599"/>
                  <a:pt x="5209" y="17732"/>
                  <a:pt x="5159" y="17884"/>
                </a:cubicBezTo>
                <a:cubicBezTo>
                  <a:pt x="5116" y="18017"/>
                  <a:pt x="5085" y="18118"/>
                  <a:pt x="5085" y="18256"/>
                </a:cubicBezTo>
                <a:cubicBezTo>
                  <a:pt x="5085" y="18297"/>
                  <a:pt x="5085" y="18339"/>
                  <a:pt x="5085" y="18380"/>
                </a:cubicBezTo>
              </a:path>
              <a:path w="6648" h="3002">
                <a:moveTo>
                  <a:pt x="6127" y="16966"/>
                </a:moveTo>
                <a:cubicBezTo>
                  <a:pt x="6189" y="17013"/>
                  <a:pt x="6270" y="17012"/>
                  <a:pt x="6350" y="17016"/>
                </a:cubicBezTo>
                <a:cubicBezTo>
                  <a:pt x="6358" y="17016"/>
                  <a:pt x="6367" y="17016"/>
                  <a:pt x="6375" y="17016"/>
                </a:cubicBezTo>
              </a:path>
              <a:path w="6648" h="3002">
                <a:moveTo>
                  <a:pt x="6201" y="17214"/>
                </a:moveTo>
                <a:cubicBezTo>
                  <a:pt x="6274" y="17210"/>
                  <a:pt x="6417" y="17167"/>
                  <a:pt x="6449" y="17214"/>
                </a:cubicBezTo>
              </a:path>
              <a:path w="6648" h="3002">
                <a:moveTo>
                  <a:pt x="6375" y="15528"/>
                </a:moveTo>
                <a:cubicBezTo>
                  <a:pt x="6375" y="15610"/>
                  <a:pt x="6363" y="15673"/>
                  <a:pt x="6350" y="15751"/>
                </a:cubicBezTo>
              </a:path>
              <a:path w="6648" h="3002">
                <a:moveTo>
                  <a:pt x="6548" y="15528"/>
                </a:moveTo>
                <a:cubicBezTo>
                  <a:pt x="6534" y="15576"/>
                  <a:pt x="6516" y="15726"/>
                  <a:pt x="6623" y="15627"/>
                </a:cubicBezTo>
                <a:cubicBezTo>
                  <a:pt x="6695" y="15560"/>
                  <a:pt x="6620" y="15548"/>
                  <a:pt x="6573" y="15528"/>
                </a:cubicBezTo>
              </a:path>
              <a:path w="6648" h="3002">
                <a:moveTo>
                  <a:pt x="6152" y="18355"/>
                </a:moveTo>
                <a:cubicBezTo>
                  <a:pt x="6152" y="18413"/>
                  <a:pt x="6152" y="18471"/>
                  <a:pt x="6152" y="18529"/>
                </a:cubicBezTo>
              </a:path>
              <a:path w="6648" h="3002">
                <a:moveTo>
                  <a:pt x="6350" y="18331"/>
                </a:moveTo>
                <a:cubicBezTo>
                  <a:pt x="6350" y="18389"/>
                  <a:pt x="6350" y="18397"/>
                  <a:pt x="6350" y="18430"/>
                </a:cubicBezTo>
                <a:cubicBezTo>
                  <a:pt x="6432" y="18430"/>
                  <a:pt x="6456" y="18424"/>
                  <a:pt x="6449" y="18355"/>
                </a:cubicBezTo>
                <a:cubicBezTo>
                  <a:pt x="6445" y="18313"/>
                  <a:pt x="6414" y="18307"/>
                  <a:pt x="6400" y="18256"/>
                </a:cubicBezTo>
              </a:path>
              <a:path w="6648" h="3002">
                <a:moveTo>
                  <a:pt x="7863" y="15974"/>
                </a:moveTo>
                <a:cubicBezTo>
                  <a:pt x="7776" y="15974"/>
                  <a:pt x="7726" y="16014"/>
                  <a:pt x="7640" y="16024"/>
                </a:cubicBezTo>
                <a:cubicBezTo>
                  <a:pt x="7632" y="16024"/>
                  <a:pt x="7623" y="16024"/>
                  <a:pt x="7615" y="16024"/>
                </a:cubicBezTo>
                <a:cubicBezTo>
                  <a:pt x="7600" y="16142"/>
                  <a:pt x="7573" y="16257"/>
                  <a:pt x="7541" y="16371"/>
                </a:cubicBezTo>
                <a:cubicBezTo>
                  <a:pt x="7656" y="16351"/>
                  <a:pt x="7724" y="16346"/>
                  <a:pt x="7838" y="16371"/>
                </a:cubicBezTo>
                <a:cubicBezTo>
                  <a:pt x="7820" y="16510"/>
                  <a:pt x="7754" y="16667"/>
                  <a:pt x="7565" y="16644"/>
                </a:cubicBezTo>
                <a:cubicBezTo>
                  <a:pt x="7495" y="16597"/>
                  <a:pt x="7471" y="16585"/>
                  <a:pt x="7491" y="16520"/>
                </a:cubicBezTo>
              </a:path>
              <a:path w="6648" h="3002">
                <a:moveTo>
                  <a:pt x="8161" y="16123"/>
                </a:moveTo>
                <a:cubicBezTo>
                  <a:pt x="8068" y="16274"/>
                  <a:pt x="8025" y="16391"/>
                  <a:pt x="8012" y="16570"/>
                </a:cubicBezTo>
                <a:cubicBezTo>
                  <a:pt x="8167" y="16588"/>
                  <a:pt x="8404" y="16573"/>
                  <a:pt x="8409" y="16346"/>
                </a:cubicBezTo>
                <a:cubicBezTo>
                  <a:pt x="8414" y="16114"/>
                  <a:pt x="8197" y="16064"/>
                  <a:pt x="8062" y="16148"/>
                </a:cubicBezTo>
              </a:path>
              <a:path w="6648" h="3002">
                <a:moveTo>
                  <a:pt x="7169" y="16942"/>
                </a:moveTo>
                <a:cubicBezTo>
                  <a:pt x="7403" y="16927"/>
                  <a:pt x="7628" y="16954"/>
                  <a:pt x="7863" y="16942"/>
                </a:cubicBezTo>
                <a:cubicBezTo>
                  <a:pt x="7982" y="16936"/>
                  <a:pt x="8250" y="16853"/>
                  <a:pt x="8334" y="16917"/>
                </a:cubicBezTo>
              </a:path>
              <a:path w="6648" h="3002">
                <a:moveTo>
                  <a:pt x="7466" y="17190"/>
                </a:moveTo>
                <a:cubicBezTo>
                  <a:pt x="7600" y="17208"/>
                  <a:pt x="7729" y="17220"/>
                  <a:pt x="7863" y="17239"/>
                </a:cubicBezTo>
                <a:cubicBezTo>
                  <a:pt x="7849" y="17432"/>
                  <a:pt x="7771" y="17540"/>
                  <a:pt x="7689" y="17711"/>
                </a:cubicBezTo>
                <a:cubicBezTo>
                  <a:pt x="7644" y="17805"/>
                  <a:pt x="7589" y="17919"/>
                  <a:pt x="7689" y="17785"/>
                </a:cubicBezTo>
              </a:path>
              <a:path w="6648" h="3002">
                <a:moveTo>
                  <a:pt x="8161" y="17388"/>
                </a:moveTo>
                <a:cubicBezTo>
                  <a:pt x="8061" y="17488"/>
                  <a:pt x="7914" y="17623"/>
                  <a:pt x="7938" y="17785"/>
                </a:cubicBezTo>
                <a:cubicBezTo>
                  <a:pt x="7954" y="17810"/>
                  <a:pt x="7971" y="17834"/>
                  <a:pt x="7987" y="17859"/>
                </a:cubicBezTo>
                <a:cubicBezTo>
                  <a:pt x="8091" y="17867"/>
                  <a:pt x="8310" y="17826"/>
                  <a:pt x="8310" y="17661"/>
                </a:cubicBezTo>
                <a:cubicBezTo>
                  <a:pt x="8310" y="17493"/>
                  <a:pt x="8133" y="17472"/>
                  <a:pt x="8012" y="17462"/>
                </a:cubicBezTo>
              </a:path>
              <a:path w="6648" h="3002">
                <a:moveTo>
                  <a:pt x="8930" y="16892"/>
                </a:moveTo>
                <a:cubicBezTo>
                  <a:pt x="9026" y="16892"/>
                  <a:pt x="9134" y="16844"/>
                  <a:pt x="9227" y="16867"/>
                </a:cubicBezTo>
                <a:cubicBezTo>
                  <a:pt x="9227" y="16875"/>
                  <a:pt x="9227" y="16884"/>
                  <a:pt x="9227" y="16892"/>
                </a:cubicBezTo>
              </a:path>
              <a:path w="6648" h="3002">
                <a:moveTo>
                  <a:pt x="9252" y="16024"/>
                </a:moveTo>
                <a:cubicBezTo>
                  <a:pt x="9252" y="16082"/>
                  <a:pt x="9252" y="16139"/>
                  <a:pt x="9252" y="16197"/>
                </a:cubicBezTo>
              </a:path>
              <a:path w="6648" h="3002">
                <a:moveTo>
                  <a:pt x="9426" y="16024"/>
                </a:moveTo>
                <a:cubicBezTo>
                  <a:pt x="9414" y="16093"/>
                  <a:pt x="9412" y="16109"/>
                  <a:pt x="9426" y="16173"/>
                </a:cubicBezTo>
                <a:cubicBezTo>
                  <a:pt x="9547" y="16132"/>
                  <a:pt x="9610" y="16069"/>
                  <a:pt x="9475" y="16024"/>
                </a:cubicBezTo>
              </a:path>
              <a:path w="6648" h="3002">
                <a:moveTo>
                  <a:pt x="9748" y="15974"/>
                </a:moveTo>
                <a:cubicBezTo>
                  <a:pt x="9726" y="16041"/>
                  <a:pt x="9721" y="16059"/>
                  <a:pt x="9699" y="16098"/>
                </a:cubicBezTo>
                <a:cubicBezTo>
                  <a:pt x="9752" y="16098"/>
                  <a:pt x="9791" y="16111"/>
                  <a:pt x="9798" y="16049"/>
                </a:cubicBezTo>
                <a:cubicBezTo>
                  <a:pt x="9798" y="16016"/>
                  <a:pt x="9790" y="16007"/>
                  <a:pt x="9748" y="16024"/>
                </a:cubicBezTo>
              </a:path>
              <a:path w="6648" h="3002">
                <a:moveTo>
                  <a:pt x="10492" y="16222"/>
                </a:moveTo>
                <a:cubicBezTo>
                  <a:pt x="10426" y="16222"/>
                  <a:pt x="10345" y="16202"/>
                  <a:pt x="10319" y="16247"/>
                </a:cubicBezTo>
                <a:cubicBezTo>
                  <a:pt x="10261" y="16349"/>
                  <a:pt x="10212" y="16436"/>
                  <a:pt x="10170" y="16545"/>
                </a:cubicBezTo>
                <a:cubicBezTo>
                  <a:pt x="10274" y="16510"/>
                  <a:pt x="10286" y="16484"/>
                  <a:pt x="10393" y="16545"/>
                </a:cubicBezTo>
                <a:cubicBezTo>
                  <a:pt x="10355" y="16719"/>
                  <a:pt x="10210" y="16719"/>
                  <a:pt x="10046" y="16743"/>
                </a:cubicBezTo>
                <a:cubicBezTo>
                  <a:pt x="9987" y="16743"/>
                  <a:pt x="9973" y="16734"/>
                  <a:pt x="10021" y="16669"/>
                </a:cubicBezTo>
              </a:path>
              <a:path w="6648" h="3002">
                <a:moveTo>
                  <a:pt x="10765" y="16346"/>
                </a:moveTo>
                <a:cubicBezTo>
                  <a:pt x="10671" y="16456"/>
                  <a:pt x="10641" y="16505"/>
                  <a:pt x="10616" y="16644"/>
                </a:cubicBezTo>
                <a:cubicBezTo>
                  <a:pt x="10700" y="16695"/>
                  <a:pt x="10827" y="16652"/>
                  <a:pt x="10864" y="16520"/>
                </a:cubicBezTo>
                <a:cubicBezTo>
                  <a:pt x="10904" y="16377"/>
                  <a:pt x="10802" y="16334"/>
                  <a:pt x="10691" y="16321"/>
                </a:cubicBezTo>
              </a:path>
              <a:path w="6648" h="3002">
                <a:moveTo>
                  <a:pt x="11013" y="16297"/>
                </a:moveTo>
                <a:cubicBezTo>
                  <a:pt x="10989" y="16419"/>
                  <a:pt x="10972" y="16501"/>
                  <a:pt x="10988" y="16619"/>
                </a:cubicBezTo>
                <a:cubicBezTo>
                  <a:pt x="11110" y="16607"/>
                  <a:pt x="11265" y="16561"/>
                  <a:pt x="11261" y="16396"/>
                </a:cubicBezTo>
                <a:cubicBezTo>
                  <a:pt x="11256" y="16183"/>
                  <a:pt x="11043" y="16302"/>
                  <a:pt x="10964" y="16346"/>
                </a:cubicBezTo>
              </a:path>
              <a:path w="6648" h="3002">
                <a:moveTo>
                  <a:pt x="9872" y="16966"/>
                </a:moveTo>
                <a:cubicBezTo>
                  <a:pt x="10176" y="16909"/>
                  <a:pt x="10483" y="16901"/>
                  <a:pt x="10790" y="16867"/>
                </a:cubicBezTo>
                <a:cubicBezTo>
                  <a:pt x="10873" y="16858"/>
                  <a:pt x="11038" y="16800"/>
                  <a:pt x="11112" y="16867"/>
                </a:cubicBezTo>
                <a:cubicBezTo>
                  <a:pt x="11135" y="16890"/>
                  <a:pt x="11143" y="16894"/>
                  <a:pt x="11137" y="169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37200" y="5946840"/>
            <a:ext cx="330120" cy="482400"/>
          </a:xfrm>
          <a:custGeom>
            <a:avLst/>
            <a:gdLst/>
            <a:ahLst/>
            <a:rect l="l" t="t" r="r" b="b"/>
            <a:pathLst>
              <a:path w="919" h="1340">
                <a:moveTo>
                  <a:pt x="17016" y="16520"/>
                </a:moveTo>
                <a:cubicBezTo>
                  <a:pt x="16904" y="16616"/>
                  <a:pt x="16948" y="16633"/>
                  <a:pt x="17066" y="16718"/>
                </a:cubicBezTo>
                <a:cubicBezTo>
                  <a:pt x="17108" y="16748"/>
                  <a:pt x="17248" y="16917"/>
                  <a:pt x="17090" y="16917"/>
                </a:cubicBezTo>
                <a:cubicBezTo>
                  <a:pt x="17065" y="16909"/>
                  <a:pt x="17041" y="16900"/>
                  <a:pt x="17016" y="16892"/>
                </a:cubicBezTo>
              </a:path>
              <a:path w="919" h="1340">
                <a:moveTo>
                  <a:pt x="17016" y="16570"/>
                </a:moveTo>
                <a:cubicBezTo>
                  <a:pt x="17136" y="16552"/>
                  <a:pt x="17241" y="16545"/>
                  <a:pt x="17363" y="16545"/>
                </a:cubicBezTo>
              </a:path>
              <a:path w="919" h="1340">
                <a:moveTo>
                  <a:pt x="17388" y="16594"/>
                </a:moveTo>
                <a:cubicBezTo>
                  <a:pt x="17343" y="16698"/>
                  <a:pt x="17402" y="16706"/>
                  <a:pt x="17462" y="16793"/>
                </a:cubicBezTo>
                <a:cubicBezTo>
                  <a:pt x="17486" y="16840"/>
                  <a:pt x="17496" y="16857"/>
                  <a:pt x="17438" y="16842"/>
                </a:cubicBezTo>
              </a:path>
              <a:path w="919" h="1340">
                <a:moveTo>
                  <a:pt x="16768" y="17140"/>
                </a:moveTo>
                <a:cubicBezTo>
                  <a:pt x="17009" y="17140"/>
                  <a:pt x="17246" y="17102"/>
                  <a:pt x="17487" y="17115"/>
                </a:cubicBezTo>
                <a:cubicBezTo>
                  <a:pt x="17615" y="17133"/>
                  <a:pt x="17640" y="17109"/>
                  <a:pt x="17686" y="17165"/>
                </a:cubicBezTo>
              </a:path>
              <a:path w="919" h="1340">
                <a:moveTo>
                  <a:pt x="16842" y="17462"/>
                </a:moveTo>
                <a:cubicBezTo>
                  <a:pt x="16910" y="17459"/>
                  <a:pt x="17180" y="17392"/>
                  <a:pt x="17214" y="17487"/>
                </a:cubicBezTo>
                <a:cubicBezTo>
                  <a:pt x="17253" y="17594"/>
                  <a:pt x="17060" y="17890"/>
                  <a:pt x="17140" y="17810"/>
                </a:cubicBezTo>
                <a:cubicBezTo>
                  <a:pt x="17148" y="17793"/>
                  <a:pt x="17157" y="17777"/>
                  <a:pt x="17165" y="17760"/>
                </a:cubicBezTo>
              </a:path>
              <a:path w="919" h="1340">
                <a:moveTo>
                  <a:pt x="17363" y="17462"/>
                </a:moveTo>
                <a:cubicBezTo>
                  <a:pt x="17429" y="17442"/>
                  <a:pt x="17549" y="17371"/>
                  <a:pt x="17611" y="17438"/>
                </a:cubicBezTo>
                <a:cubicBezTo>
                  <a:pt x="17673" y="17505"/>
                  <a:pt x="17588" y="17732"/>
                  <a:pt x="17562" y="17810"/>
                </a:cubicBezTo>
                <a:cubicBezTo>
                  <a:pt x="17554" y="17826"/>
                  <a:pt x="17545" y="17843"/>
                  <a:pt x="17537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53000" y="5830920"/>
            <a:ext cx="446040" cy="250920"/>
          </a:xfrm>
          <a:custGeom>
            <a:avLst/>
            <a:gdLst/>
            <a:ahLst/>
            <a:rect l="l" t="t" r="r" b="b"/>
            <a:pathLst>
              <a:path w="1241" h="696">
                <a:moveTo>
                  <a:pt x="12923" y="16197"/>
                </a:moveTo>
                <a:cubicBezTo>
                  <a:pt x="12942" y="16275"/>
                  <a:pt x="12967" y="16292"/>
                  <a:pt x="12923" y="16321"/>
                </a:cubicBezTo>
              </a:path>
              <a:path w="1241" h="696">
                <a:moveTo>
                  <a:pt x="13221" y="16842"/>
                </a:moveTo>
                <a:cubicBezTo>
                  <a:pt x="13221" y="16859"/>
                  <a:pt x="13221" y="16875"/>
                  <a:pt x="13221" y="16892"/>
                </a:cubicBezTo>
              </a:path>
              <a:path w="1241" h="696">
                <a:moveTo>
                  <a:pt x="13593" y="16570"/>
                </a:moveTo>
                <a:cubicBezTo>
                  <a:pt x="13593" y="16648"/>
                  <a:pt x="13578" y="16666"/>
                  <a:pt x="13618" y="16694"/>
                </a:cubicBezTo>
                <a:cubicBezTo>
                  <a:pt x="13726" y="16685"/>
                  <a:pt x="13882" y="16646"/>
                  <a:pt x="13791" y="16495"/>
                </a:cubicBezTo>
                <a:cubicBezTo>
                  <a:pt x="13736" y="16467"/>
                  <a:pt x="13713" y="16459"/>
                  <a:pt x="13667" y="16470"/>
                </a:cubicBezTo>
              </a:path>
              <a:path w="1241" h="696">
                <a:moveTo>
                  <a:pt x="14163" y="16768"/>
                </a:moveTo>
                <a:cubicBezTo>
                  <a:pt x="14155" y="16785"/>
                  <a:pt x="14147" y="16801"/>
                  <a:pt x="14139" y="16818"/>
                </a:cubicBezTo>
              </a:path>
              <a:path w="1241" h="696">
                <a:moveTo>
                  <a:pt x="14139" y="16818"/>
                </a:moveTo>
                <a:lnTo>
                  <a:pt x="14139" y="1681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03800" y="5796000"/>
            <a:ext cx="81000" cy="169920"/>
          </a:xfrm>
          <a:custGeom>
            <a:avLst/>
            <a:gdLst/>
            <a:ahLst/>
            <a:rect l="l" t="t" r="r" b="b"/>
            <a:pathLst>
              <a:path w="224" h="473">
                <a:moveTo>
                  <a:pt x="11981" y="16098"/>
                </a:moveTo>
                <a:cubicBezTo>
                  <a:pt x="11961" y="16158"/>
                  <a:pt x="11979" y="16271"/>
                  <a:pt x="11981" y="16371"/>
                </a:cubicBezTo>
                <a:cubicBezTo>
                  <a:pt x="11981" y="16470"/>
                  <a:pt x="11981" y="16487"/>
                  <a:pt x="11981" y="16545"/>
                </a:cubicBezTo>
              </a:path>
              <a:path w="224" h="473">
                <a:moveTo>
                  <a:pt x="12154" y="16470"/>
                </a:moveTo>
                <a:cubicBezTo>
                  <a:pt x="12154" y="16539"/>
                  <a:pt x="12135" y="16555"/>
                  <a:pt x="12179" y="165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9080" y="5724360"/>
            <a:ext cx="455760" cy="320760"/>
          </a:xfrm>
          <a:custGeom>
            <a:avLst/>
            <a:gdLst/>
            <a:ahLst/>
            <a:rect l="l" t="t" r="r" b="b"/>
            <a:pathLst>
              <a:path w="1266" h="894">
                <a:moveTo>
                  <a:pt x="12328" y="16222"/>
                </a:moveTo>
                <a:cubicBezTo>
                  <a:pt x="12310" y="16296"/>
                  <a:pt x="12285" y="16328"/>
                  <a:pt x="12328" y="16371"/>
                </a:cubicBezTo>
                <a:cubicBezTo>
                  <a:pt x="12373" y="16304"/>
                  <a:pt x="12419" y="16238"/>
                  <a:pt x="12328" y="16197"/>
                </a:cubicBezTo>
                <a:cubicBezTo>
                  <a:pt x="12303" y="16197"/>
                  <a:pt x="12295" y="16197"/>
                  <a:pt x="12303" y="16173"/>
                </a:cubicBezTo>
              </a:path>
              <a:path w="1266" h="894">
                <a:moveTo>
                  <a:pt x="12502" y="16024"/>
                </a:moveTo>
                <a:cubicBezTo>
                  <a:pt x="12487" y="16077"/>
                  <a:pt x="12394" y="16232"/>
                  <a:pt x="12502" y="16272"/>
                </a:cubicBezTo>
                <a:cubicBezTo>
                  <a:pt x="12632" y="16320"/>
                  <a:pt x="12676" y="16148"/>
                  <a:pt x="12601" y="16073"/>
                </a:cubicBezTo>
                <a:cubicBezTo>
                  <a:pt x="12568" y="16073"/>
                  <a:pt x="12551" y="16073"/>
                  <a:pt x="12526" y="16073"/>
                </a:cubicBezTo>
              </a:path>
              <a:path w="1266" h="894">
                <a:moveTo>
                  <a:pt x="12700" y="16049"/>
                </a:moveTo>
                <a:cubicBezTo>
                  <a:pt x="12677" y="16101"/>
                  <a:pt x="12675" y="16119"/>
                  <a:pt x="12675" y="16173"/>
                </a:cubicBezTo>
                <a:cubicBezTo>
                  <a:pt x="12778" y="16126"/>
                  <a:pt x="12777" y="16127"/>
                  <a:pt x="12824" y="16024"/>
                </a:cubicBezTo>
                <a:cubicBezTo>
                  <a:pt x="12751" y="16024"/>
                  <a:pt x="12728" y="16023"/>
                  <a:pt x="12700" y="16073"/>
                </a:cubicBezTo>
              </a:path>
              <a:path w="1266" h="894">
                <a:moveTo>
                  <a:pt x="13097" y="16024"/>
                </a:moveTo>
                <a:cubicBezTo>
                  <a:pt x="13074" y="16091"/>
                  <a:pt x="13059" y="16112"/>
                  <a:pt x="13122" y="16123"/>
                </a:cubicBezTo>
                <a:cubicBezTo>
                  <a:pt x="13143" y="16086"/>
                  <a:pt x="13231" y="15978"/>
                  <a:pt x="13122" y="15999"/>
                </a:cubicBezTo>
                <a:cubicBezTo>
                  <a:pt x="13105" y="16007"/>
                  <a:pt x="13089" y="16016"/>
                  <a:pt x="13072" y="16024"/>
                </a:cubicBezTo>
              </a:path>
              <a:path w="1266" h="894">
                <a:moveTo>
                  <a:pt x="13271" y="15974"/>
                </a:moveTo>
                <a:cubicBezTo>
                  <a:pt x="13271" y="16035"/>
                  <a:pt x="13254" y="16074"/>
                  <a:pt x="13221" y="16123"/>
                </a:cubicBezTo>
                <a:cubicBezTo>
                  <a:pt x="13304" y="16106"/>
                  <a:pt x="13352" y="16078"/>
                  <a:pt x="13370" y="15999"/>
                </a:cubicBezTo>
                <a:cubicBezTo>
                  <a:pt x="13370" y="15957"/>
                  <a:pt x="13353" y="15949"/>
                  <a:pt x="13295" y="15974"/>
                </a:cubicBezTo>
              </a:path>
              <a:path w="1266" h="894">
                <a:moveTo>
                  <a:pt x="13469" y="15925"/>
                </a:moveTo>
                <a:cubicBezTo>
                  <a:pt x="13461" y="15983"/>
                  <a:pt x="13450" y="16040"/>
                  <a:pt x="13444" y="16098"/>
                </a:cubicBezTo>
                <a:cubicBezTo>
                  <a:pt x="13480" y="16086"/>
                  <a:pt x="13673" y="15968"/>
                  <a:pt x="13543" y="15925"/>
                </a:cubicBezTo>
                <a:cubicBezTo>
                  <a:pt x="13485" y="15925"/>
                  <a:pt x="13461" y="15941"/>
                  <a:pt x="13469" y="15900"/>
                </a:cubicBezTo>
              </a:path>
              <a:path w="1266" h="894">
                <a:moveTo>
                  <a:pt x="13146" y="16421"/>
                </a:moveTo>
                <a:cubicBezTo>
                  <a:pt x="13061" y="16421"/>
                  <a:pt x="12983" y="16397"/>
                  <a:pt x="12923" y="16470"/>
                </a:cubicBezTo>
                <a:cubicBezTo>
                  <a:pt x="12864" y="16541"/>
                  <a:pt x="13013" y="16565"/>
                  <a:pt x="13022" y="16570"/>
                </a:cubicBezTo>
                <a:cubicBezTo>
                  <a:pt x="13083" y="16602"/>
                  <a:pt x="13143" y="16655"/>
                  <a:pt x="13072" y="16718"/>
                </a:cubicBezTo>
                <a:cubicBezTo>
                  <a:pt x="12986" y="16794"/>
                  <a:pt x="12920" y="16787"/>
                  <a:pt x="12824" y="16768"/>
                </a:cubicBezTo>
              </a:path>
              <a:path w="1266" h="894">
                <a:moveTo>
                  <a:pt x="13444" y="16470"/>
                </a:moveTo>
                <a:cubicBezTo>
                  <a:pt x="13403" y="16581"/>
                  <a:pt x="13370" y="16622"/>
                  <a:pt x="13370" y="16743"/>
                </a:cubicBezTo>
                <a:cubicBezTo>
                  <a:pt x="13428" y="16730"/>
                  <a:pt x="13584" y="16670"/>
                  <a:pt x="13519" y="16570"/>
                </a:cubicBezTo>
                <a:cubicBezTo>
                  <a:pt x="13471" y="16546"/>
                  <a:pt x="13456" y="16538"/>
                  <a:pt x="13419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73760" y="5911920"/>
            <a:ext cx="63360" cy="88920"/>
          </a:xfrm>
          <a:custGeom>
            <a:avLst/>
            <a:gdLst/>
            <a:ahLst/>
            <a:rect l="l" t="t" r="r" b="b"/>
            <a:pathLst>
              <a:path w="175" h="249">
                <a:moveTo>
                  <a:pt x="13965" y="16421"/>
                </a:moveTo>
                <a:cubicBezTo>
                  <a:pt x="13895" y="16455"/>
                  <a:pt x="13822" y="16577"/>
                  <a:pt x="13816" y="16669"/>
                </a:cubicBezTo>
                <a:cubicBezTo>
                  <a:pt x="13824" y="16669"/>
                  <a:pt x="13833" y="16669"/>
                  <a:pt x="13841" y="16669"/>
                </a:cubicBezTo>
                <a:cubicBezTo>
                  <a:pt x="13891" y="16661"/>
                  <a:pt x="14101" y="16604"/>
                  <a:pt x="13965" y="16520"/>
                </a:cubicBezTo>
                <a:cubicBezTo>
                  <a:pt x="13940" y="16512"/>
                  <a:pt x="13916" y="16503"/>
                  <a:pt x="13891" y="164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33960" y="5892840"/>
            <a:ext cx="314280" cy="100080"/>
          </a:xfrm>
          <a:custGeom>
            <a:avLst/>
            <a:gdLst/>
            <a:ahLst/>
            <a:rect l="l" t="t" r="r" b="b"/>
            <a:pathLst>
              <a:path w="869" h="274">
                <a:moveTo>
                  <a:pt x="14362" y="16470"/>
                </a:moveTo>
                <a:cubicBezTo>
                  <a:pt x="14318" y="16559"/>
                  <a:pt x="14294" y="16558"/>
                  <a:pt x="14337" y="16644"/>
                </a:cubicBezTo>
                <a:cubicBezTo>
                  <a:pt x="14413" y="16625"/>
                  <a:pt x="14524" y="16516"/>
                  <a:pt x="14387" y="16470"/>
                </a:cubicBezTo>
                <a:cubicBezTo>
                  <a:pt x="14321" y="16470"/>
                  <a:pt x="14304" y="16470"/>
                  <a:pt x="14263" y="16470"/>
                </a:cubicBezTo>
              </a:path>
              <a:path w="869" h="274">
                <a:moveTo>
                  <a:pt x="14511" y="16371"/>
                </a:moveTo>
                <a:cubicBezTo>
                  <a:pt x="14430" y="16488"/>
                  <a:pt x="14391" y="16637"/>
                  <a:pt x="14610" y="16644"/>
                </a:cubicBezTo>
                <a:cubicBezTo>
                  <a:pt x="14759" y="16649"/>
                  <a:pt x="14708" y="16476"/>
                  <a:pt x="14635" y="16421"/>
                </a:cubicBezTo>
                <a:cubicBezTo>
                  <a:pt x="14607" y="16421"/>
                  <a:pt x="14596" y="16423"/>
                  <a:pt x="14585" y="16446"/>
                </a:cubicBezTo>
              </a:path>
              <a:path w="869" h="274">
                <a:moveTo>
                  <a:pt x="14957" y="16371"/>
                </a:moveTo>
                <a:cubicBezTo>
                  <a:pt x="14839" y="16450"/>
                  <a:pt x="14833" y="16478"/>
                  <a:pt x="14808" y="16619"/>
                </a:cubicBezTo>
                <a:cubicBezTo>
                  <a:pt x="14859" y="16632"/>
                  <a:pt x="15211" y="16665"/>
                  <a:pt x="15131" y="16495"/>
                </a:cubicBezTo>
                <a:cubicBezTo>
                  <a:pt x="15106" y="16487"/>
                  <a:pt x="15081" y="16478"/>
                  <a:pt x="15056" y="164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4240" y="4205160"/>
            <a:ext cx="276480" cy="162000"/>
          </a:xfrm>
          <a:custGeom>
            <a:avLst/>
            <a:gdLst/>
            <a:ahLst/>
            <a:rect l="l" t="t" r="r" b="b"/>
            <a:pathLst>
              <a:path w="770" h="447">
                <a:moveTo>
                  <a:pt x="11733" y="11708"/>
                </a:moveTo>
                <a:cubicBezTo>
                  <a:pt x="11733" y="11635"/>
                  <a:pt x="11784" y="11970"/>
                  <a:pt x="11782" y="12005"/>
                </a:cubicBezTo>
                <a:cubicBezTo>
                  <a:pt x="11772" y="12152"/>
                  <a:pt x="11763" y="12108"/>
                  <a:pt x="11832" y="11981"/>
                </a:cubicBezTo>
              </a:path>
              <a:path w="770" h="447">
                <a:moveTo>
                  <a:pt x="12080" y="11708"/>
                </a:moveTo>
                <a:cubicBezTo>
                  <a:pt x="12080" y="11777"/>
                  <a:pt x="12058" y="11836"/>
                  <a:pt x="12055" y="11906"/>
                </a:cubicBezTo>
                <a:cubicBezTo>
                  <a:pt x="12052" y="11974"/>
                  <a:pt x="12040" y="12059"/>
                  <a:pt x="12105" y="12105"/>
                </a:cubicBezTo>
                <a:cubicBezTo>
                  <a:pt x="12166" y="12148"/>
                  <a:pt x="12264" y="12125"/>
                  <a:pt x="12328" y="12105"/>
                </a:cubicBezTo>
                <a:cubicBezTo>
                  <a:pt x="12404" y="12081"/>
                  <a:pt x="12438" y="12035"/>
                  <a:pt x="12477" y="11981"/>
                </a:cubicBezTo>
                <a:cubicBezTo>
                  <a:pt x="12500" y="11958"/>
                  <a:pt x="12508" y="11954"/>
                  <a:pt x="12502" y="11931"/>
                </a:cubicBezTo>
                <a:cubicBezTo>
                  <a:pt x="12441" y="11916"/>
                  <a:pt x="12439" y="11906"/>
                  <a:pt x="12378" y="11931"/>
                </a:cubicBezTo>
                <a:cubicBezTo>
                  <a:pt x="12321" y="11954"/>
                  <a:pt x="12235" y="11995"/>
                  <a:pt x="12278" y="12080"/>
                </a:cubicBezTo>
                <a:cubicBezTo>
                  <a:pt x="12286" y="12088"/>
                  <a:pt x="12295" y="12097"/>
                  <a:pt x="12303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49840" y="4160880"/>
            <a:ext cx="304920" cy="19692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13221" y="11683"/>
                </a:moveTo>
                <a:cubicBezTo>
                  <a:pt x="13279" y="11683"/>
                  <a:pt x="13337" y="11683"/>
                  <a:pt x="13395" y="11683"/>
                </a:cubicBezTo>
                <a:cubicBezTo>
                  <a:pt x="13471" y="11823"/>
                  <a:pt x="13370" y="11882"/>
                  <a:pt x="13271" y="12005"/>
                </a:cubicBezTo>
                <a:cubicBezTo>
                  <a:pt x="13246" y="12038"/>
                  <a:pt x="13221" y="12072"/>
                  <a:pt x="13196" y="12105"/>
                </a:cubicBezTo>
                <a:cubicBezTo>
                  <a:pt x="13302" y="12105"/>
                  <a:pt x="13392" y="12077"/>
                  <a:pt x="13494" y="12055"/>
                </a:cubicBezTo>
                <a:cubicBezTo>
                  <a:pt x="13502" y="12055"/>
                  <a:pt x="13511" y="12055"/>
                  <a:pt x="13519" y="12055"/>
                </a:cubicBezTo>
              </a:path>
              <a:path w="844" h="547">
                <a:moveTo>
                  <a:pt x="14039" y="11559"/>
                </a:moveTo>
                <a:cubicBezTo>
                  <a:pt x="13948" y="11559"/>
                  <a:pt x="13807" y="11585"/>
                  <a:pt x="13742" y="11658"/>
                </a:cubicBezTo>
                <a:cubicBezTo>
                  <a:pt x="13742" y="11703"/>
                  <a:pt x="13745" y="11716"/>
                  <a:pt x="13717" y="11733"/>
                </a:cubicBezTo>
                <a:cubicBezTo>
                  <a:pt x="13774" y="11796"/>
                  <a:pt x="13960" y="11885"/>
                  <a:pt x="13965" y="11981"/>
                </a:cubicBezTo>
                <a:cubicBezTo>
                  <a:pt x="13972" y="12124"/>
                  <a:pt x="13760" y="12025"/>
                  <a:pt x="13717" y="12005"/>
                </a:cubicBezTo>
                <a:cubicBezTo>
                  <a:pt x="13717" y="11997"/>
                  <a:pt x="13717" y="11989"/>
                  <a:pt x="13717" y="11981"/>
                </a:cubicBezTo>
                <a:cubicBezTo>
                  <a:pt x="13780" y="11854"/>
                  <a:pt x="13894" y="11803"/>
                  <a:pt x="13965" y="11683"/>
                </a:cubicBezTo>
                <a:cubicBezTo>
                  <a:pt x="13991" y="11640"/>
                  <a:pt x="13914" y="11638"/>
                  <a:pt x="13891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9000" y="4938840"/>
            <a:ext cx="115920" cy="1062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19298" y="13767"/>
                </a:moveTo>
                <a:cubicBezTo>
                  <a:pt x="19416" y="13720"/>
                  <a:pt x="19578" y="13699"/>
                  <a:pt x="19496" y="13891"/>
                </a:cubicBezTo>
                <a:cubicBezTo>
                  <a:pt x="19461" y="13974"/>
                  <a:pt x="19326" y="14069"/>
                  <a:pt x="19273" y="13990"/>
                </a:cubicBezTo>
                <a:cubicBezTo>
                  <a:pt x="19408" y="13942"/>
                  <a:pt x="19453" y="13940"/>
                  <a:pt x="19596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29280" y="5384880"/>
            <a:ext cx="428760" cy="295200"/>
          </a:xfrm>
          <a:custGeom>
            <a:avLst/>
            <a:gdLst/>
            <a:ahLst/>
            <a:rect l="l" t="t" r="r" b="b"/>
            <a:pathLst>
              <a:path w="1192" h="820">
                <a:moveTo>
                  <a:pt x="19769" y="15032"/>
                </a:moveTo>
                <a:cubicBezTo>
                  <a:pt x="19883" y="14986"/>
                  <a:pt x="19885" y="14990"/>
                  <a:pt x="19993" y="15032"/>
                </a:cubicBezTo>
                <a:cubicBezTo>
                  <a:pt x="19992" y="15173"/>
                  <a:pt x="19927" y="15404"/>
                  <a:pt x="19720" y="15404"/>
                </a:cubicBezTo>
                <a:cubicBezTo>
                  <a:pt x="19703" y="15387"/>
                  <a:pt x="19687" y="15371"/>
                  <a:pt x="19670" y="15354"/>
                </a:cubicBezTo>
                <a:cubicBezTo>
                  <a:pt x="19781" y="15231"/>
                  <a:pt x="19837" y="15238"/>
                  <a:pt x="19993" y="15304"/>
                </a:cubicBezTo>
                <a:cubicBezTo>
                  <a:pt x="20056" y="15336"/>
                  <a:pt x="20088" y="15341"/>
                  <a:pt x="20141" y="15304"/>
                </a:cubicBezTo>
              </a:path>
              <a:path w="1192" h="820">
                <a:moveTo>
                  <a:pt x="20265" y="15081"/>
                </a:moveTo>
                <a:cubicBezTo>
                  <a:pt x="20218" y="15215"/>
                  <a:pt x="20200" y="15233"/>
                  <a:pt x="20265" y="15354"/>
                </a:cubicBezTo>
                <a:cubicBezTo>
                  <a:pt x="20383" y="15325"/>
                  <a:pt x="20510" y="15241"/>
                  <a:pt x="20389" y="15106"/>
                </a:cubicBezTo>
                <a:cubicBezTo>
                  <a:pt x="20295" y="15036"/>
                  <a:pt x="20266" y="15015"/>
                  <a:pt x="20216" y="14957"/>
                </a:cubicBezTo>
              </a:path>
              <a:path w="1192" h="820">
                <a:moveTo>
                  <a:pt x="19248" y="15577"/>
                </a:moveTo>
                <a:cubicBezTo>
                  <a:pt x="19278" y="15556"/>
                  <a:pt x="19469" y="15517"/>
                  <a:pt x="19447" y="15652"/>
                </a:cubicBezTo>
                <a:cubicBezTo>
                  <a:pt x="19397" y="15726"/>
                  <a:pt x="19380" y="15751"/>
                  <a:pt x="19323" y="15776"/>
                </a:cubicBezTo>
                <a:cubicBezTo>
                  <a:pt x="19140" y="15745"/>
                  <a:pt x="19499" y="15727"/>
                  <a:pt x="19521" y="15726"/>
                </a:cubicBezTo>
                <a:cubicBezTo>
                  <a:pt x="19561" y="15726"/>
                  <a:pt x="19580" y="15737"/>
                  <a:pt x="19596" y="157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40320" y="5322960"/>
            <a:ext cx="320760" cy="231840"/>
          </a:xfrm>
          <a:custGeom>
            <a:avLst/>
            <a:gdLst/>
            <a:ahLst/>
            <a:rect l="l" t="t" r="r" b="b"/>
            <a:pathLst>
              <a:path w="894" h="646">
                <a:moveTo>
                  <a:pt x="17661" y="14808"/>
                </a:moveTo>
                <a:cubicBezTo>
                  <a:pt x="17661" y="14767"/>
                  <a:pt x="17639" y="15150"/>
                  <a:pt x="17636" y="15180"/>
                </a:cubicBezTo>
                <a:cubicBezTo>
                  <a:pt x="17632" y="15220"/>
                  <a:pt x="17552" y="15436"/>
                  <a:pt x="17661" y="15354"/>
                </a:cubicBezTo>
              </a:path>
              <a:path w="894" h="646">
                <a:moveTo>
                  <a:pt x="17959" y="14908"/>
                </a:moveTo>
                <a:cubicBezTo>
                  <a:pt x="17973" y="15062"/>
                  <a:pt x="17965" y="15199"/>
                  <a:pt x="17959" y="15354"/>
                </a:cubicBezTo>
                <a:cubicBezTo>
                  <a:pt x="17959" y="15362"/>
                  <a:pt x="17959" y="15371"/>
                  <a:pt x="17959" y="15379"/>
                </a:cubicBezTo>
              </a:path>
              <a:path w="894" h="646">
                <a:moveTo>
                  <a:pt x="18306" y="14908"/>
                </a:moveTo>
                <a:cubicBezTo>
                  <a:pt x="18237" y="15098"/>
                  <a:pt x="18192" y="15229"/>
                  <a:pt x="18231" y="15429"/>
                </a:cubicBezTo>
                <a:cubicBezTo>
                  <a:pt x="18358" y="15373"/>
                  <a:pt x="18594" y="15223"/>
                  <a:pt x="18504" y="15032"/>
                </a:cubicBezTo>
                <a:cubicBezTo>
                  <a:pt x="18468" y="14955"/>
                  <a:pt x="18343" y="14942"/>
                  <a:pt x="18281" y="149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8640" y="5268960"/>
            <a:ext cx="98280" cy="81000"/>
          </a:xfrm>
          <a:custGeom>
            <a:avLst/>
            <a:gdLst/>
            <a:ahLst/>
            <a:rect l="l" t="t" r="r" b="b"/>
            <a:pathLst>
              <a:path w="274" h="224">
                <a:moveTo>
                  <a:pt x="19025" y="14635"/>
                </a:moveTo>
                <a:cubicBezTo>
                  <a:pt x="19110" y="14649"/>
                  <a:pt x="19184" y="14660"/>
                  <a:pt x="19273" y="14660"/>
                </a:cubicBezTo>
              </a:path>
              <a:path w="274" h="224">
                <a:moveTo>
                  <a:pt x="19050" y="14858"/>
                </a:moveTo>
                <a:cubicBezTo>
                  <a:pt x="19133" y="14858"/>
                  <a:pt x="19215" y="14858"/>
                  <a:pt x="19298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1120" y="5062680"/>
            <a:ext cx="142920" cy="18864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9993" y="14089"/>
                </a:moveTo>
                <a:cubicBezTo>
                  <a:pt x="19921" y="14041"/>
                  <a:pt x="19900" y="14322"/>
                  <a:pt x="19893" y="14387"/>
                </a:cubicBezTo>
                <a:cubicBezTo>
                  <a:pt x="19893" y="14493"/>
                  <a:pt x="19880" y="14522"/>
                  <a:pt x="19943" y="14560"/>
                </a:cubicBezTo>
                <a:cubicBezTo>
                  <a:pt x="20108" y="14572"/>
                  <a:pt x="20257" y="14509"/>
                  <a:pt x="20290" y="14312"/>
                </a:cubicBezTo>
                <a:cubicBezTo>
                  <a:pt x="20266" y="14265"/>
                  <a:pt x="20260" y="14248"/>
                  <a:pt x="20216" y="14263"/>
                </a:cubicBezTo>
                <a:cubicBezTo>
                  <a:pt x="20124" y="14377"/>
                  <a:pt x="20095" y="14443"/>
                  <a:pt x="20117" y="145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49800" y="6134040"/>
            <a:ext cx="81000" cy="972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1807" y="17041"/>
                </a:moveTo>
                <a:cubicBezTo>
                  <a:pt x="11922" y="17064"/>
                  <a:pt x="11954" y="17073"/>
                  <a:pt x="12030" y="17066"/>
                </a:cubicBezTo>
              </a:path>
              <a:path w="224" h="26">
                <a:moveTo>
                  <a:pt x="12030" y="17066"/>
                </a:moveTo>
                <a:lnTo>
                  <a:pt x="12030" y="1706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24160" y="6411960"/>
            <a:ext cx="231840" cy="98280"/>
          </a:xfrm>
          <a:custGeom>
            <a:avLst/>
            <a:gdLst/>
            <a:ahLst/>
            <a:rect l="l" t="t" r="r" b="b"/>
            <a:pathLst>
              <a:path w="646" h="274">
                <a:moveTo>
                  <a:pt x="8979" y="17835"/>
                </a:moveTo>
                <a:cubicBezTo>
                  <a:pt x="8972" y="17920"/>
                  <a:pt x="8932" y="18036"/>
                  <a:pt x="8979" y="18083"/>
                </a:cubicBezTo>
              </a:path>
              <a:path w="646" h="274">
                <a:moveTo>
                  <a:pt x="9203" y="17810"/>
                </a:moveTo>
                <a:cubicBezTo>
                  <a:pt x="9192" y="17878"/>
                  <a:pt x="9128" y="17980"/>
                  <a:pt x="9227" y="18008"/>
                </a:cubicBezTo>
                <a:cubicBezTo>
                  <a:pt x="9320" y="18035"/>
                  <a:pt x="9320" y="17973"/>
                  <a:pt x="9351" y="17909"/>
                </a:cubicBezTo>
                <a:cubicBezTo>
                  <a:pt x="9293" y="17869"/>
                  <a:pt x="9259" y="17840"/>
                  <a:pt x="9203" y="17884"/>
                </a:cubicBezTo>
              </a:path>
              <a:path w="646" h="274">
                <a:moveTo>
                  <a:pt x="9451" y="17909"/>
                </a:moveTo>
                <a:cubicBezTo>
                  <a:pt x="9451" y="17950"/>
                  <a:pt x="9451" y="17958"/>
                  <a:pt x="9451" y="17983"/>
                </a:cubicBezTo>
                <a:cubicBezTo>
                  <a:pt x="9534" y="17983"/>
                  <a:pt x="9590" y="18007"/>
                  <a:pt x="9599" y="17909"/>
                </a:cubicBezTo>
                <a:cubicBezTo>
                  <a:pt x="9599" y="17874"/>
                  <a:pt x="9590" y="17861"/>
                  <a:pt x="9550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71920" y="6215040"/>
            <a:ext cx="428760" cy="169920"/>
          </a:xfrm>
          <a:custGeom>
            <a:avLst/>
            <a:gdLst/>
            <a:ahLst/>
            <a:rect l="l" t="t" r="r" b="b"/>
            <a:pathLst>
              <a:path w="1191" h="472">
                <a:moveTo>
                  <a:pt x="9922" y="17388"/>
                </a:moveTo>
                <a:cubicBezTo>
                  <a:pt x="10012" y="17388"/>
                  <a:pt x="10086" y="17345"/>
                  <a:pt x="10170" y="17314"/>
                </a:cubicBezTo>
                <a:cubicBezTo>
                  <a:pt x="10230" y="17294"/>
                  <a:pt x="10245" y="17275"/>
                  <a:pt x="10269" y="17314"/>
                </a:cubicBezTo>
                <a:cubicBezTo>
                  <a:pt x="10245" y="17474"/>
                  <a:pt x="10183" y="17590"/>
                  <a:pt x="10120" y="17735"/>
                </a:cubicBezTo>
              </a:path>
              <a:path w="1191" h="472">
                <a:moveTo>
                  <a:pt x="10641" y="17264"/>
                </a:moveTo>
                <a:cubicBezTo>
                  <a:pt x="10511" y="17385"/>
                  <a:pt x="10435" y="17454"/>
                  <a:pt x="10468" y="17636"/>
                </a:cubicBezTo>
                <a:cubicBezTo>
                  <a:pt x="10657" y="17621"/>
                  <a:pt x="10715" y="17567"/>
                  <a:pt x="10790" y="17388"/>
                </a:cubicBezTo>
                <a:cubicBezTo>
                  <a:pt x="10825" y="17304"/>
                  <a:pt x="10684" y="17359"/>
                  <a:pt x="10666" y="17363"/>
                </a:cubicBezTo>
              </a:path>
              <a:path w="1191" h="472">
                <a:moveTo>
                  <a:pt x="10889" y="17289"/>
                </a:moveTo>
                <a:cubicBezTo>
                  <a:pt x="10813" y="17451"/>
                  <a:pt x="10794" y="17433"/>
                  <a:pt x="10864" y="17587"/>
                </a:cubicBezTo>
                <a:cubicBezTo>
                  <a:pt x="10985" y="17568"/>
                  <a:pt x="11151" y="17531"/>
                  <a:pt x="11112" y="17363"/>
                </a:cubicBezTo>
                <a:cubicBezTo>
                  <a:pt x="11082" y="17233"/>
                  <a:pt x="10974" y="17278"/>
                  <a:pt x="10889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59160" y="6081840"/>
            <a:ext cx="81000" cy="9360"/>
          </a:xfrm>
          <a:custGeom>
            <a:avLst/>
            <a:gdLst/>
            <a:ahLst/>
            <a:rect l="l" t="t" r="r" b="b"/>
            <a:pathLst>
              <a:path w="224" h="26">
                <a:moveTo>
                  <a:pt x="11832" y="16917"/>
                </a:moveTo>
                <a:cubicBezTo>
                  <a:pt x="11907" y="16917"/>
                  <a:pt x="11979" y="16898"/>
                  <a:pt x="12055" y="168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6215040"/>
            <a:ext cx="331560" cy="125280"/>
          </a:xfrm>
          <a:custGeom>
            <a:avLst/>
            <a:gdLst/>
            <a:ahLst/>
            <a:rect l="l" t="t" r="r" b="b"/>
            <a:pathLst>
              <a:path w="919" h="348">
                <a:moveTo>
                  <a:pt x="14337" y="17264"/>
                </a:moveTo>
                <a:cubicBezTo>
                  <a:pt x="14279" y="17337"/>
                  <a:pt x="14247" y="17399"/>
                  <a:pt x="14213" y="17487"/>
                </a:cubicBezTo>
                <a:cubicBezTo>
                  <a:pt x="14304" y="17548"/>
                  <a:pt x="14397" y="17532"/>
                  <a:pt x="14412" y="17388"/>
                </a:cubicBezTo>
                <a:cubicBezTo>
                  <a:pt x="14426" y="17257"/>
                  <a:pt x="14313" y="17329"/>
                  <a:pt x="14288" y="17363"/>
                </a:cubicBezTo>
              </a:path>
              <a:path w="919" h="348">
                <a:moveTo>
                  <a:pt x="14610" y="17289"/>
                </a:moveTo>
                <a:cubicBezTo>
                  <a:pt x="14494" y="17396"/>
                  <a:pt x="14474" y="17388"/>
                  <a:pt x="14486" y="17537"/>
                </a:cubicBezTo>
                <a:cubicBezTo>
                  <a:pt x="14602" y="17544"/>
                  <a:pt x="14796" y="17529"/>
                  <a:pt x="14734" y="17338"/>
                </a:cubicBezTo>
                <a:cubicBezTo>
                  <a:pt x="14706" y="17252"/>
                  <a:pt x="14630" y="17292"/>
                  <a:pt x="14585" y="17314"/>
                </a:cubicBezTo>
              </a:path>
              <a:path w="919" h="348">
                <a:moveTo>
                  <a:pt x="14908" y="17314"/>
                </a:moveTo>
                <a:cubicBezTo>
                  <a:pt x="14856" y="17412"/>
                  <a:pt x="14736" y="17645"/>
                  <a:pt x="14982" y="17611"/>
                </a:cubicBezTo>
                <a:cubicBezTo>
                  <a:pt x="15117" y="17592"/>
                  <a:pt x="15115" y="17488"/>
                  <a:pt x="15131" y="17388"/>
                </a:cubicBezTo>
                <a:cubicBezTo>
                  <a:pt x="15028" y="17336"/>
                  <a:pt x="14991" y="17319"/>
                  <a:pt x="14908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76920" y="5796000"/>
            <a:ext cx="117360" cy="438120"/>
          </a:xfrm>
          <a:custGeom>
            <a:avLst/>
            <a:gdLst/>
            <a:ahLst/>
            <a:rect l="l" t="t" r="r" b="b"/>
            <a:pathLst>
              <a:path w="323" h="1217">
                <a:moveTo>
                  <a:pt x="16173" y="17115"/>
                </a:moveTo>
                <a:cubicBezTo>
                  <a:pt x="16233" y="17125"/>
                  <a:pt x="16356" y="17133"/>
                  <a:pt x="16371" y="17140"/>
                </a:cubicBezTo>
              </a:path>
              <a:path w="323" h="1217">
                <a:moveTo>
                  <a:pt x="16049" y="17314"/>
                </a:moveTo>
                <a:cubicBezTo>
                  <a:pt x="16132" y="17314"/>
                  <a:pt x="16214" y="17314"/>
                  <a:pt x="16297" y="17314"/>
                </a:cubicBezTo>
              </a:path>
              <a:path w="323" h="1217">
                <a:moveTo>
                  <a:pt x="16272" y="16098"/>
                </a:moveTo>
                <a:cubicBezTo>
                  <a:pt x="16272" y="16180"/>
                  <a:pt x="16284" y="16243"/>
                  <a:pt x="16297" y="16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Objective:  Students will write and compare ratios.</a:t>
            </a:r>
            <a:br>
              <a:rPr sz="2800"/>
            </a:b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Write some equivalent ratios on your own: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6: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5 to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219320" y="3886200"/>
          <a:ext cx="45720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86200"/>
                    <a:ext cx="457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2803680" y="1608120"/>
            <a:ext cx="831600" cy="579600"/>
          </a:xfrm>
          <a:custGeom>
            <a:avLst/>
            <a:gdLst/>
            <a:ahLst/>
            <a:rect l="l" t="t" r="r" b="b"/>
            <a:pathLst>
              <a:path w="2308" h="1613">
                <a:moveTo>
                  <a:pt x="8260" y="4614"/>
                </a:moveTo>
                <a:cubicBezTo>
                  <a:pt x="8154" y="4584"/>
                  <a:pt x="8113" y="4645"/>
                  <a:pt x="8037" y="4738"/>
                </a:cubicBezTo>
                <a:cubicBezTo>
                  <a:pt x="7930" y="4869"/>
                  <a:pt x="7870" y="5017"/>
                  <a:pt x="7938" y="5184"/>
                </a:cubicBezTo>
                <a:cubicBezTo>
                  <a:pt x="7985" y="5299"/>
                  <a:pt x="8078" y="5468"/>
                  <a:pt x="8210" y="5507"/>
                </a:cubicBezTo>
                <a:cubicBezTo>
                  <a:pt x="8281" y="5528"/>
                  <a:pt x="8380" y="5515"/>
                  <a:pt x="8409" y="5457"/>
                </a:cubicBezTo>
                <a:cubicBezTo>
                  <a:pt x="8434" y="5407"/>
                  <a:pt x="8420" y="5360"/>
                  <a:pt x="8359" y="5333"/>
                </a:cubicBezTo>
                <a:cubicBezTo>
                  <a:pt x="8295" y="5305"/>
                  <a:pt x="8159" y="5377"/>
                  <a:pt x="8136" y="5308"/>
                </a:cubicBezTo>
              </a:path>
              <a:path w="2308" h="1613">
                <a:moveTo>
                  <a:pt x="9302" y="4465"/>
                </a:moveTo>
                <a:cubicBezTo>
                  <a:pt x="9234" y="4615"/>
                  <a:pt x="9194" y="4797"/>
                  <a:pt x="9178" y="4961"/>
                </a:cubicBezTo>
                <a:cubicBezTo>
                  <a:pt x="9165" y="5088"/>
                  <a:pt x="9192" y="5248"/>
                  <a:pt x="9252" y="5358"/>
                </a:cubicBezTo>
                <a:cubicBezTo>
                  <a:pt x="9297" y="5440"/>
                  <a:pt x="9378" y="5426"/>
                  <a:pt x="9451" y="5407"/>
                </a:cubicBezTo>
                <a:cubicBezTo>
                  <a:pt x="9551" y="5381"/>
                  <a:pt x="9566" y="5400"/>
                  <a:pt x="9599" y="5308"/>
                </a:cubicBezTo>
                <a:cubicBezTo>
                  <a:pt x="9627" y="5232"/>
                  <a:pt x="9618" y="5123"/>
                  <a:pt x="9525" y="5085"/>
                </a:cubicBezTo>
                <a:cubicBezTo>
                  <a:pt x="9477" y="5065"/>
                  <a:pt x="9368" y="5085"/>
                  <a:pt x="9327" y="5110"/>
                </a:cubicBezTo>
                <a:cubicBezTo>
                  <a:pt x="9300" y="5126"/>
                  <a:pt x="9261" y="5179"/>
                  <a:pt x="9252" y="5184"/>
                </a:cubicBezTo>
                <a:cubicBezTo>
                  <a:pt x="9244" y="5184"/>
                  <a:pt x="9235" y="5184"/>
                  <a:pt x="9227" y="5184"/>
                </a:cubicBezTo>
              </a:path>
              <a:path w="2308" h="1613">
                <a:moveTo>
                  <a:pt x="7789" y="6052"/>
                </a:moveTo>
                <a:cubicBezTo>
                  <a:pt x="7865" y="6060"/>
                  <a:pt x="7925" y="6077"/>
                  <a:pt x="8012" y="6077"/>
                </a:cubicBezTo>
                <a:cubicBezTo>
                  <a:pt x="8181" y="6077"/>
                  <a:pt x="8344" y="6071"/>
                  <a:pt x="8508" y="6052"/>
                </a:cubicBezTo>
                <a:cubicBezTo>
                  <a:pt x="8586" y="6043"/>
                  <a:pt x="8651" y="6028"/>
                  <a:pt x="8731" y="6028"/>
                </a:cubicBezTo>
                <a:cubicBezTo>
                  <a:pt x="8807" y="6028"/>
                  <a:pt x="8876" y="6006"/>
                  <a:pt x="8954" y="6003"/>
                </a:cubicBezTo>
                <a:cubicBezTo>
                  <a:pt x="9055" y="5999"/>
                  <a:pt x="9165" y="5988"/>
                  <a:pt x="9252" y="5978"/>
                </a:cubicBezTo>
                <a:cubicBezTo>
                  <a:pt x="9326" y="5970"/>
                  <a:pt x="9402" y="5956"/>
                  <a:pt x="9475" y="5953"/>
                </a:cubicBezTo>
                <a:cubicBezTo>
                  <a:pt x="9636" y="5946"/>
                  <a:pt x="9790" y="5950"/>
                  <a:pt x="9947" y="5928"/>
                </a:cubicBezTo>
                <a:cubicBezTo>
                  <a:pt x="10013" y="5919"/>
                  <a:pt x="10059" y="5925"/>
                  <a:pt x="10096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54360" y="3643200"/>
            <a:ext cx="973440" cy="1224000"/>
          </a:xfrm>
          <a:custGeom>
            <a:avLst/>
            <a:gdLst/>
            <a:ahLst/>
            <a:rect l="l" t="t" r="r" b="b"/>
            <a:pathLst>
              <a:path w="2705" h="3400">
                <a:moveTo>
                  <a:pt x="13816" y="10344"/>
                </a:moveTo>
                <a:cubicBezTo>
                  <a:pt x="13879" y="10405"/>
                  <a:pt x="13742" y="10266"/>
                  <a:pt x="13667" y="10220"/>
                </a:cubicBezTo>
                <a:cubicBezTo>
                  <a:pt x="13577" y="10164"/>
                  <a:pt x="13474" y="10124"/>
                  <a:pt x="13370" y="10120"/>
                </a:cubicBezTo>
                <a:cubicBezTo>
                  <a:pt x="13253" y="10115"/>
                  <a:pt x="13271" y="10156"/>
                  <a:pt x="13221" y="10220"/>
                </a:cubicBezTo>
                <a:cubicBezTo>
                  <a:pt x="13117" y="10354"/>
                  <a:pt x="13108" y="10422"/>
                  <a:pt x="13146" y="10592"/>
                </a:cubicBezTo>
                <a:cubicBezTo>
                  <a:pt x="13168" y="10691"/>
                  <a:pt x="13246" y="10819"/>
                  <a:pt x="13370" y="10815"/>
                </a:cubicBezTo>
                <a:cubicBezTo>
                  <a:pt x="13521" y="10810"/>
                  <a:pt x="13569" y="10728"/>
                  <a:pt x="13643" y="10616"/>
                </a:cubicBezTo>
                <a:cubicBezTo>
                  <a:pt x="13693" y="10540"/>
                  <a:pt x="13696" y="10477"/>
                  <a:pt x="13717" y="10393"/>
                </a:cubicBezTo>
                <a:cubicBezTo>
                  <a:pt x="13717" y="10473"/>
                  <a:pt x="13706" y="10536"/>
                  <a:pt x="13692" y="10616"/>
                </a:cubicBezTo>
                <a:cubicBezTo>
                  <a:pt x="13657" y="10814"/>
                  <a:pt x="13667" y="11014"/>
                  <a:pt x="13643" y="11212"/>
                </a:cubicBezTo>
                <a:cubicBezTo>
                  <a:pt x="13633" y="11292"/>
                  <a:pt x="13609" y="11381"/>
                  <a:pt x="13593" y="11460"/>
                </a:cubicBezTo>
              </a:path>
              <a:path w="2705" h="3400">
                <a:moveTo>
                  <a:pt x="14635" y="10517"/>
                </a:moveTo>
                <a:cubicBezTo>
                  <a:pt x="14606" y="10402"/>
                  <a:pt x="14552" y="10388"/>
                  <a:pt x="14436" y="10418"/>
                </a:cubicBezTo>
                <a:cubicBezTo>
                  <a:pt x="14296" y="10455"/>
                  <a:pt x="14241" y="10559"/>
                  <a:pt x="14213" y="10691"/>
                </a:cubicBezTo>
                <a:cubicBezTo>
                  <a:pt x="14169" y="10903"/>
                  <a:pt x="14170" y="11158"/>
                  <a:pt x="14387" y="11261"/>
                </a:cubicBezTo>
                <a:cubicBezTo>
                  <a:pt x="14560" y="11343"/>
                  <a:pt x="14712" y="11268"/>
                  <a:pt x="14759" y="11088"/>
                </a:cubicBezTo>
                <a:cubicBezTo>
                  <a:pt x="14813" y="10881"/>
                  <a:pt x="14813" y="10620"/>
                  <a:pt x="14635" y="10468"/>
                </a:cubicBezTo>
                <a:cubicBezTo>
                  <a:pt x="14560" y="10443"/>
                  <a:pt x="14536" y="10435"/>
                  <a:pt x="14486" y="10468"/>
                </a:cubicBezTo>
              </a:path>
              <a:path w="2705" h="3400">
                <a:moveTo>
                  <a:pt x="12650" y="11956"/>
                </a:moveTo>
                <a:cubicBezTo>
                  <a:pt x="12877" y="11956"/>
                  <a:pt x="13094" y="11927"/>
                  <a:pt x="13320" y="11906"/>
                </a:cubicBezTo>
                <a:cubicBezTo>
                  <a:pt x="13774" y="11864"/>
                  <a:pt x="14231" y="11815"/>
                  <a:pt x="14684" y="11832"/>
                </a:cubicBezTo>
                <a:cubicBezTo>
                  <a:pt x="14759" y="11832"/>
                  <a:pt x="14767" y="11832"/>
                  <a:pt x="14808" y="11832"/>
                </a:cubicBezTo>
              </a:path>
              <a:path w="2705" h="3400">
                <a:moveTo>
                  <a:pt x="13122" y="12378"/>
                </a:moveTo>
                <a:cubicBezTo>
                  <a:pt x="13122" y="12563"/>
                  <a:pt x="13117" y="12740"/>
                  <a:pt x="13122" y="12923"/>
                </a:cubicBezTo>
                <a:cubicBezTo>
                  <a:pt x="13128" y="13123"/>
                  <a:pt x="13132" y="13325"/>
                  <a:pt x="13171" y="13519"/>
                </a:cubicBezTo>
              </a:path>
              <a:path w="2705" h="3400">
                <a:moveTo>
                  <a:pt x="13519" y="12502"/>
                </a:moveTo>
                <a:cubicBezTo>
                  <a:pt x="13573" y="12420"/>
                  <a:pt x="13652" y="12324"/>
                  <a:pt x="13767" y="12328"/>
                </a:cubicBezTo>
                <a:cubicBezTo>
                  <a:pt x="13879" y="12332"/>
                  <a:pt x="13953" y="12424"/>
                  <a:pt x="13965" y="12526"/>
                </a:cubicBezTo>
                <a:cubicBezTo>
                  <a:pt x="13988" y="12725"/>
                  <a:pt x="13873" y="12912"/>
                  <a:pt x="13767" y="13072"/>
                </a:cubicBezTo>
                <a:cubicBezTo>
                  <a:pt x="13707" y="13163"/>
                  <a:pt x="13675" y="13222"/>
                  <a:pt x="13643" y="13320"/>
                </a:cubicBezTo>
                <a:cubicBezTo>
                  <a:pt x="13782" y="13293"/>
                  <a:pt x="13948" y="13221"/>
                  <a:pt x="14089" y="13221"/>
                </a:cubicBezTo>
                <a:cubicBezTo>
                  <a:pt x="14198" y="13221"/>
                  <a:pt x="14275" y="13275"/>
                  <a:pt x="14362" y="13295"/>
                </a:cubicBezTo>
                <a:cubicBezTo>
                  <a:pt x="14387" y="13295"/>
                  <a:pt x="14395" y="13295"/>
                  <a:pt x="14412" y="13295"/>
                </a:cubicBezTo>
              </a:path>
              <a:path w="2705" h="3400">
                <a:moveTo>
                  <a:pt x="15032" y="12353"/>
                </a:moveTo>
                <a:cubicBezTo>
                  <a:pt x="14995" y="12280"/>
                  <a:pt x="14926" y="12164"/>
                  <a:pt x="14833" y="12154"/>
                </a:cubicBezTo>
                <a:cubicBezTo>
                  <a:pt x="14679" y="12137"/>
                  <a:pt x="14575" y="12363"/>
                  <a:pt x="14560" y="12477"/>
                </a:cubicBezTo>
                <a:cubicBezTo>
                  <a:pt x="14531" y="12708"/>
                  <a:pt x="14584" y="12860"/>
                  <a:pt x="14734" y="13022"/>
                </a:cubicBezTo>
                <a:cubicBezTo>
                  <a:pt x="14864" y="13162"/>
                  <a:pt x="14923" y="13109"/>
                  <a:pt x="15081" y="13047"/>
                </a:cubicBezTo>
                <a:cubicBezTo>
                  <a:pt x="15157" y="13018"/>
                  <a:pt x="15323" y="12881"/>
                  <a:pt x="15354" y="12799"/>
                </a:cubicBezTo>
                <a:cubicBezTo>
                  <a:pt x="15393" y="12694"/>
                  <a:pt x="15346" y="12425"/>
                  <a:pt x="15255" y="12353"/>
                </a:cubicBezTo>
                <a:cubicBezTo>
                  <a:pt x="15210" y="12318"/>
                  <a:pt x="15091" y="12286"/>
                  <a:pt x="15032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13040" y="2357280"/>
            <a:ext cx="44640" cy="366840"/>
          </a:xfrm>
          <a:custGeom>
            <a:avLst/>
            <a:gdLst/>
            <a:ahLst/>
            <a:rect l="l" t="t" r="r" b="b"/>
            <a:pathLst>
              <a:path w="126" h="1018">
                <a:moveTo>
                  <a:pt x="7938" y="6548"/>
                </a:moveTo>
                <a:cubicBezTo>
                  <a:pt x="7938" y="6701"/>
                  <a:pt x="7928" y="6845"/>
                  <a:pt x="7913" y="6995"/>
                </a:cubicBezTo>
                <a:cubicBezTo>
                  <a:pt x="7901" y="7117"/>
                  <a:pt x="7889" y="7248"/>
                  <a:pt x="7863" y="7367"/>
                </a:cubicBezTo>
                <a:cubicBezTo>
                  <a:pt x="7850" y="7429"/>
                  <a:pt x="7819" y="7486"/>
                  <a:pt x="7813" y="7541"/>
                </a:cubicBezTo>
                <a:cubicBezTo>
                  <a:pt x="7806" y="7599"/>
                  <a:pt x="7826" y="7474"/>
                  <a:pt x="7838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14800" y="2313000"/>
            <a:ext cx="241200" cy="330120"/>
          </a:xfrm>
          <a:custGeom>
            <a:avLst/>
            <a:gdLst/>
            <a:ahLst/>
            <a:rect l="l" t="t" r="r" b="b"/>
            <a:pathLst>
              <a:path w="670" h="919">
                <a:moveTo>
                  <a:pt x="8979" y="6573"/>
                </a:moveTo>
                <a:cubicBezTo>
                  <a:pt x="8940" y="6560"/>
                  <a:pt x="8969" y="6561"/>
                  <a:pt x="8930" y="6548"/>
                </a:cubicBezTo>
                <a:cubicBezTo>
                  <a:pt x="8956" y="6497"/>
                  <a:pt x="9023" y="6474"/>
                  <a:pt x="9079" y="6449"/>
                </a:cubicBezTo>
                <a:cubicBezTo>
                  <a:pt x="9166" y="6411"/>
                  <a:pt x="9197" y="6429"/>
                  <a:pt x="9277" y="6474"/>
                </a:cubicBezTo>
                <a:cubicBezTo>
                  <a:pt x="9367" y="6525"/>
                  <a:pt x="9388" y="6619"/>
                  <a:pt x="9376" y="6722"/>
                </a:cubicBezTo>
                <a:cubicBezTo>
                  <a:pt x="9360" y="6861"/>
                  <a:pt x="9264" y="6997"/>
                  <a:pt x="9203" y="7119"/>
                </a:cubicBezTo>
                <a:cubicBezTo>
                  <a:pt x="9175" y="7174"/>
                  <a:pt x="9127" y="7301"/>
                  <a:pt x="9079" y="7317"/>
                </a:cubicBezTo>
                <a:cubicBezTo>
                  <a:pt x="9161" y="7345"/>
                  <a:pt x="9255" y="7289"/>
                  <a:pt x="9351" y="7268"/>
                </a:cubicBezTo>
                <a:cubicBezTo>
                  <a:pt x="9427" y="7251"/>
                  <a:pt x="9497" y="7243"/>
                  <a:pt x="9575" y="7243"/>
                </a:cubicBezTo>
                <a:cubicBezTo>
                  <a:pt x="9599" y="7243"/>
                  <a:pt x="9607" y="7243"/>
                  <a:pt x="9599" y="72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13120" y="2187720"/>
            <a:ext cx="17640" cy="420480"/>
          </a:xfrm>
          <a:custGeom>
            <a:avLst/>
            <a:gdLst/>
            <a:ahLst/>
            <a:rect l="l" t="t" r="r" b="b"/>
            <a:pathLst>
              <a:path w="50" h="1167">
                <a:moveTo>
                  <a:pt x="10641" y="6077"/>
                </a:moveTo>
                <a:cubicBezTo>
                  <a:pt x="10641" y="6146"/>
                  <a:pt x="10619" y="6205"/>
                  <a:pt x="10616" y="6276"/>
                </a:cubicBezTo>
                <a:cubicBezTo>
                  <a:pt x="10610" y="6428"/>
                  <a:pt x="10626" y="6578"/>
                  <a:pt x="10641" y="6722"/>
                </a:cubicBezTo>
                <a:cubicBezTo>
                  <a:pt x="10652" y="6825"/>
                  <a:pt x="10622" y="6918"/>
                  <a:pt x="10616" y="7020"/>
                </a:cubicBezTo>
                <a:cubicBezTo>
                  <a:pt x="10613" y="7068"/>
                  <a:pt x="10602" y="7074"/>
                  <a:pt x="10592" y="7094"/>
                </a:cubicBezTo>
                <a:cubicBezTo>
                  <a:pt x="10576" y="7128"/>
                  <a:pt x="10592" y="7204"/>
                  <a:pt x="10592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97280" y="2517840"/>
            <a:ext cx="152640" cy="455400"/>
          </a:xfrm>
          <a:custGeom>
            <a:avLst/>
            <a:gdLst/>
            <a:ahLst/>
            <a:rect l="l" t="t" r="r" b="b"/>
            <a:pathLst>
              <a:path w="423" h="1266">
                <a:moveTo>
                  <a:pt x="13271" y="6995"/>
                </a:moveTo>
                <a:cubicBezTo>
                  <a:pt x="13362" y="7070"/>
                  <a:pt x="13406" y="7117"/>
                  <a:pt x="13444" y="7243"/>
                </a:cubicBezTo>
                <a:cubicBezTo>
                  <a:pt x="13490" y="7394"/>
                  <a:pt x="13480" y="7614"/>
                  <a:pt x="13444" y="7764"/>
                </a:cubicBezTo>
                <a:cubicBezTo>
                  <a:pt x="13400" y="7949"/>
                  <a:pt x="13304" y="8029"/>
                  <a:pt x="13171" y="8136"/>
                </a:cubicBezTo>
                <a:cubicBezTo>
                  <a:pt x="13115" y="8181"/>
                  <a:pt x="13091" y="8217"/>
                  <a:pt x="13047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40240" y="1830240"/>
            <a:ext cx="169920" cy="527040"/>
          </a:xfrm>
          <a:custGeom>
            <a:avLst/>
            <a:gdLst/>
            <a:ahLst/>
            <a:rect l="l" t="t" r="r" b="b"/>
            <a:pathLst>
              <a:path w="472" h="1464">
                <a:moveTo>
                  <a:pt x="14833" y="5184"/>
                </a:moveTo>
                <a:cubicBezTo>
                  <a:pt x="14891" y="5132"/>
                  <a:pt x="14929" y="5072"/>
                  <a:pt x="15032" y="5085"/>
                </a:cubicBezTo>
                <a:cubicBezTo>
                  <a:pt x="15195" y="5106"/>
                  <a:pt x="15209" y="5161"/>
                  <a:pt x="15180" y="5308"/>
                </a:cubicBezTo>
                <a:cubicBezTo>
                  <a:pt x="15166" y="5381"/>
                  <a:pt x="15081" y="5408"/>
                  <a:pt x="15081" y="5482"/>
                </a:cubicBezTo>
                <a:cubicBezTo>
                  <a:pt x="15081" y="5604"/>
                  <a:pt x="15187" y="5698"/>
                  <a:pt x="15230" y="5804"/>
                </a:cubicBezTo>
                <a:cubicBezTo>
                  <a:pt x="15266" y="5893"/>
                  <a:pt x="15300" y="6008"/>
                  <a:pt x="15304" y="6102"/>
                </a:cubicBezTo>
                <a:cubicBezTo>
                  <a:pt x="15310" y="6265"/>
                  <a:pt x="15293" y="6365"/>
                  <a:pt x="15156" y="6474"/>
                </a:cubicBezTo>
                <a:cubicBezTo>
                  <a:pt x="15115" y="6499"/>
                  <a:pt x="15073" y="6523"/>
                  <a:pt x="15032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38920" y="1751040"/>
            <a:ext cx="357120" cy="446040"/>
          </a:xfrm>
          <a:custGeom>
            <a:avLst/>
            <a:gdLst/>
            <a:ahLst/>
            <a:rect l="l" t="t" r="r" b="b"/>
            <a:pathLst>
              <a:path w="993" h="1241">
                <a:moveTo>
                  <a:pt x="16793" y="4862"/>
                </a:moveTo>
                <a:cubicBezTo>
                  <a:pt x="16792" y="4868"/>
                  <a:pt x="16722" y="4980"/>
                  <a:pt x="16694" y="5035"/>
                </a:cubicBezTo>
                <a:cubicBezTo>
                  <a:pt x="16552" y="5312"/>
                  <a:pt x="16472" y="5519"/>
                  <a:pt x="16545" y="5829"/>
                </a:cubicBezTo>
                <a:cubicBezTo>
                  <a:pt x="16614" y="6121"/>
                  <a:pt x="16840" y="6158"/>
                  <a:pt x="17090" y="6028"/>
                </a:cubicBezTo>
                <a:cubicBezTo>
                  <a:pt x="17259" y="5940"/>
                  <a:pt x="17446" y="5777"/>
                  <a:pt x="17487" y="5581"/>
                </a:cubicBezTo>
                <a:cubicBezTo>
                  <a:pt x="17522" y="5414"/>
                  <a:pt x="17445" y="5274"/>
                  <a:pt x="17338" y="5159"/>
                </a:cubicBezTo>
                <a:cubicBezTo>
                  <a:pt x="17197" y="5007"/>
                  <a:pt x="17044" y="5064"/>
                  <a:pt x="16867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30280" y="3009960"/>
            <a:ext cx="696960" cy="714240"/>
          </a:xfrm>
          <a:custGeom>
            <a:avLst/>
            <a:gdLst/>
            <a:ahLst/>
            <a:rect l="l" t="t" r="r" b="b"/>
            <a:pathLst>
              <a:path w="1936" h="1986">
                <a:moveTo>
                  <a:pt x="6772" y="8434"/>
                </a:moveTo>
                <a:cubicBezTo>
                  <a:pt x="6785" y="8473"/>
                  <a:pt x="6827" y="8517"/>
                  <a:pt x="6846" y="8582"/>
                </a:cubicBezTo>
                <a:cubicBezTo>
                  <a:pt x="6892" y="8739"/>
                  <a:pt x="6928" y="8918"/>
                  <a:pt x="6945" y="9079"/>
                </a:cubicBezTo>
              </a:path>
              <a:path w="1936" h="1986">
                <a:moveTo>
                  <a:pt x="7193" y="8558"/>
                </a:moveTo>
                <a:cubicBezTo>
                  <a:pt x="7236" y="8643"/>
                  <a:pt x="7224" y="8742"/>
                  <a:pt x="7293" y="8830"/>
                </a:cubicBezTo>
                <a:cubicBezTo>
                  <a:pt x="7384" y="8947"/>
                  <a:pt x="7521" y="8969"/>
                  <a:pt x="7640" y="8905"/>
                </a:cubicBezTo>
                <a:cubicBezTo>
                  <a:pt x="7749" y="8847"/>
                  <a:pt x="7764" y="8723"/>
                  <a:pt x="7739" y="8607"/>
                </a:cubicBezTo>
                <a:cubicBezTo>
                  <a:pt x="7717" y="8508"/>
                  <a:pt x="7656" y="8430"/>
                  <a:pt x="7565" y="8384"/>
                </a:cubicBezTo>
                <a:cubicBezTo>
                  <a:pt x="7435" y="8319"/>
                  <a:pt x="7297" y="8438"/>
                  <a:pt x="7193" y="8508"/>
                </a:cubicBezTo>
                <a:cubicBezTo>
                  <a:pt x="7185" y="8516"/>
                  <a:pt x="7177" y="8525"/>
                  <a:pt x="7169" y="8533"/>
                </a:cubicBezTo>
              </a:path>
              <a:path w="1936" h="1986">
                <a:moveTo>
                  <a:pt x="6474" y="9624"/>
                </a:moveTo>
                <a:cubicBezTo>
                  <a:pt x="6489" y="9563"/>
                  <a:pt x="6568" y="9532"/>
                  <a:pt x="6623" y="9500"/>
                </a:cubicBezTo>
                <a:cubicBezTo>
                  <a:pt x="6755" y="9424"/>
                  <a:pt x="6873" y="9408"/>
                  <a:pt x="7020" y="9376"/>
                </a:cubicBezTo>
                <a:cubicBezTo>
                  <a:pt x="7158" y="9346"/>
                  <a:pt x="7299" y="9332"/>
                  <a:pt x="7441" y="9327"/>
                </a:cubicBezTo>
                <a:cubicBezTo>
                  <a:pt x="7507" y="9325"/>
                  <a:pt x="7574" y="9327"/>
                  <a:pt x="7640" y="9327"/>
                </a:cubicBezTo>
              </a:path>
              <a:path w="1936" h="1986">
                <a:moveTo>
                  <a:pt x="7491" y="9277"/>
                </a:moveTo>
                <a:cubicBezTo>
                  <a:pt x="7668" y="9277"/>
                  <a:pt x="7838" y="9273"/>
                  <a:pt x="8012" y="9252"/>
                </a:cubicBezTo>
                <a:cubicBezTo>
                  <a:pt x="8064" y="9246"/>
                  <a:pt x="8135" y="9242"/>
                  <a:pt x="8186" y="9227"/>
                </a:cubicBezTo>
                <a:cubicBezTo>
                  <a:pt x="8254" y="9208"/>
                  <a:pt x="8313" y="9184"/>
                  <a:pt x="8384" y="9178"/>
                </a:cubicBezTo>
                <a:cubicBezTo>
                  <a:pt x="8409" y="9178"/>
                  <a:pt x="8417" y="9178"/>
                  <a:pt x="8384" y="9178"/>
                </a:cubicBezTo>
              </a:path>
              <a:path w="1936" h="1986">
                <a:moveTo>
                  <a:pt x="7193" y="9599"/>
                </a:moveTo>
                <a:cubicBezTo>
                  <a:pt x="7193" y="9710"/>
                  <a:pt x="7153" y="9755"/>
                  <a:pt x="7094" y="9847"/>
                </a:cubicBezTo>
                <a:cubicBezTo>
                  <a:pt x="7057" y="9904"/>
                  <a:pt x="7062" y="9929"/>
                  <a:pt x="7020" y="9922"/>
                </a:cubicBezTo>
                <a:cubicBezTo>
                  <a:pt x="7134" y="9907"/>
                  <a:pt x="7246" y="9844"/>
                  <a:pt x="7367" y="9847"/>
                </a:cubicBezTo>
                <a:cubicBezTo>
                  <a:pt x="7465" y="9849"/>
                  <a:pt x="7556" y="9901"/>
                  <a:pt x="7640" y="9922"/>
                </a:cubicBezTo>
              </a:path>
              <a:path w="1936" h="1986">
                <a:moveTo>
                  <a:pt x="7615" y="9500"/>
                </a:moveTo>
                <a:cubicBezTo>
                  <a:pt x="7615" y="9467"/>
                  <a:pt x="7615" y="9434"/>
                  <a:pt x="7615" y="9401"/>
                </a:cubicBezTo>
                <a:cubicBezTo>
                  <a:pt x="7643" y="9597"/>
                  <a:pt x="7680" y="9797"/>
                  <a:pt x="7689" y="9996"/>
                </a:cubicBezTo>
                <a:cubicBezTo>
                  <a:pt x="7689" y="10187"/>
                  <a:pt x="7683" y="10230"/>
                  <a:pt x="7714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76200" y="2714760"/>
            <a:ext cx="3002040" cy="2063520"/>
          </a:xfrm>
          <a:custGeom>
            <a:avLst/>
            <a:gdLst/>
            <a:ahLst/>
            <a:rect l="l" t="t" r="r" b="b"/>
            <a:pathLst>
              <a:path w="8335" h="5731">
                <a:moveTo>
                  <a:pt x="4142" y="11187"/>
                </a:moveTo>
                <a:cubicBezTo>
                  <a:pt x="4084" y="11098"/>
                  <a:pt x="4080" y="11049"/>
                  <a:pt x="3969" y="11013"/>
                </a:cubicBezTo>
                <a:cubicBezTo>
                  <a:pt x="3870" y="10981"/>
                  <a:pt x="3727" y="10991"/>
                  <a:pt x="3721" y="11137"/>
                </a:cubicBezTo>
                <a:cubicBezTo>
                  <a:pt x="3713" y="11328"/>
                  <a:pt x="3765" y="11367"/>
                  <a:pt x="3894" y="11460"/>
                </a:cubicBezTo>
                <a:cubicBezTo>
                  <a:pt x="4023" y="11355"/>
                  <a:pt x="4159" y="11274"/>
                  <a:pt x="4142" y="11088"/>
                </a:cubicBezTo>
                <a:cubicBezTo>
                  <a:pt x="4124" y="10897"/>
                  <a:pt x="4183" y="11175"/>
                  <a:pt x="4192" y="11212"/>
                </a:cubicBezTo>
                <a:cubicBezTo>
                  <a:pt x="4237" y="11408"/>
                  <a:pt x="4201" y="11549"/>
                  <a:pt x="4167" y="11733"/>
                </a:cubicBezTo>
              </a:path>
              <a:path w="8335" h="5731">
                <a:moveTo>
                  <a:pt x="3547" y="12328"/>
                </a:moveTo>
                <a:cubicBezTo>
                  <a:pt x="3806" y="12309"/>
                  <a:pt x="4056" y="12256"/>
                  <a:pt x="4316" y="12229"/>
                </a:cubicBezTo>
                <a:cubicBezTo>
                  <a:pt x="4531" y="12207"/>
                  <a:pt x="4886" y="12167"/>
                  <a:pt x="5060" y="12154"/>
                </a:cubicBezTo>
              </a:path>
              <a:path w="8335" h="5731">
                <a:moveTo>
                  <a:pt x="3547" y="12725"/>
                </a:moveTo>
                <a:cubicBezTo>
                  <a:pt x="3574" y="12898"/>
                  <a:pt x="3620" y="13071"/>
                  <a:pt x="3646" y="13246"/>
                </a:cubicBezTo>
                <a:cubicBezTo>
                  <a:pt x="3646" y="13274"/>
                  <a:pt x="3648" y="13280"/>
                  <a:pt x="3671" y="13246"/>
                </a:cubicBezTo>
              </a:path>
              <a:path w="8335" h="5731">
                <a:moveTo>
                  <a:pt x="3994" y="12774"/>
                </a:moveTo>
                <a:cubicBezTo>
                  <a:pt x="4012" y="12700"/>
                  <a:pt x="4120" y="12631"/>
                  <a:pt x="4192" y="12601"/>
                </a:cubicBezTo>
                <a:cubicBezTo>
                  <a:pt x="4270" y="12568"/>
                  <a:pt x="4333" y="12549"/>
                  <a:pt x="4366" y="12626"/>
                </a:cubicBezTo>
                <a:cubicBezTo>
                  <a:pt x="4421" y="12756"/>
                  <a:pt x="4301" y="12861"/>
                  <a:pt x="4217" y="12948"/>
                </a:cubicBezTo>
                <a:cubicBezTo>
                  <a:pt x="4128" y="13040"/>
                  <a:pt x="4025" y="13126"/>
                  <a:pt x="3969" y="13246"/>
                </a:cubicBezTo>
                <a:cubicBezTo>
                  <a:pt x="3969" y="13254"/>
                  <a:pt x="3969" y="13263"/>
                  <a:pt x="3969" y="13271"/>
                </a:cubicBezTo>
                <a:cubicBezTo>
                  <a:pt x="4009" y="13203"/>
                  <a:pt x="4104" y="13121"/>
                  <a:pt x="4192" y="13097"/>
                </a:cubicBezTo>
                <a:cubicBezTo>
                  <a:pt x="4277" y="13074"/>
                  <a:pt x="4327" y="13161"/>
                  <a:pt x="4390" y="13171"/>
                </a:cubicBezTo>
                <a:cubicBezTo>
                  <a:pt x="4515" y="13191"/>
                  <a:pt x="4542" y="13116"/>
                  <a:pt x="4638" y="13097"/>
                </a:cubicBezTo>
                <a:cubicBezTo>
                  <a:pt x="4646" y="13097"/>
                  <a:pt x="4655" y="13097"/>
                  <a:pt x="4663" y="13097"/>
                </a:cubicBezTo>
              </a:path>
              <a:path w="8335" h="5731">
                <a:moveTo>
                  <a:pt x="10468" y="8930"/>
                </a:moveTo>
                <a:lnTo>
                  <a:pt x="10468" y="8930"/>
                </a:lnTo>
              </a:path>
              <a:path w="8335" h="5731">
                <a:moveTo>
                  <a:pt x="10468" y="8930"/>
                </a:moveTo>
                <a:lnTo>
                  <a:pt x="10468" y="8930"/>
                </a:lnTo>
              </a:path>
              <a:path w="8335" h="5731">
                <a:moveTo>
                  <a:pt x="10616" y="11286"/>
                </a:moveTo>
                <a:cubicBezTo>
                  <a:pt x="10579" y="11222"/>
                  <a:pt x="10562" y="11130"/>
                  <a:pt x="10517" y="11063"/>
                </a:cubicBezTo>
                <a:cubicBezTo>
                  <a:pt x="10441" y="10951"/>
                  <a:pt x="10331" y="10867"/>
                  <a:pt x="10244" y="10765"/>
                </a:cubicBezTo>
                <a:cubicBezTo>
                  <a:pt x="10126" y="10625"/>
                  <a:pt x="10051" y="10518"/>
                  <a:pt x="9897" y="10418"/>
                </a:cubicBezTo>
                <a:cubicBezTo>
                  <a:pt x="9856" y="10391"/>
                  <a:pt x="9719" y="10310"/>
                  <a:pt x="9674" y="10319"/>
                </a:cubicBezTo>
                <a:cubicBezTo>
                  <a:pt x="9612" y="10332"/>
                  <a:pt x="9670" y="10346"/>
                  <a:pt x="9699" y="10368"/>
                </a:cubicBezTo>
              </a:path>
              <a:path w="8335" h="5731">
                <a:moveTo>
                  <a:pt x="10319" y="7888"/>
                </a:moveTo>
                <a:cubicBezTo>
                  <a:pt x="10353" y="7824"/>
                  <a:pt x="10393" y="7773"/>
                  <a:pt x="10418" y="7739"/>
                </a:cubicBezTo>
                <a:cubicBezTo>
                  <a:pt x="10483" y="7650"/>
                  <a:pt x="10545" y="7699"/>
                  <a:pt x="10641" y="7714"/>
                </a:cubicBezTo>
                <a:cubicBezTo>
                  <a:pt x="10707" y="7724"/>
                  <a:pt x="10777" y="7784"/>
                  <a:pt x="10790" y="7863"/>
                </a:cubicBezTo>
                <a:cubicBezTo>
                  <a:pt x="10809" y="7974"/>
                  <a:pt x="10781" y="8084"/>
                  <a:pt x="10740" y="8186"/>
                </a:cubicBezTo>
                <a:cubicBezTo>
                  <a:pt x="10725" y="8224"/>
                  <a:pt x="10653" y="8313"/>
                  <a:pt x="10616" y="8334"/>
                </a:cubicBezTo>
                <a:cubicBezTo>
                  <a:pt x="10592" y="8334"/>
                  <a:pt x="10583" y="8334"/>
                  <a:pt x="10567" y="8334"/>
                </a:cubicBezTo>
                <a:cubicBezTo>
                  <a:pt x="10559" y="8293"/>
                  <a:pt x="10522" y="8233"/>
                  <a:pt x="10542" y="8186"/>
                </a:cubicBezTo>
                <a:cubicBezTo>
                  <a:pt x="10562" y="8138"/>
                  <a:pt x="10626" y="8103"/>
                  <a:pt x="10666" y="8086"/>
                </a:cubicBezTo>
                <a:cubicBezTo>
                  <a:pt x="10763" y="8046"/>
                  <a:pt x="10800" y="8108"/>
                  <a:pt x="10889" y="8136"/>
                </a:cubicBezTo>
                <a:cubicBezTo>
                  <a:pt x="10924" y="8147"/>
                  <a:pt x="10918" y="8176"/>
                  <a:pt x="10939" y="8186"/>
                </a:cubicBezTo>
                <a:cubicBezTo>
                  <a:pt x="10947" y="8186"/>
                  <a:pt x="10956" y="8186"/>
                  <a:pt x="10964" y="8186"/>
                </a:cubicBezTo>
              </a:path>
              <a:path w="8335" h="5731">
                <a:moveTo>
                  <a:pt x="11534" y="7739"/>
                </a:moveTo>
                <a:cubicBezTo>
                  <a:pt x="11534" y="7747"/>
                  <a:pt x="11534" y="7756"/>
                  <a:pt x="11534" y="7764"/>
                </a:cubicBezTo>
              </a:path>
              <a:path w="8335" h="5731">
                <a:moveTo>
                  <a:pt x="11559" y="7838"/>
                </a:moveTo>
                <a:cubicBezTo>
                  <a:pt x="11597" y="7871"/>
                  <a:pt x="11646" y="7919"/>
                  <a:pt x="11708" y="7888"/>
                </a:cubicBezTo>
                <a:cubicBezTo>
                  <a:pt x="11744" y="7870"/>
                  <a:pt x="11759" y="7846"/>
                  <a:pt x="11782" y="7813"/>
                </a:cubicBezTo>
                <a:cubicBezTo>
                  <a:pt x="11807" y="7776"/>
                  <a:pt x="11807" y="7711"/>
                  <a:pt x="11807" y="7665"/>
                </a:cubicBezTo>
                <a:cubicBezTo>
                  <a:pt x="11807" y="7628"/>
                  <a:pt x="11778" y="7631"/>
                  <a:pt x="11757" y="7615"/>
                </a:cubicBezTo>
                <a:cubicBezTo>
                  <a:pt x="11726" y="7591"/>
                  <a:pt x="11697" y="7569"/>
                  <a:pt x="11658" y="7565"/>
                </a:cubicBezTo>
                <a:cubicBezTo>
                  <a:pt x="11631" y="7562"/>
                  <a:pt x="11625" y="7532"/>
                  <a:pt x="11609" y="7565"/>
                </a:cubicBezTo>
                <a:cubicBezTo>
                  <a:pt x="11572" y="7641"/>
                  <a:pt x="11610" y="7647"/>
                  <a:pt x="11633" y="7689"/>
                </a:cubicBezTo>
                <a:cubicBezTo>
                  <a:pt x="11633" y="7697"/>
                  <a:pt x="11633" y="7706"/>
                  <a:pt x="11633" y="7714"/>
                </a:cubicBezTo>
              </a:path>
              <a:path w="8335" h="5731">
                <a:moveTo>
                  <a:pt x="10492" y="8533"/>
                </a:moveTo>
                <a:cubicBezTo>
                  <a:pt x="10561" y="8490"/>
                  <a:pt x="10594" y="8454"/>
                  <a:pt x="10666" y="8434"/>
                </a:cubicBezTo>
                <a:cubicBezTo>
                  <a:pt x="10707" y="8423"/>
                  <a:pt x="10754" y="8393"/>
                  <a:pt x="10790" y="8384"/>
                </a:cubicBezTo>
                <a:cubicBezTo>
                  <a:pt x="10828" y="8374"/>
                  <a:pt x="10853" y="8371"/>
                  <a:pt x="10889" y="8359"/>
                </a:cubicBezTo>
                <a:cubicBezTo>
                  <a:pt x="10939" y="8341"/>
                  <a:pt x="11010" y="8294"/>
                  <a:pt x="11063" y="8285"/>
                </a:cubicBezTo>
                <a:cubicBezTo>
                  <a:pt x="11141" y="8271"/>
                  <a:pt x="11243" y="8245"/>
                  <a:pt x="11311" y="8235"/>
                </a:cubicBezTo>
                <a:cubicBezTo>
                  <a:pt x="11410" y="8221"/>
                  <a:pt x="11513" y="8225"/>
                  <a:pt x="11609" y="8210"/>
                </a:cubicBezTo>
                <a:cubicBezTo>
                  <a:pt x="11677" y="8199"/>
                  <a:pt x="11766" y="8205"/>
                  <a:pt x="11832" y="8186"/>
                </a:cubicBezTo>
                <a:cubicBezTo>
                  <a:pt x="11860" y="8186"/>
                  <a:pt x="11871" y="8184"/>
                  <a:pt x="11881" y="8161"/>
                </a:cubicBezTo>
              </a:path>
              <a:path w="8335" h="5731">
                <a:moveTo>
                  <a:pt x="11311" y="8806"/>
                </a:moveTo>
                <a:cubicBezTo>
                  <a:pt x="11242" y="8764"/>
                  <a:pt x="11228" y="8791"/>
                  <a:pt x="11162" y="8830"/>
                </a:cubicBezTo>
                <a:cubicBezTo>
                  <a:pt x="11150" y="8837"/>
                  <a:pt x="11060" y="8905"/>
                  <a:pt x="11063" y="8930"/>
                </a:cubicBezTo>
                <a:cubicBezTo>
                  <a:pt x="11067" y="8961"/>
                  <a:pt x="11137" y="9013"/>
                  <a:pt x="11162" y="9029"/>
                </a:cubicBezTo>
                <a:cubicBezTo>
                  <a:pt x="11244" y="9082"/>
                  <a:pt x="11250" y="9047"/>
                  <a:pt x="11311" y="9128"/>
                </a:cubicBezTo>
                <a:cubicBezTo>
                  <a:pt x="11345" y="9174"/>
                  <a:pt x="11349" y="9209"/>
                  <a:pt x="11311" y="9252"/>
                </a:cubicBezTo>
                <a:cubicBezTo>
                  <a:pt x="11276" y="9291"/>
                  <a:pt x="11263" y="9302"/>
                  <a:pt x="11212" y="9302"/>
                </a:cubicBezTo>
                <a:cubicBezTo>
                  <a:pt x="11212" y="9200"/>
                  <a:pt x="11229" y="9126"/>
                  <a:pt x="11261" y="9029"/>
                </a:cubicBezTo>
                <a:cubicBezTo>
                  <a:pt x="11285" y="8955"/>
                  <a:pt x="11317" y="8871"/>
                  <a:pt x="11361" y="8806"/>
                </a:cubicBezTo>
                <a:cubicBezTo>
                  <a:pt x="11395" y="8756"/>
                  <a:pt x="11401" y="8734"/>
                  <a:pt x="11410" y="8682"/>
                </a:cubicBezTo>
              </a:path>
              <a:path w="8335" h="5731">
                <a:moveTo>
                  <a:pt x="6747" y="10145"/>
                </a:moveTo>
                <a:cubicBezTo>
                  <a:pt x="6747" y="10251"/>
                  <a:pt x="6786" y="10339"/>
                  <a:pt x="6796" y="10443"/>
                </a:cubicBezTo>
                <a:cubicBezTo>
                  <a:pt x="6814" y="10631"/>
                  <a:pt x="6881" y="10779"/>
                  <a:pt x="6921" y="10964"/>
                </a:cubicBezTo>
                <a:cubicBezTo>
                  <a:pt x="6961" y="11147"/>
                  <a:pt x="6957" y="11348"/>
                  <a:pt x="6970" y="11534"/>
                </a:cubicBezTo>
              </a:path>
              <a:path w="8335" h="5731">
                <a:moveTo>
                  <a:pt x="7689" y="10443"/>
                </a:moveTo>
                <a:cubicBezTo>
                  <a:pt x="7642" y="10550"/>
                  <a:pt x="7605" y="10656"/>
                  <a:pt x="7565" y="10765"/>
                </a:cubicBezTo>
                <a:cubicBezTo>
                  <a:pt x="7508" y="10921"/>
                  <a:pt x="7442" y="11120"/>
                  <a:pt x="7516" y="11286"/>
                </a:cubicBezTo>
                <a:cubicBezTo>
                  <a:pt x="7593" y="11457"/>
                  <a:pt x="7781" y="11520"/>
                  <a:pt x="7938" y="11410"/>
                </a:cubicBezTo>
                <a:cubicBezTo>
                  <a:pt x="8030" y="11346"/>
                  <a:pt x="8111" y="11187"/>
                  <a:pt x="8161" y="11088"/>
                </a:cubicBezTo>
                <a:cubicBezTo>
                  <a:pt x="8225" y="10962"/>
                  <a:pt x="8270" y="10807"/>
                  <a:pt x="8285" y="10666"/>
                </a:cubicBezTo>
                <a:cubicBezTo>
                  <a:pt x="8294" y="10586"/>
                  <a:pt x="8303" y="10522"/>
                  <a:pt x="8310" y="10443"/>
                </a:cubicBezTo>
                <a:cubicBezTo>
                  <a:pt x="8246" y="10415"/>
                  <a:pt x="8189" y="10396"/>
                  <a:pt x="8111" y="10393"/>
                </a:cubicBezTo>
                <a:cubicBezTo>
                  <a:pt x="8002" y="10389"/>
                  <a:pt x="7914" y="10401"/>
                  <a:pt x="7813" y="10443"/>
                </a:cubicBezTo>
                <a:cubicBezTo>
                  <a:pt x="7768" y="10462"/>
                  <a:pt x="7737" y="10494"/>
                  <a:pt x="7714" y="10517"/>
                </a:cubicBezTo>
              </a:path>
              <a:path w="8335" h="5731">
                <a:moveTo>
                  <a:pt x="9054" y="10616"/>
                </a:moveTo>
                <a:cubicBezTo>
                  <a:pt x="9064" y="10648"/>
                  <a:pt x="9150" y="10855"/>
                  <a:pt x="9178" y="10939"/>
                </a:cubicBezTo>
                <a:cubicBezTo>
                  <a:pt x="9227" y="11086"/>
                  <a:pt x="9235" y="11210"/>
                  <a:pt x="9203" y="11361"/>
                </a:cubicBezTo>
                <a:cubicBezTo>
                  <a:pt x="9180" y="11469"/>
                  <a:pt x="9114" y="11609"/>
                  <a:pt x="8979" y="11609"/>
                </a:cubicBezTo>
                <a:cubicBezTo>
                  <a:pt x="8893" y="11609"/>
                  <a:pt x="8820" y="11560"/>
                  <a:pt x="8781" y="11485"/>
                </a:cubicBezTo>
                <a:cubicBezTo>
                  <a:pt x="8742" y="11411"/>
                  <a:pt x="8781" y="11322"/>
                  <a:pt x="8781" y="11237"/>
                </a:cubicBezTo>
                <a:cubicBezTo>
                  <a:pt x="8781" y="11188"/>
                  <a:pt x="8790" y="11078"/>
                  <a:pt x="8830" y="11038"/>
                </a:cubicBezTo>
                <a:cubicBezTo>
                  <a:pt x="8891" y="10977"/>
                  <a:pt x="8981" y="10972"/>
                  <a:pt x="9054" y="10939"/>
                </a:cubicBezTo>
                <a:cubicBezTo>
                  <a:pt x="9144" y="10898"/>
                  <a:pt x="9282" y="10835"/>
                  <a:pt x="9327" y="10740"/>
                </a:cubicBezTo>
                <a:cubicBezTo>
                  <a:pt x="9346" y="10699"/>
                  <a:pt x="9355" y="10634"/>
                  <a:pt x="9376" y="10592"/>
                </a:cubicBezTo>
                <a:cubicBezTo>
                  <a:pt x="9412" y="10520"/>
                  <a:pt x="9401" y="10448"/>
                  <a:pt x="9401" y="10368"/>
                </a:cubicBezTo>
                <a:cubicBezTo>
                  <a:pt x="9330" y="10411"/>
                  <a:pt x="9235" y="10426"/>
                  <a:pt x="9153" y="10468"/>
                </a:cubicBezTo>
                <a:cubicBezTo>
                  <a:pt x="9112" y="10488"/>
                  <a:pt x="9095" y="10485"/>
                  <a:pt x="9103" y="10517"/>
                </a:cubicBezTo>
              </a:path>
              <a:path w="8335" h="5731">
                <a:moveTo>
                  <a:pt x="6127" y="12303"/>
                </a:moveTo>
                <a:cubicBezTo>
                  <a:pt x="6146" y="12313"/>
                  <a:pt x="6202" y="12368"/>
                  <a:pt x="6251" y="12378"/>
                </a:cubicBezTo>
                <a:cubicBezTo>
                  <a:pt x="6316" y="12392"/>
                  <a:pt x="6376" y="12358"/>
                  <a:pt x="6424" y="12353"/>
                </a:cubicBezTo>
                <a:cubicBezTo>
                  <a:pt x="6534" y="12341"/>
                  <a:pt x="6637" y="12307"/>
                  <a:pt x="6747" y="12303"/>
                </a:cubicBezTo>
                <a:cubicBezTo>
                  <a:pt x="6865" y="12299"/>
                  <a:pt x="6978" y="12260"/>
                  <a:pt x="7094" y="12254"/>
                </a:cubicBezTo>
                <a:cubicBezTo>
                  <a:pt x="7342" y="12241"/>
                  <a:pt x="7593" y="12228"/>
                  <a:pt x="7838" y="12179"/>
                </a:cubicBezTo>
                <a:cubicBezTo>
                  <a:pt x="8051" y="12137"/>
                  <a:pt x="8266" y="12104"/>
                  <a:pt x="8483" y="12080"/>
                </a:cubicBezTo>
                <a:cubicBezTo>
                  <a:pt x="8613" y="12066"/>
                  <a:pt x="8752" y="12066"/>
                  <a:pt x="8880" y="12055"/>
                </a:cubicBezTo>
                <a:cubicBezTo>
                  <a:pt x="8996" y="12045"/>
                  <a:pt x="9090" y="12022"/>
                  <a:pt x="9203" y="12005"/>
                </a:cubicBezTo>
                <a:cubicBezTo>
                  <a:pt x="9342" y="11984"/>
                  <a:pt x="9483" y="11955"/>
                  <a:pt x="9624" y="11931"/>
                </a:cubicBezTo>
                <a:cubicBezTo>
                  <a:pt x="9760" y="11908"/>
                  <a:pt x="9939" y="11854"/>
                  <a:pt x="10071" y="11857"/>
                </a:cubicBezTo>
                <a:cubicBezTo>
                  <a:pt x="10140" y="11858"/>
                  <a:pt x="10199" y="11879"/>
                  <a:pt x="10269" y="11881"/>
                </a:cubicBezTo>
                <a:cubicBezTo>
                  <a:pt x="10329" y="11883"/>
                  <a:pt x="10354" y="11894"/>
                  <a:pt x="10368" y="11881"/>
                </a:cubicBezTo>
                <a:cubicBezTo>
                  <a:pt x="10368" y="11835"/>
                  <a:pt x="10380" y="11809"/>
                  <a:pt x="10418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6880" y="2394000"/>
            <a:ext cx="1117440" cy="554040"/>
          </a:xfrm>
          <a:custGeom>
            <a:avLst/>
            <a:gdLst/>
            <a:ahLst/>
            <a:rect l="l" t="t" r="r" b="b"/>
            <a:pathLst>
              <a:path w="3101" h="1539">
                <a:moveTo>
                  <a:pt x="14660" y="7193"/>
                </a:moveTo>
                <a:cubicBezTo>
                  <a:pt x="14733" y="7187"/>
                  <a:pt x="14812" y="7185"/>
                  <a:pt x="14883" y="7169"/>
                </a:cubicBezTo>
                <a:cubicBezTo>
                  <a:pt x="15041" y="7134"/>
                  <a:pt x="15193" y="7067"/>
                  <a:pt x="15354" y="7045"/>
                </a:cubicBezTo>
                <a:cubicBezTo>
                  <a:pt x="15475" y="7029"/>
                  <a:pt x="15607" y="7041"/>
                  <a:pt x="15726" y="7020"/>
                </a:cubicBezTo>
                <a:cubicBezTo>
                  <a:pt x="15843" y="6999"/>
                  <a:pt x="15953" y="6936"/>
                  <a:pt x="16073" y="6921"/>
                </a:cubicBezTo>
                <a:cubicBezTo>
                  <a:pt x="16210" y="6904"/>
                  <a:pt x="16358" y="6910"/>
                  <a:pt x="16495" y="6896"/>
                </a:cubicBezTo>
                <a:cubicBezTo>
                  <a:pt x="16605" y="6885"/>
                  <a:pt x="16710" y="6872"/>
                  <a:pt x="16818" y="6846"/>
                </a:cubicBezTo>
                <a:cubicBezTo>
                  <a:pt x="16913" y="6823"/>
                  <a:pt x="16994" y="6802"/>
                  <a:pt x="17090" y="6772"/>
                </a:cubicBezTo>
                <a:cubicBezTo>
                  <a:pt x="17212" y="6734"/>
                  <a:pt x="17339" y="6707"/>
                  <a:pt x="17462" y="6672"/>
                </a:cubicBezTo>
                <a:cubicBezTo>
                  <a:pt x="17504" y="6660"/>
                  <a:pt x="17543" y="6653"/>
                  <a:pt x="17587" y="6648"/>
                </a:cubicBezTo>
                <a:cubicBezTo>
                  <a:pt x="17620" y="6648"/>
                  <a:pt x="17636" y="6648"/>
                  <a:pt x="17661" y="6648"/>
                </a:cubicBezTo>
              </a:path>
              <a:path w="3101" h="1539">
                <a:moveTo>
                  <a:pt x="15677" y="7417"/>
                </a:moveTo>
                <a:cubicBezTo>
                  <a:pt x="15691" y="7460"/>
                  <a:pt x="15701" y="7517"/>
                  <a:pt x="15701" y="7590"/>
                </a:cubicBezTo>
                <a:cubicBezTo>
                  <a:pt x="15758" y="7633"/>
                  <a:pt x="15851" y="7623"/>
                  <a:pt x="15925" y="7640"/>
                </a:cubicBezTo>
                <a:cubicBezTo>
                  <a:pt x="16057" y="7670"/>
                  <a:pt x="16094" y="7749"/>
                  <a:pt x="16148" y="7863"/>
                </a:cubicBezTo>
                <a:cubicBezTo>
                  <a:pt x="16188" y="7947"/>
                  <a:pt x="16141" y="8003"/>
                  <a:pt x="16073" y="8062"/>
                </a:cubicBezTo>
                <a:cubicBezTo>
                  <a:pt x="15907" y="8205"/>
                  <a:pt x="15850" y="8179"/>
                  <a:pt x="15677" y="8086"/>
                </a:cubicBezTo>
              </a:path>
              <a:path w="3101" h="1539">
                <a:moveTo>
                  <a:pt x="15677" y="7342"/>
                </a:moveTo>
                <a:cubicBezTo>
                  <a:pt x="15776" y="7325"/>
                  <a:pt x="15873" y="7310"/>
                  <a:pt x="15974" y="7293"/>
                </a:cubicBezTo>
                <a:cubicBezTo>
                  <a:pt x="16087" y="7274"/>
                  <a:pt x="16188" y="7242"/>
                  <a:pt x="16297" y="7218"/>
                </a:cubicBezTo>
              </a:path>
              <a:path w="3101" h="1539">
                <a:moveTo>
                  <a:pt x="17165" y="7169"/>
                </a:moveTo>
                <a:cubicBezTo>
                  <a:pt x="17247" y="7189"/>
                  <a:pt x="17212" y="7256"/>
                  <a:pt x="17239" y="7317"/>
                </a:cubicBezTo>
                <a:cubicBezTo>
                  <a:pt x="17256" y="7355"/>
                  <a:pt x="17306" y="7342"/>
                  <a:pt x="17338" y="7342"/>
                </a:cubicBezTo>
                <a:cubicBezTo>
                  <a:pt x="17431" y="7342"/>
                  <a:pt x="17497" y="7306"/>
                  <a:pt x="17587" y="7293"/>
                </a:cubicBezTo>
                <a:cubicBezTo>
                  <a:pt x="17758" y="7268"/>
                  <a:pt x="17774" y="7375"/>
                  <a:pt x="17735" y="7516"/>
                </a:cubicBezTo>
                <a:cubicBezTo>
                  <a:pt x="17673" y="7740"/>
                  <a:pt x="17543" y="7748"/>
                  <a:pt x="17338" y="7714"/>
                </a:cubicBezTo>
                <a:cubicBezTo>
                  <a:pt x="17305" y="7706"/>
                  <a:pt x="17272" y="7697"/>
                  <a:pt x="17239" y="7689"/>
                </a:cubicBezTo>
              </a:path>
              <a:path w="3101" h="1539">
                <a:moveTo>
                  <a:pt x="17140" y="7045"/>
                </a:moveTo>
                <a:cubicBezTo>
                  <a:pt x="17159" y="7118"/>
                  <a:pt x="17195" y="7094"/>
                  <a:pt x="17264" y="7069"/>
                </a:cubicBezTo>
                <a:cubicBezTo>
                  <a:pt x="17470" y="6992"/>
                  <a:pt x="17543" y="6965"/>
                  <a:pt x="17686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82920" y="4653000"/>
            <a:ext cx="160200" cy="401760"/>
          </a:xfrm>
          <a:custGeom>
            <a:avLst/>
            <a:gdLst/>
            <a:ahLst/>
            <a:rect l="l" t="t" r="r" b="b"/>
            <a:pathLst>
              <a:path w="447" h="1117">
                <a:moveTo>
                  <a:pt x="6896" y="12923"/>
                </a:moveTo>
                <a:cubicBezTo>
                  <a:pt x="6962" y="13147"/>
                  <a:pt x="7036" y="13374"/>
                  <a:pt x="7119" y="13593"/>
                </a:cubicBezTo>
                <a:cubicBezTo>
                  <a:pt x="7170" y="13727"/>
                  <a:pt x="7233" y="13894"/>
                  <a:pt x="7293" y="14015"/>
                </a:cubicBezTo>
                <a:cubicBezTo>
                  <a:pt x="7327" y="14049"/>
                  <a:pt x="7340" y="14043"/>
                  <a:pt x="7342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28960" y="4562640"/>
            <a:ext cx="214200" cy="349200"/>
          </a:xfrm>
          <a:custGeom>
            <a:avLst/>
            <a:gdLst/>
            <a:ahLst/>
            <a:rect l="l" t="t" r="r" b="b"/>
            <a:pathLst>
              <a:path w="596" h="969">
                <a:moveTo>
                  <a:pt x="8582" y="12700"/>
                </a:moveTo>
                <a:cubicBezTo>
                  <a:pt x="8602" y="12840"/>
                  <a:pt x="8636" y="12981"/>
                  <a:pt x="8657" y="13122"/>
                </a:cubicBezTo>
                <a:cubicBezTo>
                  <a:pt x="8683" y="13295"/>
                  <a:pt x="8718" y="13470"/>
                  <a:pt x="8731" y="13643"/>
                </a:cubicBezTo>
              </a:path>
              <a:path w="596" h="969">
                <a:moveTo>
                  <a:pt x="8607" y="13295"/>
                </a:moveTo>
                <a:cubicBezTo>
                  <a:pt x="8513" y="13312"/>
                  <a:pt x="8307" y="13386"/>
                  <a:pt x="8210" y="13345"/>
                </a:cubicBezTo>
                <a:cubicBezTo>
                  <a:pt x="8141" y="13316"/>
                  <a:pt x="8128" y="13086"/>
                  <a:pt x="8136" y="13022"/>
                </a:cubicBezTo>
                <a:cubicBezTo>
                  <a:pt x="8145" y="12947"/>
                  <a:pt x="8146" y="12762"/>
                  <a:pt x="8186" y="12700"/>
                </a:cubicBezTo>
                <a:cubicBezTo>
                  <a:pt x="8206" y="12669"/>
                  <a:pt x="8263" y="12691"/>
                  <a:pt x="8285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63920" y="4429080"/>
            <a:ext cx="216000" cy="465120"/>
          </a:xfrm>
          <a:custGeom>
            <a:avLst/>
            <a:gdLst/>
            <a:ahLst/>
            <a:rect l="l" t="t" r="r" b="b"/>
            <a:pathLst>
              <a:path w="597" h="1291">
                <a:moveTo>
                  <a:pt x="10096" y="12477"/>
                </a:moveTo>
                <a:cubicBezTo>
                  <a:pt x="10096" y="12606"/>
                  <a:pt x="10146" y="12721"/>
                  <a:pt x="10170" y="12849"/>
                </a:cubicBezTo>
                <a:cubicBezTo>
                  <a:pt x="10205" y="13034"/>
                  <a:pt x="10215" y="13231"/>
                  <a:pt x="10220" y="13419"/>
                </a:cubicBezTo>
                <a:cubicBezTo>
                  <a:pt x="10222" y="13490"/>
                  <a:pt x="10224" y="13536"/>
                  <a:pt x="10195" y="13593"/>
                </a:cubicBezTo>
              </a:path>
              <a:path w="597" h="1291">
                <a:moveTo>
                  <a:pt x="10170" y="12923"/>
                </a:moveTo>
                <a:cubicBezTo>
                  <a:pt x="10081" y="12923"/>
                  <a:pt x="9982" y="12931"/>
                  <a:pt x="9897" y="12948"/>
                </a:cubicBezTo>
                <a:cubicBezTo>
                  <a:pt x="9823" y="12973"/>
                  <a:pt x="9798" y="12982"/>
                  <a:pt x="9748" y="12998"/>
                </a:cubicBezTo>
                <a:cubicBezTo>
                  <a:pt x="9730" y="12891"/>
                  <a:pt x="9694" y="12783"/>
                  <a:pt x="9674" y="12675"/>
                </a:cubicBezTo>
                <a:cubicBezTo>
                  <a:pt x="9667" y="12636"/>
                  <a:pt x="9602" y="12342"/>
                  <a:pt x="9624" y="12303"/>
                </a:cubicBezTo>
                <a:cubicBezTo>
                  <a:pt x="9632" y="12303"/>
                  <a:pt x="9641" y="12303"/>
                  <a:pt x="9649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17960" y="4875120"/>
            <a:ext cx="36360" cy="322200"/>
          </a:xfrm>
          <a:custGeom>
            <a:avLst/>
            <a:gdLst/>
            <a:ahLst/>
            <a:rect l="l" t="t" r="r" b="b"/>
            <a:pathLst>
              <a:path w="100" h="894">
                <a:moveTo>
                  <a:pt x="11237" y="13543"/>
                </a:moveTo>
                <a:cubicBezTo>
                  <a:pt x="11237" y="13606"/>
                  <a:pt x="11255" y="13657"/>
                  <a:pt x="11261" y="13717"/>
                </a:cubicBezTo>
                <a:cubicBezTo>
                  <a:pt x="11276" y="13879"/>
                  <a:pt x="11256" y="14014"/>
                  <a:pt x="11212" y="14163"/>
                </a:cubicBezTo>
                <a:cubicBezTo>
                  <a:pt x="11205" y="14186"/>
                  <a:pt x="11183" y="14434"/>
                  <a:pt x="11162" y="14436"/>
                </a:cubicBezTo>
                <a:cubicBezTo>
                  <a:pt x="11162" y="14428"/>
                  <a:pt x="11162" y="14420"/>
                  <a:pt x="11162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omparing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Put the ratios in fraction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Find equivalent ratios for each so that both new   fractions have the same denom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Compare using &lt;, &gt;,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1.) 9:15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8: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 2.) 18:1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50: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mcgra</cp:lastModifiedBy>
  <dcterms:modified xsi:type="dcterms:W3CDTF">2012-05-23T20:14:38Z</dcterms:modified>
  <cp:revision>11</cp:revision>
  <dc:subject/>
  <dc:title>Unit 13</dc:title>
</cp:coreProperties>
</file>